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E2A9EF-89E7-48FB-8D69-C275C25C08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637-891B-4C1F-A282-1CC040EE1C61}" type="slidenum"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FDF256-FE7E-4B8B-B863-47FA145B74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03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" y="2964600"/>
            <a:ext cx="82803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096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000" y="296460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0960" y="296460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7720" y="119664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7800" y="119664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" y="296460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7720" y="296460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67800" y="296460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0960" y="1196640"/>
            <a:ext cx="4040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68360" y="22176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0960" y="1196640"/>
            <a:ext cx="4040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296460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96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0960" y="296460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096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000" y="2964600"/>
            <a:ext cx="82803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03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000" y="2964600"/>
            <a:ext cx="82803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096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000" y="296460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10960" y="296460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67720" y="119664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67800" y="119664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000" y="296460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67720" y="296460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67800" y="2964600"/>
            <a:ext cx="26661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0960" y="1196640"/>
            <a:ext cx="4040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22176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196640"/>
            <a:ext cx="4040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000" y="296460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6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096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0960" y="296460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1672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0960" y="1196640"/>
            <a:ext cx="404064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" y="2964600"/>
            <a:ext cx="828036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9"/>
          <p:cNvSpPr/>
          <p:nvPr/>
        </p:nvSpPr>
        <p:spPr>
          <a:xfrm>
            <a:off x="250920" y="260280"/>
            <a:ext cx="8642160" cy="549360"/>
          </a:xfrm>
          <a:prstGeom prst="roundRect">
            <a:avLst>
              <a:gd name="adj" fmla="val 16667"/>
            </a:avLst>
          </a:prstGeom>
          <a:solidFill>
            <a:srgbClr val="c7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000" y="119664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700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00"/>
              </a:spcBef>
              <a:buClr>
                <a:srgbClr val="c700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00"/>
              </a:spcBef>
              <a:buClr>
                <a:srgbClr val="c700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22176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6" descr=""/>
          <p:cNvPicPr/>
          <p:nvPr/>
        </p:nvPicPr>
        <p:blipFill>
          <a:blip r:embed="rId2"/>
          <a:stretch/>
        </p:blipFill>
        <p:spPr>
          <a:xfrm>
            <a:off x="8366040" y="157320"/>
            <a:ext cx="588960" cy="533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0" descr="flag20"/>
          <p:cNvPicPr/>
          <p:nvPr/>
        </p:nvPicPr>
        <p:blipFill>
          <a:blip r:embed="rId3"/>
          <a:stretch/>
        </p:blipFill>
        <p:spPr>
          <a:xfrm>
            <a:off x="7466040" y="157320"/>
            <a:ext cx="770040" cy="52704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42"/>
          <p:cNvSpPr/>
          <p:nvPr/>
        </p:nvSpPr>
        <p:spPr>
          <a:xfrm>
            <a:off x="1781280" y="290052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1781280" y="2900520"/>
            <a:ext cx="279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62"/>
          <p:cNvGrpSpPr/>
          <p:nvPr/>
        </p:nvGrpSpPr>
        <p:grpSpPr>
          <a:xfrm>
            <a:off x="468360" y="260280"/>
            <a:ext cx="1150920" cy="1008000"/>
            <a:chOff x="468360" y="260280"/>
            <a:chExt cx="1150920" cy="1008000"/>
          </a:xfrm>
        </p:grpSpPr>
        <p:sp>
          <p:nvSpPr>
            <p:cNvPr id="44" name="Rectangle 61"/>
            <p:cNvSpPr/>
            <p:nvPr/>
          </p:nvSpPr>
          <p:spPr>
            <a:xfrm>
              <a:off x="468360" y="260280"/>
              <a:ext cx="115092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" name="Picture 60" descr=""/>
            <p:cNvPicPr/>
            <p:nvPr/>
          </p:nvPicPr>
          <p:blipFill>
            <a:blip r:embed="rId4"/>
            <a:stretch/>
          </p:blipFill>
          <p:spPr>
            <a:xfrm>
              <a:off x="545400" y="271800"/>
              <a:ext cx="973080" cy="98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Rectangle 64"/>
          <p:cNvSpPr/>
          <p:nvPr/>
        </p:nvSpPr>
        <p:spPr>
          <a:xfrm>
            <a:off x="179280" y="5324040"/>
            <a:ext cx="25923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www.equity-la.e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Imagen 2" descr=""/>
          <p:cNvPicPr/>
          <p:nvPr/>
        </p:nvPicPr>
        <p:blipFill>
          <a:blip r:embed="rId5"/>
          <a:stretch/>
        </p:blipFill>
        <p:spPr>
          <a:xfrm>
            <a:off x="7880400" y="6062760"/>
            <a:ext cx="579240" cy="723960"/>
          </a:xfrm>
          <a:prstGeom prst="rect">
            <a:avLst/>
          </a:prstGeom>
          <a:ln w="0">
            <a:noFill/>
          </a:ln>
        </p:spPr>
      </p:pic>
      <p:pic>
        <p:nvPicPr>
          <p:cNvPr id="48" name="Imagen 1" descr="Descripción: http://www.fenf.edu.uy/images/logotipo_institucional/rgb/logotipo_fdee_4cm_72ppp_rgb.png"/>
          <p:cNvPicPr/>
          <p:nvPr/>
        </p:nvPicPr>
        <p:blipFill>
          <a:blip r:embed="rId6"/>
          <a:stretch/>
        </p:blipFill>
        <p:spPr>
          <a:xfrm>
            <a:off x="8488440" y="6062760"/>
            <a:ext cx="655560" cy="72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0" descr=""/>
          <p:cNvPicPr/>
          <p:nvPr/>
        </p:nvPicPr>
        <p:blipFill>
          <a:blip r:embed="rId7"/>
          <a:stretch/>
        </p:blipFill>
        <p:spPr>
          <a:xfrm>
            <a:off x="1343160" y="6064200"/>
            <a:ext cx="531720" cy="722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1" descr=""/>
          <p:cNvPicPr/>
          <p:nvPr/>
        </p:nvPicPr>
        <p:blipFill>
          <a:blip r:embed="rId8"/>
          <a:stretch/>
        </p:blipFill>
        <p:spPr>
          <a:xfrm>
            <a:off x="6348240" y="6062760"/>
            <a:ext cx="663840" cy="57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2" descr=""/>
          <p:cNvPicPr/>
          <p:nvPr/>
        </p:nvPicPr>
        <p:blipFill>
          <a:blip r:embed="rId9"/>
          <a:stretch/>
        </p:blipFill>
        <p:spPr>
          <a:xfrm>
            <a:off x="6343560" y="6691320"/>
            <a:ext cx="668520" cy="13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3" descr=""/>
          <p:cNvPicPr/>
          <p:nvPr/>
        </p:nvPicPr>
        <p:blipFill>
          <a:blip r:embed="rId10"/>
          <a:stretch/>
        </p:blipFill>
        <p:spPr>
          <a:xfrm>
            <a:off x="4378320" y="6062760"/>
            <a:ext cx="1876320" cy="61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4" descr=""/>
          <p:cNvPicPr/>
          <p:nvPr/>
        </p:nvPicPr>
        <p:blipFill>
          <a:blip r:embed="rId11"/>
          <a:stretch/>
        </p:blipFill>
        <p:spPr>
          <a:xfrm>
            <a:off x="2838600" y="6062760"/>
            <a:ext cx="1477800" cy="44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5" descr=""/>
          <p:cNvPicPr/>
          <p:nvPr/>
        </p:nvPicPr>
        <p:blipFill>
          <a:blip r:embed="rId12"/>
          <a:stretch/>
        </p:blipFill>
        <p:spPr>
          <a:xfrm>
            <a:off x="2840040" y="6546960"/>
            <a:ext cx="1479600" cy="2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6" descr=""/>
          <p:cNvPicPr/>
          <p:nvPr/>
        </p:nvPicPr>
        <p:blipFill>
          <a:blip r:embed="rId13"/>
          <a:stretch/>
        </p:blipFill>
        <p:spPr>
          <a:xfrm>
            <a:off x="41400" y="6062760"/>
            <a:ext cx="1249200" cy="72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7" descr=""/>
          <p:cNvPicPr/>
          <p:nvPr/>
        </p:nvPicPr>
        <p:blipFill>
          <a:blip r:embed="rId14"/>
          <a:stretch/>
        </p:blipFill>
        <p:spPr>
          <a:xfrm>
            <a:off x="1941480" y="6062760"/>
            <a:ext cx="835200" cy="72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8" descr=""/>
          <p:cNvPicPr/>
          <p:nvPr/>
        </p:nvPicPr>
        <p:blipFill>
          <a:blip r:embed="rId15"/>
          <a:stretch/>
        </p:blipFill>
        <p:spPr>
          <a:xfrm>
            <a:off x="7105680" y="6062760"/>
            <a:ext cx="690480" cy="723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68000" y="119664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700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00"/>
              </a:spcBef>
              <a:buClr>
                <a:srgbClr val="c700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00"/>
              </a:spcBef>
              <a:buClr>
                <a:srgbClr val="c700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22176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3.-%20Sistema%20Nacional%20de%20Inversi&#243;n%20Sectorial%20en%20Salud/Presentaciones/HIPERV&#205;NCULOS/Hoja%2042%20Establecimientos%20PSR,CGR,CGU,CESFAM%202007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n 3" descr="Captura de pantalla 2017-05-15 a las 06.12.27.pn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4"/>
          <p:cNvSpPr/>
          <p:nvPr/>
        </p:nvSpPr>
        <p:spPr>
          <a:xfrm>
            <a:off x="1258920" y="2265840"/>
            <a:ext cx="71294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racterización del Sistema de Salud y red pública de atención - Ch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CuadroTexto 6"/>
          <p:cNvSpPr/>
          <p:nvPr/>
        </p:nvSpPr>
        <p:spPr>
          <a:xfrm>
            <a:off x="5887800" y="5373720"/>
            <a:ext cx="29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ogotá, 2 de noviembre 201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395280" y="26028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Red Asistenci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195640" y="4221000"/>
            <a:ext cx="4786200" cy="1643400"/>
          </a:xfrm>
          <a:prstGeom prst="rect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Atención Primaria de Salu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Black"/>
              </a:rPr>
              <a:t>2.022 establecimient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619280" y="1268280"/>
            <a:ext cx="6000840" cy="2714760"/>
          </a:xfrm>
          <a:prstGeom prst="ellipse">
            <a:avLst/>
          </a:prstGeom>
          <a:solidFill>
            <a:srgbClr val="d6ec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Black"/>
              </a:rPr>
              <a:t>185 Hospit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575d1"/>
                </a:solidFill>
                <a:latin typeface="Arial Black"/>
              </a:rPr>
              <a:t>63 Alta Complejida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575d1"/>
                </a:solidFill>
                <a:latin typeface="Arial Black"/>
              </a:rPr>
              <a:t>24 Mediana Complejida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575d1"/>
                </a:solidFill>
                <a:latin typeface="Arial Black"/>
              </a:rPr>
              <a:t>100 baja Complejida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575d1"/>
                </a:solidFill>
                <a:latin typeface="Arial Black"/>
              </a:rPr>
              <a:t>26.372 ca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Rectángulo"/>
          <p:cNvSpPr/>
          <p:nvPr/>
        </p:nvSpPr>
        <p:spPr>
          <a:xfrm>
            <a:off x="3924360" y="5000760"/>
            <a:ext cx="2000160" cy="185724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8073800" y="16573680"/>
            <a:ext cx="15239880" cy="8572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rcRect l="23438" t="17503" r="37422" b="10003"/>
          <a:stretch/>
        </p:blipFill>
        <p:spPr>
          <a:xfrm>
            <a:off x="179280" y="765000"/>
            <a:ext cx="6029280" cy="6282000"/>
          </a:xfrm>
          <a:prstGeom prst="rect">
            <a:avLst/>
          </a:prstGeom>
          <a:ln w="0">
            <a:noFill/>
          </a:ln>
        </p:spPr>
      </p:pic>
      <p:sp>
        <p:nvSpPr>
          <p:cNvPr id="163" name="4 Rectángulo"/>
          <p:cNvSpPr/>
          <p:nvPr/>
        </p:nvSpPr>
        <p:spPr>
          <a:xfrm>
            <a:off x="285840" y="214200"/>
            <a:ext cx="8501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"/>
              </a:rPr>
              <a:t>Ley AUGE: 80 patologías con Garantías Explícutas de Salu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ffff"/>
                </a:solidFill>
                <a:latin typeface="Arial"/>
              </a:rPr>
              <a:t>Flujograma atención y registro GES (Diabetes Mellitus tipo 2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Imagen 4" descr="Captura de pantalla 2017-10-30 a la(s) 12.04.22.png"/>
          <p:cNvPicPr/>
          <p:nvPr/>
        </p:nvPicPr>
        <p:blipFill>
          <a:blip r:embed="rId3"/>
          <a:stretch/>
        </p:blipFill>
        <p:spPr>
          <a:xfrm>
            <a:off x="4788000" y="1127160"/>
            <a:ext cx="4176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2176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marL="45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uadro Resumen Redes Públ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7120" y="1285920"/>
          <a:ext cx="8572680" cy="5327640"/>
        </p:xfrm>
        <a:graphic>
          <a:graphicData uri="http://schemas.openxmlformats.org/drawingml/2006/table">
            <a:tbl>
              <a:tblPr/>
              <a:tblGrid>
                <a:gridCol w="3567240"/>
                <a:gridCol w="5005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Características Clav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Descripció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8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ción de Red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y 19.937 y otros documentos ministerial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7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s que particip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sal: Subsecretaría Redes del Minsal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: Gestor de Red (Servicio de Salud del región/área) 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es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nivel secundario y terciario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unicipios y sus direcciones o departamentos de salud - 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S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unicip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imientos privados en conveni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Población de cobertu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 geográfica, cotizantes beneficiarios/as FONASA  y población bajos/sin ingres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5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itud de la Re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s niveles de atención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mentación administrativa del nivel APS municipal y convenios con privad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prestaciones específicas o ante insuficiente respuest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de Organizació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 en APS (promoción, prevención curación, rehabilitación); </a:t>
                      </a:r>
                      <a:r>
                        <a:rPr b="0" i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órico en el liderazgo y financiamient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a de entrada acceso a especialidades (complejos hospitalarios CDT - CRS) mediante sistema de referencia y contrareferenc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alidad libre elección para FONASA B,C y D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S debiese resolver 80% de patologí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1125360"/>
            <a:ext cx="864072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e3156"/>
                </a:solidFill>
                <a:latin typeface="Arial"/>
              </a:rPr>
              <a:t>Sistema público cubre cerca del 80% de la población, la intergración de su red asistencial estaba definida desde su nacimient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de7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e3156"/>
                </a:solidFill>
                <a:latin typeface="Arial"/>
              </a:rPr>
              <a:t>Ha hecho crecer la cobertura horizontal de protección social a expensas de proteger a los mas vulnerables desde el seguro públic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de7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e3156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ae3156"/>
                </a:solidFill>
                <a:latin typeface="Arial"/>
              </a:rPr>
              <a:t>Ha hecho crecer la cobertura vertical con el AUGE dando acceso, calidad, oportunidad, protección financiera, orientando la producción sanitaria a la prioridades, con equidad y racionalidad sanitaria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de7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e3156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ae3156"/>
                </a:solidFill>
                <a:latin typeface="Arial"/>
              </a:rPr>
              <a:t>Aumentado la protección financiera para todos los grupos con la introducción de deducible para los co-pagos en régimen de garantí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de7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e3156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ae3156"/>
                </a:solidFill>
                <a:latin typeface="Arial"/>
              </a:rPr>
              <a:t>Se han ampliado servicios e infraestructur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de7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ae3156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ae3156"/>
                </a:solidFill>
                <a:latin typeface="Arial"/>
              </a:rPr>
              <a:t>Existe política explícita para la integración de las redes de atención de salu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ángulo 1"/>
          <p:cNvSpPr/>
          <p:nvPr/>
        </p:nvSpPr>
        <p:spPr>
          <a:xfrm>
            <a:off x="450720" y="33336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Fortalezas y ava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468360" y="981000"/>
            <a:ext cx="8281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e3156"/>
                </a:solidFill>
                <a:latin typeface="Arial"/>
              </a:rPr>
              <a:t>Sistema posee desigualdad estructur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e3156"/>
                </a:solidFill>
                <a:latin typeface="Arial"/>
              </a:rPr>
              <a:t>Solidaridad solo de los que menos ingresos tienen hacia los carentes de recurs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e3156"/>
                </a:solidFill>
                <a:latin typeface="Arial"/>
              </a:rPr>
              <a:t>Co-pagos directos MLE </a:t>
            </a:r>
            <a:r>
              <a:rPr b="1" lang="mr-IN" sz="2000" spc="-1" strike="noStrike">
                <a:solidFill>
                  <a:srgbClr val="ae3156"/>
                </a:solidFill>
                <a:latin typeface="Arial"/>
              </a:rPr>
              <a:t>–</a:t>
            </a:r>
            <a:r>
              <a:rPr b="1" lang="es-CL" sz="2000" spc="-1" strike="noStrike">
                <a:solidFill>
                  <a:srgbClr val="ae3156"/>
                </a:solidFill>
                <a:latin typeface="Arial"/>
              </a:rPr>
              <a:t> Gran gasto de bolsill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e3156"/>
                </a:solidFill>
                <a:latin typeface="Arial"/>
              </a:rPr>
              <a:t>Transferencia de recursos hacia el sistema privado, con el consecuente desfinanciamiento del Sistema Públic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e3156"/>
                </a:solidFill>
                <a:latin typeface="Arial"/>
              </a:rPr>
              <a:t>Segmentación por ingresos y riesgo en los segur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e3156"/>
                </a:solidFill>
                <a:latin typeface="Arial"/>
              </a:rPr>
              <a:t>Fragmentación de la institucionalidad que brinda aten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e3156"/>
                </a:solidFill>
                <a:latin typeface="Arial"/>
              </a:rPr>
              <a:t>Relación médicos con el Estado bajo reglas de mercado, con incentivo a resolver en el sistema privado y no en el público con pérdida de racionalidad sanita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e3156"/>
                </a:solidFill>
                <a:latin typeface="Arial"/>
              </a:rPr>
              <a:t>Desigualdad acceso entre pacientes con patología GES y No 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ae3156"/>
                </a:solidFill>
                <a:latin typeface="Arial"/>
              </a:rPr>
              <a:t>Listas de espera y sistema de urgencia colapsa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ángulo 4"/>
          <p:cNvSpPr/>
          <p:nvPr/>
        </p:nvSpPr>
        <p:spPr>
          <a:xfrm>
            <a:off x="413280" y="333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Debilida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Imagen 3" descr="Captura de pantalla 2017-05-15 a las 06.12.27.pn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4"/>
          <p:cNvSpPr/>
          <p:nvPr/>
        </p:nvSpPr>
        <p:spPr>
          <a:xfrm>
            <a:off x="3419640" y="2770560"/>
            <a:ext cx="345600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3240000" y="260280"/>
            <a:ext cx="6588360" cy="62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hile en breve mir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e7008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1800" spc="-1" strike="noStrike">
                <a:solidFill>
                  <a:srgbClr val="ae3156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ae3156"/>
                </a:solidFill>
                <a:latin typeface="Tahoma"/>
              </a:rPr>
              <a:t>17.819.054 habitant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e7008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 </a:t>
            </a: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Esperanza de Vida: 79,1 años M: 82 H: 7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e7008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 </a:t>
            </a: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Tasa de Natalidad: 14,2 por 1000 hab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e7008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 </a:t>
            </a: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Mortalidad general: 5,7 por 1000 hab.</a:t>
            </a:r>
            <a:br>
              <a:rPr sz="1800"/>
            </a:b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   Tumores y Enf. Sistema circulator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e7008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 </a:t>
            </a: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Mortalidad infantil &lt;1a: 7,2 por 1000 nv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e7008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 </a:t>
            </a: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Mortalidad materna (hasta 42 ds): 13,5 x   </a:t>
            </a:r>
            <a:br>
              <a:rPr sz="1800"/>
            </a:b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   100.000 nv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e7008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 </a:t>
            </a: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Cobertura atención profesional del parto: 99,8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e7008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 </a:t>
            </a: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Malnutrición pob en control menores de 6 años:</a:t>
            </a:r>
            <a:br>
              <a:rPr sz="1800"/>
            </a:b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   por déficit  2,76%; por exceso 34,67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e7008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 </a:t>
            </a:r>
            <a:r>
              <a:rPr b="1" lang="es-MX" sz="1800" spc="-1" strike="noStrike">
                <a:solidFill>
                  <a:srgbClr val="ae3156"/>
                </a:solidFill>
                <a:latin typeface="Tahoma"/>
              </a:rPr>
              <a:t>IDH: 0,847 </a:t>
            </a:r>
            <a:r>
              <a:rPr b="1" lang="es-MX" sz="1200" spc="-1" strike="noStrike">
                <a:solidFill>
                  <a:srgbClr val="ae3156"/>
                </a:solidFill>
                <a:latin typeface="Tahoma"/>
              </a:rPr>
              <a:t>(38 ranking informe 2016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magen 3" descr=""/>
          <p:cNvPicPr/>
          <p:nvPr/>
        </p:nvPicPr>
        <p:blipFill>
          <a:blip r:embed="rId1"/>
          <a:stretch/>
        </p:blipFill>
        <p:spPr>
          <a:xfrm>
            <a:off x="250920" y="1193760"/>
            <a:ext cx="2952720" cy="49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CuadroTexto 4"/>
          <p:cNvSpPr/>
          <p:nvPr/>
        </p:nvSpPr>
        <p:spPr>
          <a:xfrm>
            <a:off x="6956280" y="60930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e3156"/>
                </a:solidFill>
                <a:latin typeface="Arial"/>
              </a:rPr>
              <a:t>DEIS 201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468360" y="1197000"/>
            <a:ext cx="842472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ae31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e3156"/>
                </a:solidFill>
                <a:latin typeface="Trebuchet MS"/>
              </a:rPr>
              <a:t>1952: 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Servicio Nacional de Salud SNS, Ley 10383                                              </a:t>
            </a:r>
            <a:br>
              <a:rPr sz="1800"/>
            </a:b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           se funden un conjunto de iniciativas, Sociedades de </a:t>
            </a:r>
            <a:br>
              <a:rPr sz="1800"/>
            </a:b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           Socorros Mutuos e instituciones  sanitarias. </a:t>
            </a:r>
            <a:br>
              <a:rPr sz="1800"/>
            </a:b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           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Responsabilidad del Estado con acciones universales de </a:t>
            </a:r>
            <a:br>
              <a:rPr sz="1800"/>
            </a:b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           fomento y protección de la salud. </a:t>
            </a:r>
            <a:br>
              <a:rPr sz="1800"/>
            </a:b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           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Atención gratuita en la red de establecimientos del Estado </a:t>
            </a:r>
            <a:br>
              <a:rPr sz="1800"/>
            </a:b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           a obreros, y población indigente. </a:t>
            </a:r>
            <a:br>
              <a:rPr sz="1800"/>
            </a:b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e315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e3156"/>
                </a:solidFill>
                <a:latin typeface="Trebuchet MS"/>
              </a:rPr>
              <a:t> </a:t>
            </a:r>
            <a:r>
              <a:rPr b="1" lang="es-ES_tradnl" sz="2400" spc="-1" strike="noStrike">
                <a:solidFill>
                  <a:srgbClr val="ae3156"/>
                </a:solidFill>
                <a:latin typeface="Trebuchet MS"/>
              </a:rPr>
              <a:t>1968</a:t>
            </a:r>
            <a:r>
              <a:rPr b="1" lang="es-ES_tradnl" sz="2000" spc="-1" strike="noStrike">
                <a:solidFill>
                  <a:srgbClr val="ae3156"/>
                </a:solidFill>
                <a:latin typeface="Trebuchet MS"/>
              </a:rPr>
              <a:t>:</a:t>
            </a:r>
            <a:r>
              <a:rPr b="1" lang="es-ES_tradnl" sz="2000" spc="-1" strike="noStrike">
                <a:solidFill>
                  <a:srgbClr val="ae3156"/>
                </a:solidFill>
                <a:latin typeface="Trebuchet MS"/>
              </a:rPr>
              <a:t> 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Servicio Médico Nacional de Empleados SERMENA (1942).</a:t>
            </a:r>
            <a:br>
              <a:rPr sz="1800"/>
            </a:b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           Medicina Curativa de Empleados, seguro de atención   </a:t>
            </a:r>
            <a:br>
              <a:rPr sz="1800"/>
            </a:b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           médica, pago por acto médico a listado de proveedores </a:t>
            </a:r>
            <a:br>
              <a:rPr sz="1800"/>
            </a:b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           inscritos en el sistema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e315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           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Primer sistema organizado de libre elección en el paí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ae315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42920" y="263520"/>
            <a:ext cx="65883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11280" y="1125360"/>
            <a:ext cx="7619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8f8f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e3156"/>
                </a:solidFill>
                <a:latin typeface="Trebuchet MS"/>
              </a:rPr>
              <a:t>1979:</a:t>
            </a:r>
            <a:r>
              <a:rPr b="1" lang="es-ES_tradnl" sz="2200" spc="-1" strike="noStrike">
                <a:solidFill>
                  <a:srgbClr val="ae3156"/>
                </a:solidFill>
                <a:latin typeface="Trebuchet MS"/>
              </a:rPr>
              <a:t> 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DL N° 2763 Fusionó SNS y SERMENA, creación d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e3156"/>
                </a:solidFill>
                <a:latin typeface="Trebuchet MS"/>
                <a:ea typeface="ＭＳ Ｐゴシック"/>
              </a:rPr>
              <a:t>Fondo Nacional de Salud - FONAS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e3156"/>
                </a:solidFill>
                <a:latin typeface="Trebuchet MS"/>
                <a:ea typeface="ＭＳ Ｐゴシック"/>
              </a:rPr>
              <a:t>Sistema Nacional de Servicios de Salud (SNSS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ae315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e3156"/>
                </a:solidFill>
                <a:latin typeface="Trebuchet MS"/>
              </a:rPr>
              <a:t>1980</a:t>
            </a:r>
            <a:r>
              <a:rPr b="1" lang="es-ES_tradnl" sz="2200" spc="-1" strike="noStrike">
                <a:solidFill>
                  <a:srgbClr val="ae3156"/>
                </a:solidFill>
                <a:latin typeface="Trebuchet MS"/>
              </a:rPr>
              <a:t> 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DFL 13063 se inicia el proceso de traspaso de la administración y operación de la atención primaria de salud a las Municipalidad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e3156"/>
                </a:solidFill>
                <a:latin typeface="Trebuchet MS"/>
              </a:rPr>
              <a:t>1980</a:t>
            </a:r>
            <a:r>
              <a:rPr b="1" lang="es-ES_tradnl" sz="2200" spc="-1" strike="noStrike">
                <a:solidFill>
                  <a:srgbClr val="ae3156"/>
                </a:solidFill>
                <a:latin typeface="Trebuchet MS"/>
              </a:rPr>
              <a:t> 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CONSTITUCIÓN: se establece el derecho de </a:t>
            </a:r>
            <a:r>
              <a:rPr b="1" lang="es-ES_tradnl" sz="1800" spc="-1" strike="noStrike" u="sng">
                <a:solidFill>
                  <a:srgbClr val="ae3156"/>
                </a:solidFill>
                <a:uFillTx/>
                <a:latin typeface="Trebuchet MS"/>
              </a:rPr>
              <a:t>acceso a la salud 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(afiliación a segu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ae3156"/>
                </a:solidFill>
                <a:latin typeface="Trebuchet MS"/>
              </a:rPr>
              <a:t>1981</a:t>
            </a:r>
            <a:r>
              <a:rPr b="1" lang="es-ES_tradnl" sz="2200" spc="-1" strike="noStrike">
                <a:solidFill>
                  <a:srgbClr val="ae3156"/>
                </a:solidFill>
                <a:latin typeface="Trebuchet MS"/>
              </a:rPr>
              <a:t> 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DFL N° 3, crea las ISAPRE, sistema de seguros privados, basado en el prepago de primas individuales según riesg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42920" y="263520"/>
            <a:ext cx="65883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eformas en dictadu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4360" y="1268280"/>
            <a:ext cx="7619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1994 y 1999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996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e3156"/>
                </a:solidFill>
                <a:latin typeface="Trebuchet MS"/>
                <a:ea typeface="ＭＳ Ｐゴシック"/>
              </a:rPr>
              <a:t>Se confiere a FONASA función de gestionar el Seguro Social Público de Salud, a la fecha más de 10,4 millones de beneficiari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996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e3156"/>
                </a:solidFill>
                <a:latin typeface="Trebuchet MS"/>
                <a:ea typeface="ＭＳ Ｐゴシック"/>
              </a:rPr>
              <a:t>Se promulga la Ley 19.650 que perfecciona funciones del Seguro Público de Salu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para compra en el sector privado en la MA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e3156"/>
                </a:solidFill>
                <a:latin typeface="Trebuchet MS"/>
              </a:rPr>
              <a:t>2000 - 2005: </a:t>
            </a: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Se inicia proceso de Reforma de Ley AUGE- GES (a la fecha 80 problemas de salud con garantías de oportunidad, protección financiera y calidad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Separación de funciones Minsal. Política explicita de fortalecimiento de la Red Asistencial </a:t>
            </a:r>
            <a:br>
              <a:rPr sz="1800"/>
            </a:b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e3156"/>
                </a:solidFill>
                <a:latin typeface="Trebuchet MS"/>
              </a:rPr>
              <a:t>Se establece el funcionamiento del Consejo de Integración de la   Red Asistencial (CIRA) que debe ser liderado por el Director del Servicio de Salu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7004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42920" y="263520"/>
            <a:ext cx="65883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eformas en democra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2176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marL="45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ructura y financiamiento del sistema de salu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Imagen 2" descr="Captura de pantalla 2017-05-15 a las 05.16.58.png"/>
          <p:cNvPicPr/>
          <p:nvPr/>
        </p:nvPicPr>
        <p:blipFill>
          <a:blip r:embed="rId1"/>
          <a:stretch/>
        </p:blipFill>
        <p:spPr>
          <a:xfrm>
            <a:off x="108000" y="907920"/>
            <a:ext cx="87487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Captura de pantalla 2017-05-15 a las 06.59.38.png"/>
          <p:cNvPicPr/>
          <p:nvPr/>
        </p:nvPicPr>
        <p:blipFill>
          <a:blip r:embed="rId1"/>
          <a:srcRect l="0" t="0" r="0" b="5824"/>
          <a:stretch/>
        </p:blipFill>
        <p:spPr>
          <a:xfrm>
            <a:off x="1042920" y="981000"/>
            <a:ext cx="7277040" cy="5249880"/>
          </a:xfrm>
          <a:prstGeom prst="rect">
            <a:avLst/>
          </a:prstGeom>
          <a:ln w="0">
            <a:noFill/>
          </a:ln>
        </p:spPr>
      </p:pic>
      <p:sp>
        <p:nvSpPr>
          <p:cNvPr id="118" name="CuadroTexto 4"/>
          <p:cNvSpPr/>
          <p:nvPr/>
        </p:nvSpPr>
        <p:spPr>
          <a:xfrm>
            <a:off x="5446440" y="6237360"/>
            <a:ext cx="286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rección de Presupuesto Chile 201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2176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marL="45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Red Asistencial Públ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8 Marcador de contenido" descr=""/>
          <p:cNvPicPr/>
          <p:nvPr/>
        </p:nvPicPr>
        <p:blipFill>
          <a:blip r:embed="rId1"/>
          <a:stretch/>
        </p:blipFill>
        <p:spPr>
          <a:xfrm>
            <a:off x="237960" y="1932120"/>
            <a:ext cx="8656920" cy="4395600"/>
          </a:xfrm>
          <a:prstGeom prst="rect">
            <a:avLst/>
          </a:prstGeom>
          <a:ln w="0">
            <a:noFill/>
          </a:ln>
        </p:spPr>
      </p:pic>
      <p:sp>
        <p:nvSpPr>
          <p:cNvPr id="121" name="9 Llamada de flecha hacia arriba"/>
          <p:cNvSpPr/>
          <p:nvPr/>
        </p:nvSpPr>
        <p:spPr>
          <a:xfrm>
            <a:off x="1258920" y="4941720"/>
            <a:ext cx="1203120" cy="914400"/>
          </a:xfrm>
          <a:prstGeom prst="upArrowCallout">
            <a:avLst>
              <a:gd name="adj1" fmla="val 25001"/>
              <a:gd name="adj2" fmla="val 24993"/>
              <a:gd name="adj3" fmla="val 25000"/>
              <a:gd name="adj4" fmla="val 70041"/>
            </a:avLst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10 Llamada de flecha hacia arriba"/>
          <p:cNvSpPr/>
          <p:nvPr/>
        </p:nvSpPr>
        <p:spPr>
          <a:xfrm>
            <a:off x="2484360" y="4941720"/>
            <a:ext cx="2232000" cy="914400"/>
          </a:xfrm>
          <a:prstGeom prst="upArrowCallout">
            <a:avLst>
              <a:gd name="adj1" fmla="val 24999"/>
              <a:gd name="adj2" fmla="val 24997"/>
              <a:gd name="adj3" fmla="val 25000"/>
              <a:gd name="adj4" fmla="val 70041"/>
            </a:avLst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11 Llamada de flecha hacia arriba"/>
          <p:cNvSpPr/>
          <p:nvPr/>
        </p:nvSpPr>
        <p:spPr>
          <a:xfrm>
            <a:off x="6300720" y="4941720"/>
            <a:ext cx="1440000" cy="914400"/>
          </a:xfrm>
          <a:prstGeom prst="upArrowCallout">
            <a:avLst>
              <a:gd name="adj1" fmla="val 25010"/>
              <a:gd name="adj2" fmla="val 25000"/>
              <a:gd name="adj3" fmla="val 25000"/>
              <a:gd name="adj4" fmla="val 70041"/>
            </a:avLst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12 Llamada de flecha hacia arriba"/>
          <p:cNvSpPr/>
          <p:nvPr/>
        </p:nvSpPr>
        <p:spPr>
          <a:xfrm>
            <a:off x="0" y="5732640"/>
            <a:ext cx="9144000" cy="914400"/>
          </a:xfrm>
          <a:prstGeom prst="upArrowCallout">
            <a:avLst>
              <a:gd name="adj1" fmla="val -17275"/>
              <a:gd name="adj2" fmla="val 25000"/>
              <a:gd name="adj3" fmla="val 25000"/>
              <a:gd name="adj4" fmla="val 70041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Subsecretaría de Redes Asistencia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13 Llamada de flecha cuádruple"/>
          <p:cNvSpPr/>
          <p:nvPr/>
        </p:nvSpPr>
        <p:spPr>
          <a:xfrm rot="18938400">
            <a:off x="3887280" y="4040280"/>
            <a:ext cx="1216080" cy="12175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CIR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14 Llamada de flecha hacia arriba"/>
          <p:cNvSpPr/>
          <p:nvPr/>
        </p:nvSpPr>
        <p:spPr>
          <a:xfrm>
            <a:off x="4500720" y="4941720"/>
            <a:ext cx="1800000" cy="914400"/>
          </a:xfrm>
          <a:prstGeom prst="upArrowCallout">
            <a:avLst>
              <a:gd name="adj1" fmla="val 24991"/>
              <a:gd name="adj2" fmla="val 24998"/>
              <a:gd name="adj3" fmla="val 25000"/>
              <a:gd name="adj4" fmla="val 70041"/>
            </a:avLst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15 CuadroTexto"/>
          <p:cNvSpPr/>
          <p:nvPr/>
        </p:nvSpPr>
        <p:spPr>
          <a:xfrm>
            <a:off x="2195640" y="5373720"/>
            <a:ext cx="460836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000"/>
                </a:solidFill>
                <a:latin typeface="Arial"/>
              </a:rPr>
              <a:t>Gestor de Red ( Dirección de Servicio 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19 Elipse"/>
          <p:cNvSpPr/>
          <p:nvPr/>
        </p:nvSpPr>
        <p:spPr>
          <a:xfrm>
            <a:off x="0" y="1413000"/>
            <a:ext cx="2771640" cy="2736720"/>
          </a:xfrm>
          <a:prstGeom prst="ellipse">
            <a:avLst/>
          </a:prstGeom>
          <a:solidFill>
            <a:srgbClr val="bbe0e3">
              <a:alpha val="16000"/>
            </a:srgbClr>
          </a:solidFill>
          <a:ln w="25560">
            <a:solidFill>
              <a:srgbClr val="89a4a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Municipi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16 Elipse"/>
          <p:cNvSpPr/>
          <p:nvPr/>
        </p:nvSpPr>
        <p:spPr>
          <a:xfrm>
            <a:off x="3132000" y="1341360"/>
            <a:ext cx="5832720" cy="2879640"/>
          </a:xfrm>
          <a:prstGeom prst="ellipse">
            <a:avLst/>
          </a:prstGeom>
          <a:solidFill>
            <a:srgbClr val="bbe0e3">
              <a:alpha val="16000"/>
            </a:srgbClr>
          </a:solidFill>
          <a:ln w="25560">
            <a:solidFill>
              <a:srgbClr val="89a4a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Servicio de Salu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17 Flecha derecha"/>
          <p:cNvSpPr/>
          <p:nvPr/>
        </p:nvSpPr>
        <p:spPr>
          <a:xfrm rot="19732200">
            <a:off x="7002000" y="1269720"/>
            <a:ext cx="979560" cy="48564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18 Elipse"/>
          <p:cNvSpPr/>
          <p:nvPr/>
        </p:nvSpPr>
        <p:spPr>
          <a:xfrm>
            <a:off x="7956720" y="907920"/>
            <a:ext cx="1187280" cy="4334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ffffff"/>
                </a:solidFill>
                <a:latin typeface="Arial"/>
              </a:rPr>
              <a:t>Privados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20 Flecha derecha"/>
          <p:cNvSpPr/>
          <p:nvPr/>
        </p:nvSpPr>
        <p:spPr>
          <a:xfrm rot="19732200">
            <a:off x="1819440" y="1343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21 Elipse"/>
          <p:cNvSpPr/>
          <p:nvPr/>
        </p:nvSpPr>
        <p:spPr>
          <a:xfrm>
            <a:off x="2700360" y="981000"/>
            <a:ext cx="1187280" cy="4320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ffffff"/>
                </a:solidFill>
                <a:latin typeface="Arial"/>
              </a:rPr>
              <a:t>Privados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25 Conector recto de flecha"/>
          <p:cNvCxnSpPr/>
          <p:nvPr/>
        </p:nvCxnSpPr>
        <p:spPr>
          <a:xfrm>
            <a:off x="755280" y="1197000"/>
            <a:ext cx="1080" cy="28800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val 2"/>
          <p:cNvSpPr/>
          <p:nvPr/>
        </p:nvSpPr>
        <p:spPr>
          <a:xfrm>
            <a:off x="5724360" y="3497400"/>
            <a:ext cx="1590840" cy="139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5435640" y="2160720"/>
            <a:ext cx="1782720" cy="136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7093080" y="1440000"/>
            <a:ext cx="1582560" cy="1141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Centro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de Referencia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Nacion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66840" y="1087560"/>
            <a:ext cx="4136760" cy="420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3c8c93"/>
                </a:solidFill>
                <a:latin typeface="Comic Sans MS"/>
              </a:rPr>
              <a:t>Famili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3c8c93"/>
                </a:solidFill>
                <a:latin typeface="Comic Sans MS"/>
              </a:rPr>
              <a:t>Comunidad organizada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3c8c93"/>
                </a:solidFill>
                <a:latin typeface="Comic Sans MS"/>
              </a:rPr>
              <a:t>BARRIO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3c8c93"/>
                </a:solidFill>
                <a:latin typeface="Comic Sans MS"/>
              </a:rPr>
              <a:t>SALUDAB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3c8c93"/>
                </a:solidFill>
                <a:latin typeface="Comic Sans MS"/>
              </a:rPr>
              <a:t>INTERSEC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6" descr="familia"/>
          <p:cNvPicPr/>
          <p:nvPr/>
        </p:nvPicPr>
        <p:blipFill>
          <a:blip r:embed="rId1"/>
          <a:stretch/>
        </p:blipFill>
        <p:spPr>
          <a:xfrm>
            <a:off x="1828800" y="2122560"/>
            <a:ext cx="1049400" cy="1015920"/>
          </a:xfrm>
          <a:prstGeom prst="rect">
            <a:avLst/>
          </a:prstGeom>
          <a:ln w="0">
            <a:noFill/>
          </a:ln>
        </p:spPr>
      </p:pic>
      <p:sp>
        <p:nvSpPr>
          <p:cNvPr id="140" name="Oval 7"/>
          <p:cNvSpPr/>
          <p:nvPr/>
        </p:nvSpPr>
        <p:spPr>
          <a:xfrm>
            <a:off x="3130560" y="2709720"/>
            <a:ext cx="1860480" cy="18018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CESFA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Centros d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Salud Familia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724360" y="2303640"/>
            <a:ext cx="136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Comic Sans MS"/>
              </a:rPr>
              <a:t>Centros de Diagnóstico y Tratamiento CDT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ff"/>
                </a:solidFill>
                <a:latin typeface="Comic Sans MS"/>
              </a:rPr>
              <a:t>Centros de Referencia Secundaria CRS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959440" y="3882960"/>
            <a:ext cx="130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omic Sans MS"/>
              </a:rPr>
              <a:t>Hospita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24000" y="171360"/>
            <a:ext cx="74880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delo de Atención Integral de Salud con enfoque famili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4" name="AutoShape 11"/>
          <p:cNvCxnSpPr>
            <a:stCxn id="140" idx="5"/>
            <a:endCxn id="135" idx="3"/>
          </p:cNvCxnSpPr>
          <p:nvPr/>
        </p:nvCxnSpPr>
        <p:spPr>
          <a:xfrm flipH="1" rot="16200000">
            <a:off x="5116320" y="3849120"/>
            <a:ext cx="443880" cy="1240560"/>
          </a:xfrm>
          <a:prstGeom prst="curvedConnector5">
            <a:avLst>
              <a:gd name="adj1" fmla="val 197646"/>
              <a:gd name="adj2" fmla="val 49985"/>
              <a:gd name="adj3" fmla="val 197646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AutoShape 12"/>
          <p:cNvCxnSpPr>
            <a:stCxn id="137" idx="4"/>
            <a:endCxn id="135" idx="6"/>
          </p:cNvCxnSpPr>
          <p:nvPr/>
        </p:nvCxnSpPr>
        <p:spPr>
          <a:xfrm rot="5400000">
            <a:off x="6791400" y="3103920"/>
            <a:ext cx="1616760" cy="5706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Oval 13"/>
          <p:cNvSpPr/>
          <p:nvPr/>
        </p:nvSpPr>
        <p:spPr>
          <a:xfrm>
            <a:off x="4427640" y="5365800"/>
            <a:ext cx="2759040" cy="87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Atención prehospitalari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Red SAM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AutoShape 14"/>
          <p:cNvCxnSpPr>
            <a:stCxn id="138" idx="4"/>
            <a:endCxn id="146" idx="2"/>
          </p:cNvCxnSpPr>
          <p:nvPr/>
        </p:nvCxnSpPr>
        <p:spPr>
          <a:xfrm flipH="1" rot="16200000">
            <a:off x="3175920" y="4550760"/>
            <a:ext cx="511920" cy="1992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AutoShape 15"/>
          <p:cNvCxnSpPr>
            <a:stCxn id="146" idx="6"/>
          </p:cNvCxnSpPr>
          <p:nvPr/>
        </p:nvCxnSpPr>
        <p:spPr>
          <a:xfrm flipH="1" flipV="1">
            <a:off x="7092720" y="4895640"/>
            <a:ext cx="94320" cy="907200"/>
          </a:xfrm>
          <a:prstGeom prst="curvedConnector5">
            <a:avLst>
              <a:gd name="adj1" fmla="val -242145"/>
              <a:gd name="adj2" fmla="val 36998"/>
              <a:gd name="adj3" fmla="val -242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16"/>
          <p:cNvCxnSpPr>
            <a:stCxn id="136" idx="3"/>
            <a:endCxn id="142" idx="1"/>
          </p:cNvCxnSpPr>
          <p:nvPr/>
        </p:nvCxnSpPr>
        <p:spPr>
          <a:xfrm flipH="1" rot="16200000">
            <a:off x="5405400" y="3619080"/>
            <a:ext cx="846720" cy="26280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" name="AutoShape 17"/>
          <p:cNvCxnSpPr>
            <a:stCxn id="140" idx="7"/>
            <a:endCxn id="136" idx="1"/>
          </p:cNvCxnSpPr>
          <p:nvPr/>
        </p:nvCxnSpPr>
        <p:spPr>
          <a:xfrm flipH="1" flipV="1" rot="5400000">
            <a:off x="4901040" y="2176920"/>
            <a:ext cx="613440" cy="979920"/>
          </a:xfrm>
          <a:prstGeom prst="curvedConnector5">
            <a:avLst>
              <a:gd name="adj1" fmla="val 169935"/>
              <a:gd name="adj2" fmla="val 49981"/>
              <a:gd name="adj3" fmla="val 169935"/>
            </a:avLst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AutoShape 18"/>
          <p:cNvCxnSpPr>
            <a:stCxn id="136" idx="0"/>
            <a:endCxn id="137" idx="2"/>
          </p:cNvCxnSpPr>
          <p:nvPr/>
        </p:nvCxnSpPr>
        <p:spPr>
          <a:xfrm flipH="1" flipV="1" rot="5400000">
            <a:off x="6635520" y="1702800"/>
            <a:ext cx="150120" cy="766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2" name="Oval 20"/>
          <p:cNvSpPr/>
          <p:nvPr/>
        </p:nvSpPr>
        <p:spPr>
          <a:xfrm>
            <a:off x="684360" y="3024360"/>
            <a:ext cx="1079280" cy="1079280"/>
          </a:xfrm>
          <a:prstGeom prst="ellipse">
            <a:avLst/>
          </a:prstGeom>
          <a:solidFill>
            <a:srgbClr val="4597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Comic Sans MS"/>
              </a:rPr>
              <a:t>CECOSF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Comic Sans MS"/>
              </a:rPr>
              <a:t>Centro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Comic Sans MS"/>
              </a:rPr>
              <a:t>Comunitario de </a:t>
            </a:r>
            <a:br>
              <a:rPr sz="1000"/>
            </a:br>
            <a:r>
              <a:rPr b="1" lang="es-ES_tradnl" sz="1000" spc="-1" strike="noStrike">
                <a:solidFill>
                  <a:srgbClr val="ffffff"/>
                </a:solidFill>
                <a:latin typeface="Comic Sans MS"/>
              </a:rPr>
              <a:t>Salud Familiar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3348000" y="2448000"/>
            <a:ext cx="1295280" cy="647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SAPU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Comic Sans MS"/>
              </a:rPr>
              <a:t>Servicio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Comic Sans MS"/>
              </a:rPr>
              <a:t>de Atención Primaria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Comic Sans MS"/>
              </a:rPr>
              <a:t>de Urgencia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6516720" y="4248000"/>
            <a:ext cx="1440000" cy="6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1000" spc="-1" strike="noStrike">
                <a:solidFill>
                  <a:srgbClr val="ffffff"/>
                </a:solidFill>
                <a:latin typeface="Comic Sans MS"/>
              </a:rPr>
              <a:t>Servicio de Urgencia </a:t>
            </a:r>
            <a:br>
              <a:rPr sz="1000"/>
            </a:br>
            <a:r>
              <a:rPr b="1" lang="es-ES" sz="1000" spc="-1" strike="noStrike">
                <a:solidFill>
                  <a:srgbClr val="ffffff"/>
                </a:solidFill>
                <a:latin typeface="Comic Sans MS"/>
              </a:rPr>
              <a:t>Hospitalari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46 Conector curvado"/>
          <p:cNvCxnSpPr/>
          <p:nvPr/>
        </p:nvCxnSpPr>
        <p:spPr>
          <a:xfrm>
            <a:off x="3203640" y="518472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0">
            <a:noFill/>
          </a:ln>
        </p:spPr>
      </p:cxnSp>
      <p:sp>
        <p:nvSpPr>
          <p:cNvPr id="156" name="Oval 19"/>
          <p:cNvSpPr/>
          <p:nvPr/>
        </p:nvSpPr>
        <p:spPr>
          <a:xfrm>
            <a:off x="3419640" y="4005360"/>
            <a:ext cx="129528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Comic Sans MS"/>
              </a:rPr>
              <a:t>SAR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Comic Sans MS"/>
              </a:rPr>
              <a:t>Servicio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Comic Sans MS"/>
              </a:rPr>
              <a:t>de Urgencia </a:t>
            </a:r>
            <a:br>
              <a:rPr sz="900"/>
            </a:br>
            <a:r>
              <a:rPr b="1" lang="es-ES" sz="900" spc="-1" strike="noStrike">
                <a:solidFill>
                  <a:srgbClr val="000000"/>
                </a:solidFill>
                <a:latin typeface="Comic Sans MS"/>
              </a:rPr>
              <a:t>Alta Resolución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12:06:36Z</dcterms:created>
  <dc:creator>Rebeca Terraza</dc:creator>
  <dc:description/>
  <dc:language>en-US</dc:language>
  <cp:lastModifiedBy>Pamela Eguiguren</cp:lastModifiedBy>
  <dcterms:modified xsi:type="dcterms:W3CDTF">2017-11-02T06:02:36Z</dcterms:modified>
  <cp:revision>249</cp:revision>
  <dc:subject/>
  <dc:title>Diapositiva 1</dc:title>
</cp:coreProperties>
</file>