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7.jpeg" ContentType="image/jpe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8.png" ContentType="image/png"/>
  <Override PartName="/ppt/media/image34.jpeg" ContentType="image/jpeg"/>
  <Override PartName="/ppt/media/image13.jpeg" ContentType="image/jpeg"/>
  <Override PartName="/ppt/media/image5.png" ContentType="image/png"/>
  <Override PartName="/ppt/media/image35.jpeg" ContentType="image/jpeg"/>
  <Override PartName="/ppt/media/image27.png" ContentType="image/png"/>
  <Override PartName="/ppt/media/image33.jpeg" ContentType="image/jpeg"/>
  <Override PartName="/ppt/media/image8.jpeg" ContentType="image/jpeg"/>
  <Override PartName="/ppt/media/image38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4B27-97BB-4E63-89C4-8E213197C209}" type="slidenum">
              <a:rPr b="0" lang="ca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1A2730-A118-4CFB-9358-46137429BF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BCE332-838F-43B2-81A4-7F6D3BE46D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1C0731-3894-40EE-99DB-A8F717B429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1F87A7-96E0-49B7-B898-3D8AEC2F0F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ahoma"/>
              </a:rPr>
              <a:t>La continuïtat en l’assistència seria el </a:t>
            </a:r>
            <a:r>
              <a:rPr b="0" lang="ca-ES" sz="1400" spc="-1" strike="noStrike">
                <a:solidFill>
                  <a:srgbClr val="000000"/>
                </a:solidFill>
                <a:latin typeface="Tahoma"/>
                <a:ea typeface="Tahoma"/>
              </a:rPr>
              <a:t>nivell de coherència i unió de les experiències en l'atenció d’un pacient al llarg del temp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ahoma"/>
                <a:ea typeface="Tahoma"/>
              </a:rPr>
              <a:t>Perquè existeixi continuïtat ha d’haver-hi transferència d’informació, relacions interpersonals entre metge i pacient, l’atenció ha de ser coordinada i el que és més important, ha de ser experimentada pel pacient al llarg del temp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ahoma"/>
                <a:ea typeface="Tahoma"/>
              </a:rPr>
              <a:t>Podem classificar la continuïtat en tres tipus i cadascun pot mirar-se des del punt de vista del pacient o de la malalti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ahoma"/>
                <a:ea typeface="Tahoma"/>
              </a:rPr>
              <a:t>Continuïtat d’informació que és la disponibilitat, utilització i interpretació de la informació de fets anteriors per donar una atenció apropiada a la circumstància actual del paci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ahoma"/>
                <a:ea typeface="Tahoma"/>
              </a:rPr>
              <a:t>Continuïtat de relació: que seria la relació en el temps d’un pacient amb un o més proveïdors. Molts autors es refereixen a aquesta com longitudinalit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ahoma"/>
                <a:ea typeface="Tahoma"/>
              </a:rPr>
              <a:t>Continuïtat de gestió: que és la provisió de diferents tipus de serveis de manera coordinada y complementant-s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Tahoma"/>
                <a:ea typeface="Tahoma"/>
              </a:rPr>
              <a:t>Entre els tres tipus de continuïtat existeix una relació jeràrquica en la que la continuïtat d’informació estaria en la base i la de gestió en l’àpex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B2C638-024B-4907-87C7-06C1B261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CC6AED-4C6B-4921-92D8-C4971A78BC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3640" y="3983400"/>
            <a:ext cx="8569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3640" y="39834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4560" y="39834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0920" y="11250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1250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3640" y="39834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0920" y="39834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39834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50920" y="43920"/>
            <a:ext cx="8642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3640" y="39834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4560" y="39834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3640" y="3983400"/>
            <a:ext cx="8569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640" y="3983400"/>
            <a:ext cx="8569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3640" y="39834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4560" y="39834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20920" y="11250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18560" y="11250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23640" y="39834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20920" y="39834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18560" y="3983400"/>
            <a:ext cx="27590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920" y="43920"/>
            <a:ext cx="8642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3640" y="39834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4560" y="39834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125000"/>
            <a:ext cx="41814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3640" y="3983400"/>
            <a:ext cx="8569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250920" y="44280"/>
            <a:ext cx="8642160" cy="792360"/>
          </a:xfrm>
          <a:prstGeom prst="roundRect">
            <a:avLst>
              <a:gd name="adj" fmla="val 16667"/>
            </a:avLst>
          </a:prstGeom>
          <a:solidFill>
            <a:srgbClr val="c7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700"/>
              </a:spcBef>
              <a:buClr>
                <a:srgbClr val="c7004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22860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2860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92440" indent="-228600">
              <a:spcBef>
                <a:spcPts val="700"/>
              </a:spcBef>
              <a:buClr>
                <a:srgbClr val="c7004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924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924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"/>
          <p:cNvPicPr/>
          <p:nvPr/>
        </p:nvPicPr>
        <p:blipFill>
          <a:blip r:embed="rId2"/>
          <a:stretch/>
        </p:blipFill>
        <p:spPr>
          <a:xfrm>
            <a:off x="8366040" y="157320"/>
            <a:ext cx="588960" cy="533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flag20"/>
          <p:cNvPicPr/>
          <p:nvPr/>
        </p:nvPicPr>
        <p:blipFill>
          <a:blip r:embed="rId3"/>
          <a:stretch/>
        </p:blipFill>
        <p:spPr>
          <a:xfrm>
            <a:off x="7466040" y="157320"/>
            <a:ext cx="770040" cy="5270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9"/>
          <p:cNvSpPr/>
          <p:nvPr/>
        </p:nvSpPr>
        <p:spPr>
          <a:xfrm>
            <a:off x="534960" y="5324040"/>
            <a:ext cx="24624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www.equity-la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1"/>
          <p:cNvGrpSpPr/>
          <p:nvPr/>
        </p:nvGrpSpPr>
        <p:grpSpPr>
          <a:xfrm>
            <a:off x="250920" y="260280"/>
            <a:ext cx="1079280" cy="1079640"/>
            <a:chOff x="250920" y="260280"/>
            <a:chExt cx="1079280" cy="1079640"/>
          </a:xfrm>
        </p:grpSpPr>
        <p:sp>
          <p:nvSpPr>
            <p:cNvPr id="43" name="Rectangle 22"/>
            <p:cNvSpPr/>
            <p:nvPr/>
          </p:nvSpPr>
          <p:spPr>
            <a:xfrm>
              <a:off x="250920" y="260280"/>
              <a:ext cx="1079280" cy="10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23" descr=""/>
            <p:cNvPicPr/>
            <p:nvPr/>
          </p:nvPicPr>
          <p:blipFill>
            <a:blip r:embed="rId4"/>
            <a:stretch/>
          </p:blipFill>
          <p:spPr>
            <a:xfrm>
              <a:off x="282960" y="285840"/>
              <a:ext cx="994680" cy="105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Imagen 2" descr=""/>
          <p:cNvPicPr/>
          <p:nvPr/>
        </p:nvPicPr>
        <p:blipFill>
          <a:blip r:embed="rId5"/>
          <a:stretch/>
        </p:blipFill>
        <p:spPr>
          <a:xfrm>
            <a:off x="7867800" y="6060960"/>
            <a:ext cx="579240" cy="723960"/>
          </a:xfrm>
          <a:prstGeom prst="rect">
            <a:avLst/>
          </a:prstGeom>
          <a:ln w="0">
            <a:noFill/>
          </a:ln>
        </p:spPr>
      </p:pic>
      <p:pic>
        <p:nvPicPr>
          <p:cNvPr id="46" name="Imagen 1" descr="Descripción: http://www.fenf.edu.uy/images/logotipo_institucional/rgb/logotipo_fdee_4cm_72ppp_rgb.png"/>
          <p:cNvPicPr/>
          <p:nvPr/>
        </p:nvPicPr>
        <p:blipFill>
          <a:blip r:embed="rId6"/>
          <a:stretch/>
        </p:blipFill>
        <p:spPr>
          <a:xfrm>
            <a:off x="8475840" y="6060960"/>
            <a:ext cx="655560" cy="72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"/>
          <p:cNvPicPr/>
          <p:nvPr/>
        </p:nvPicPr>
        <p:blipFill>
          <a:blip r:embed="rId7"/>
          <a:stretch/>
        </p:blipFill>
        <p:spPr>
          <a:xfrm>
            <a:off x="1380960" y="6062760"/>
            <a:ext cx="532080" cy="72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"/>
          <p:cNvPicPr/>
          <p:nvPr/>
        </p:nvPicPr>
        <p:blipFill>
          <a:blip r:embed="rId8"/>
          <a:stretch/>
        </p:blipFill>
        <p:spPr>
          <a:xfrm>
            <a:off x="6208560" y="6060960"/>
            <a:ext cx="66384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"/>
          <p:cNvPicPr/>
          <p:nvPr/>
        </p:nvPicPr>
        <p:blipFill>
          <a:blip r:embed="rId9"/>
          <a:stretch/>
        </p:blipFill>
        <p:spPr>
          <a:xfrm>
            <a:off x="6203880" y="6689880"/>
            <a:ext cx="668520" cy="13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"/>
          <p:cNvPicPr/>
          <p:nvPr/>
        </p:nvPicPr>
        <p:blipFill>
          <a:blip r:embed="rId10"/>
          <a:stretch/>
        </p:blipFill>
        <p:spPr>
          <a:xfrm>
            <a:off x="3067200" y="6060960"/>
            <a:ext cx="1477800" cy="44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"/>
          <p:cNvPicPr/>
          <p:nvPr/>
        </p:nvPicPr>
        <p:blipFill>
          <a:blip r:embed="rId11"/>
          <a:stretch/>
        </p:blipFill>
        <p:spPr>
          <a:xfrm>
            <a:off x="3068640" y="6545160"/>
            <a:ext cx="1479600" cy="24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"/>
          <p:cNvPicPr/>
          <p:nvPr/>
        </p:nvPicPr>
        <p:blipFill>
          <a:blip r:embed="rId12"/>
          <a:stretch/>
        </p:blipFill>
        <p:spPr>
          <a:xfrm>
            <a:off x="28440" y="6060960"/>
            <a:ext cx="1249560" cy="72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"/>
          <p:cNvPicPr/>
          <p:nvPr/>
        </p:nvPicPr>
        <p:blipFill>
          <a:blip r:embed="rId13"/>
          <a:stretch/>
        </p:blipFill>
        <p:spPr>
          <a:xfrm>
            <a:off x="2068560" y="6060960"/>
            <a:ext cx="83484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3" descr=""/>
          <p:cNvPicPr/>
          <p:nvPr/>
        </p:nvPicPr>
        <p:blipFill>
          <a:blip r:embed="rId14"/>
          <a:stretch/>
        </p:blipFill>
        <p:spPr>
          <a:xfrm>
            <a:off x="7016760" y="6060960"/>
            <a:ext cx="690480" cy="72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4" descr=""/>
          <p:cNvPicPr/>
          <p:nvPr/>
        </p:nvPicPr>
        <p:blipFill>
          <a:blip r:embed="rId15"/>
          <a:stretch/>
        </p:blipFill>
        <p:spPr>
          <a:xfrm>
            <a:off x="4691160" y="6060960"/>
            <a:ext cx="549000" cy="76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5" descr=""/>
          <p:cNvPicPr/>
          <p:nvPr/>
        </p:nvPicPr>
        <p:blipFill>
          <a:blip r:embed="rId16"/>
          <a:stretch/>
        </p:blipFill>
        <p:spPr>
          <a:xfrm>
            <a:off x="5318280" y="6060960"/>
            <a:ext cx="723600" cy="768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700"/>
              </a:spcBef>
              <a:buClr>
                <a:srgbClr val="c7004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228600">
              <a:spcBef>
                <a:spcPts val="700"/>
              </a:spcBef>
              <a:buClr>
                <a:srgbClr val="c7004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28600">
              <a:spcBef>
                <a:spcPts val="700"/>
              </a:spcBef>
              <a:buClr>
                <a:srgbClr val="c7004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92440" indent="-228600">
              <a:spcBef>
                <a:spcPts val="700"/>
              </a:spcBef>
              <a:buClr>
                <a:srgbClr val="c7004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924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924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5.pn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3"/>
          <p:cNvSpPr/>
          <p:nvPr/>
        </p:nvSpPr>
        <p:spPr>
          <a:xfrm>
            <a:off x="5796000" y="5084280"/>
            <a:ext cx="31669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ogotá, 2 de noviembre de 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2050920" y="2100960"/>
            <a:ext cx="662472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ases conceptuales para el análisis de las redes (integradas) de servicios de salud. Alcances del proyecto Equity L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11280" y="1268280"/>
            <a:ext cx="3716280" cy="19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Nivel macro:   Objetivos de las políticas sobre equidad,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eficiencia y continu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rategias para desarrollar las RI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étodos de asignación de recurs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Nivel micro:     Oferta de servicios en el á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aracterísticas de la población cubier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206880" y="43599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708360" y="4833000"/>
            <a:ext cx="165564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termedio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ontinuidad asisten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cce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708360" y="6026760"/>
            <a:ext cx="172548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Final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quidad de acce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1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4502160" y="566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7"/>
          <p:cNvGrpSpPr/>
          <p:nvPr/>
        </p:nvGrpSpPr>
        <p:grpSpPr>
          <a:xfrm>
            <a:off x="4716360" y="1323000"/>
            <a:ext cx="3888000" cy="1890000"/>
            <a:chOff x="4716360" y="1323000"/>
            <a:chExt cx="3888000" cy="1890000"/>
          </a:xfrm>
        </p:grpSpPr>
        <p:cxnSp>
          <p:nvCxnSpPr>
            <p:cNvPr id="141" name="AutoShape 8"/>
            <p:cNvCxnSpPr/>
            <p:nvPr/>
          </p:nvCxnSpPr>
          <p:spPr>
            <a:xfrm>
              <a:off x="6717960" y="2246400"/>
              <a:ext cx="15300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AutoShape 9"/>
            <p:cNvCxnSpPr>
              <a:stCxn id="143" idx="1"/>
            </p:cNvCxnSpPr>
            <p:nvPr/>
          </p:nvCxnSpPr>
          <p:spPr>
            <a:xfrm flipH="1">
              <a:off x="7070400" y="2352600"/>
              <a:ext cx="122400" cy="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" name="Rectangle 10"/>
            <p:cNvSpPr/>
            <p:nvPr/>
          </p:nvSpPr>
          <p:spPr>
            <a:xfrm>
              <a:off x="4716360" y="1341360"/>
              <a:ext cx="3600720" cy="18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4759200" y="1323000"/>
              <a:ext cx="384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 flipH="1">
              <a:off x="6877080" y="23400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7192800" y="2138400"/>
              <a:ext cx="112428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structura organizac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>
              <a:off x="6300720" y="234000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6330960" y="2138040"/>
              <a:ext cx="716400" cy="3693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I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6"/>
            <p:cNvSpPr/>
            <p:nvPr/>
          </p:nvSpPr>
          <p:spPr>
            <a:xfrm>
              <a:off x="6661080" y="248436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5799240" y="2635200"/>
              <a:ext cx="186984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signación interna de recurs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4788000" y="2209320"/>
              <a:ext cx="143964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delo de aten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9"/>
            <p:cNvSpPr/>
            <p:nvPr/>
          </p:nvSpPr>
          <p:spPr>
            <a:xfrm>
              <a:off x="6516720" y="1917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0"/>
            <p:cNvSpPr/>
            <p:nvPr/>
          </p:nvSpPr>
          <p:spPr>
            <a:xfrm>
              <a:off x="6661080" y="191772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4932360" y="1767960"/>
              <a:ext cx="160020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bjetivos y estrategi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2"/>
            <p:cNvSpPr/>
            <p:nvPr/>
          </p:nvSpPr>
          <p:spPr>
            <a:xfrm>
              <a:off x="6661080" y="1917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6804000" y="1704240"/>
              <a:ext cx="95256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ltu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Line 24"/>
          <p:cNvSpPr/>
          <p:nvPr/>
        </p:nvSpPr>
        <p:spPr>
          <a:xfrm>
            <a:off x="2050920" y="3873600"/>
            <a:ext cx="1511280" cy="14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 flipH="1">
            <a:off x="5435640" y="3875040"/>
            <a:ext cx="1512720" cy="151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179280" y="2412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a-E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arco de análisis de R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3851280" y="3429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-181800" y="6451200"/>
            <a:ext cx="33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b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Modificado de Vázquez et al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fffff"/>
                </a:solidFill>
                <a:latin typeface="Arial"/>
              </a:rPr>
              <a:t>Modelo de atención: Organización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ganización asistencial (rol de los distintos niveles</a:t>
            </a:r>
            <a:r>
              <a:rPr b="0" lang="ca-ES" sz="2800" spc="-1" strike="noStrike">
                <a:solidFill>
                  <a:srgbClr val="000000"/>
                </a:solidFill>
                <a:latin typeface="Arial"/>
              </a:rPr>
              <a:t> y colabor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isión paral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pro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stor cons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strumentos y estrategias de coordin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canismos de coord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ategias de coordinación (gestión de casos, de patologí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11280" y="1268280"/>
            <a:ext cx="3716280" cy="19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Nivel macro:   Objetivos de las políticas sobre equidad,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eficiencia y continu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rategias para desarrollar las RI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étodos de asignación de recurs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Nivel micro:     Oferta de servicios en el á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aracterísticas de la población cubier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206880" y="43599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708360" y="4833000"/>
            <a:ext cx="165564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termedio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ontinuidad asisten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cce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708360" y="6026760"/>
            <a:ext cx="172548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Final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quidad de acce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1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4502160" y="566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4716360" y="1323000"/>
            <a:ext cx="3888000" cy="1890000"/>
            <a:chOff x="4716360" y="1323000"/>
            <a:chExt cx="3888000" cy="1890000"/>
          </a:xfrm>
        </p:grpSpPr>
        <p:cxnSp>
          <p:nvCxnSpPr>
            <p:cNvPr id="170" name="AutoShape 8"/>
            <p:cNvCxnSpPr/>
            <p:nvPr/>
          </p:nvCxnSpPr>
          <p:spPr>
            <a:xfrm>
              <a:off x="6717960" y="2246400"/>
              <a:ext cx="15300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1" name="AutoShape 9"/>
            <p:cNvCxnSpPr>
              <a:stCxn id="172" idx="1"/>
            </p:cNvCxnSpPr>
            <p:nvPr/>
          </p:nvCxnSpPr>
          <p:spPr>
            <a:xfrm flipH="1">
              <a:off x="7070400" y="2352600"/>
              <a:ext cx="122400" cy="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Rectangle 10"/>
            <p:cNvSpPr/>
            <p:nvPr/>
          </p:nvSpPr>
          <p:spPr>
            <a:xfrm>
              <a:off x="4716360" y="1341360"/>
              <a:ext cx="3600720" cy="18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4759200" y="1323000"/>
              <a:ext cx="384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 flipH="1">
              <a:off x="6877080" y="23400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7192800" y="2138400"/>
              <a:ext cx="112428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structura organizac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6300720" y="234000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6330960" y="2138040"/>
              <a:ext cx="716400" cy="3693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I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6"/>
            <p:cNvSpPr/>
            <p:nvPr/>
          </p:nvSpPr>
          <p:spPr>
            <a:xfrm>
              <a:off x="6661080" y="248436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5799240" y="2635200"/>
              <a:ext cx="186984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signación interna de recurs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4788000" y="2209320"/>
              <a:ext cx="143964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delo de aten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6516720" y="1917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>
              <a:off x="6661080" y="191772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4932360" y="1767960"/>
              <a:ext cx="160020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bjetivos y estrategi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2"/>
            <p:cNvSpPr/>
            <p:nvPr/>
          </p:nvSpPr>
          <p:spPr>
            <a:xfrm>
              <a:off x="6661080" y="1917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6804000" y="1704240"/>
              <a:ext cx="95256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ltu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24"/>
          <p:cNvSpPr/>
          <p:nvPr/>
        </p:nvSpPr>
        <p:spPr>
          <a:xfrm>
            <a:off x="2050920" y="3873600"/>
            <a:ext cx="1511280" cy="14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 flipH="1">
            <a:off x="5435640" y="3875040"/>
            <a:ext cx="1512720" cy="151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179280" y="179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arco de análisis de R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7"/>
          <p:cNvSpPr/>
          <p:nvPr/>
        </p:nvSpPr>
        <p:spPr>
          <a:xfrm>
            <a:off x="3851280" y="3429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-181800" y="6451200"/>
            <a:ext cx="33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b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Modificado de Vázquez et al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350640"/>
            <a:ext cx="81360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es la coordinación de la atenció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92200" y="4208400"/>
            <a:ext cx="8334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24000" y="1484280"/>
            <a:ext cx="8496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ción de todos los servicios relacionados con la atención en salud independientemente del lugar donde se reciban, de manera que se armonicen y se alcance un objetivo común administrando los confli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5842080" y="4387680"/>
            <a:ext cx="2846160" cy="56700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700" spc="-1" strike="noStrike">
                <a:solidFill>
                  <a:srgbClr val="333399"/>
                </a:solidFill>
                <a:latin typeface="Arial"/>
                <a:ea typeface="Osaka"/>
              </a:rPr>
              <a:t>Coordinación administrativ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3149640" y="4383000"/>
            <a:ext cx="2352600" cy="57168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700" spc="-1" strike="noStrike">
                <a:solidFill>
                  <a:srgbClr val="333399"/>
                </a:solidFill>
                <a:latin typeface="Arial"/>
                <a:ea typeface="Osaka"/>
              </a:rPr>
              <a:t>Coordinación de la gestión clín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390600" y="4387680"/>
            <a:ext cx="2352600" cy="56700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700" spc="-1" strike="noStrike">
                <a:solidFill>
                  <a:srgbClr val="333399"/>
                </a:solidFill>
                <a:latin typeface="Arial"/>
                <a:ea typeface="Osaka"/>
              </a:rPr>
              <a:t>Coordinación de la inform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301920" y="3473280"/>
            <a:ext cx="2017800" cy="37008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  <a:ea typeface="Osaka"/>
              </a:rPr>
              <a:t>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66840" y="515304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Transferencia de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24000" y="5734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tilización de la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635280" y="5157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oherencia de la at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3564000" y="58053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eguimiento del pac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227640" y="523080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ircuitos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rdenación del ac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-280080" y="6522840"/>
            <a:ext cx="339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b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Reid et al. 2002, Vargas et al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4000" y="234756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ado de la coordinación desde el punto de vista del pa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24000" y="120600"/>
            <a:ext cx="80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Arial"/>
              </a:rPr>
              <a:t>¿Qué es la continuidad asisten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3384720" y="4189320"/>
            <a:ext cx="2519280" cy="65556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Osaka"/>
              </a:rPr>
              <a:t>Continuidad de  gestión clí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468360" y="4189320"/>
            <a:ext cx="2519280" cy="65412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Osaka"/>
              </a:rPr>
              <a:t>Continuidad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083280" y="4189320"/>
            <a:ext cx="2519280" cy="655560"/>
          </a:xfrm>
          <a:prstGeom prst="rect">
            <a:avLst/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Osaka"/>
              </a:rPr>
              <a:t>Continuidad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492360" y="3357720"/>
            <a:ext cx="2017800" cy="33948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Osaka"/>
              </a:rPr>
              <a:t>Tip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68360" y="4986360"/>
            <a:ext cx="255600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ferencia y uso de información clí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onocimiento acumu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083280" y="4986360"/>
            <a:ext cx="252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ínculo paciente - provee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onsistencia del provee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3425760" y="4986360"/>
            <a:ext cx="247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herencia de la at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ccesibilidad y flex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-63360" y="637992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b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Reid et al, 2002, Haggerty, 2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58920" y="1244520"/>
            <a:ext cx="846108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nuidad asistencial: Grado de coherencia y unión de la atención que percibe el paciente a lo largo del tiempo, de manera que ésta sea acorde con sus necesidades médicas y contexto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95280" y="3933720"/>
            <a:ext cx="5616720" cy="2374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214560" y="343008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b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333399"/>
                </a:solidFill>
                <a:latin typeface="Arial"/>
              </a:rPr>
              <a:t>entre niv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lidad asistencial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539640" y="4508640"/>
            <a:ext cx="8604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b1455"/>
                </a:solidFill>
                <a:latin typeface="Arial"/>
              </a:rPr>
              <a:t>Calidad desde el punto de vista de los servici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b1455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fectividad, seguridad, oportunidad eficiencia. centrada en paciente</a:t>
            </a:r>
            <a:r>
              <a:rPr b="0" lang="es-ES" sz="1800" spc="-1" strike="noStrike">
                <a:solidFill>
                  <a:srgbClr val="0b1455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b1455"/>
                </a:solidFill>
                <a:latin typeface="Arial"/>
              </a:rPr>
              <a:t>Calidad desde el punto de vista los usuari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b1455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vencia, opinión y expect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11280" y="1184400"/>
            <a:ext cx="80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grado en el cual los servicios de salud que proporcionan atención a los individuos y la población aumentan la probabilidad de obtener los resultados de salud deseados y son consistentes con el conocimiento científico act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alidad de la atención consiste en hacer las cosas correctas, a las personas correctas, en el tiempo correcto y haciéndolas desde el primer int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2"/>
          <p:cNvSpPr/>
          <p:nvPr/>
        </p:nvSpPr>
        <p:spPr>
          <a:xfrm>
            <a:off x="297000" y="189000"/>
            <a:ext cx="85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 fontScale="96000"/>
          </a:bodyPr>
          <a:p>
            <a:pPr marL="432360" indent="-432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3. Intervenciones para mejorar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324000" y="1413000"/>
            <a:ext cx="8542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b1455"/>
                </a:solidFill>
                <a:latin typeface="Arial"/>
              </a:rPr>
              <a:t>Nivel macr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adas a nivel </a:t>
            </a:r>
            <a:r>
              <a:rPr b="0" lang="es-ES" sz="2000" spc="-1" strike="noStrike">
                <a:solidFill>
                  <a:srgbClr val="0b1455"/>
                </a:solidFill>
                <a:latin typeface="Arial"/>
              </a:rPr>
              <a:t>supraorganiz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olíticas sanitarias, mecanismos de fina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b1455"/>
                </a:solidFill>
                <a:latin typeface="Arial"/>
              </a:rPr>
              <a:t>Nivel meso </a:t>
            </a:r>
            <a:r>
              <a:rPr b="0" lang="es-ES" sz="2000" spc="-1" strike="noStrike">
                <a:solidFill>
                  <a:srgbClr val="0b1455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adas e implementadas por </a:t>
            </a:r>
            <a:r>
              <a:rPr b="0" lang="es-ES" sz="2000" spc="-1" strike="noStrike">
                <a:solidFill>
                  <a:srgbClr val="0b1455"/>
                </a:solidFill>
                <a:latin typeface="Arial"/>
              </a:rPr>
              <a:t>g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es funcionales, mecanismos de coordinación para las funciones de gestión (estrategias de gestión integradas, comité de gestión compartid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b1455"/>
                </a:solidFill>
                <a:latin typeface="Arial"/>
              </a:rPr>
              <a:t>Nível mic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arrolladas e implementadas por gerentes y profesionales (gestión clínica y administr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76320" indent="-18763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Mecanismos de coordinación individuales o com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rategias (programación/retroalimentac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>
            <a:off x="324000" y="4365720"/>
            <a:ext cx="8513640" cy="1727280"/>
          </a:xfrm>
          <a:prstGeom prst="roundRect">
            <a:avLst>
              <a:gd name="adj" fmla="val 16667"/>
            </a:avLst>
          </a:prstGeom>
          <a:solidFill>
            <a:srgbClr val="cfd4f9">
              <a:alpha val="34000"/>
            </a:srgbClr>
          </a:solidFill>
          <a:ln w="9360">
            <a:solidFill>
              <a:srgbClr val="c1c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68360" y="565956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b1455"/>
                </a:solidFill>
                <a:latin typeface="Arial"/>
              </a:rPr>
              <a:t>Equity- LA-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3"/>
          <p:cNvSpPr/>
          <p:nvPr/>
        </p:nvSpPr>
        <p:spPr>
          <a:xfrm>
            <a:off x="5181480" y="1100160"/>
            <a:ext cx="3757680" cy="5137200"/>
          </a:xfrm>
          <a:prstGeom prst="rect">
            <a:avLst/>
          </a:prstGeom>
          <a:solidFill>
            <a:srgbClr val="8f1736">
              <a:alpha val="62000"/>
            </a:srgbClr>
          </a:solidFill>
          <a:ln w="12600">
            <a:solidFill>
              <a:srgbClr val="eb819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4362480" y="1727280"/>
            <a:ext cx="2968560" cy="4643280"/>
          </a:xfrm>
          <a:prstGeom prst="rect">
            <a:avLst/>
          </a:prstGeom>
          <a:solidFill>
            <a:srgbClr val="eb819d"/>
          </a:solidFill>
          <a:ln w="12600">
            <a:solidFill>
              <a:srgbClr val="eb819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6"/>
          <p:cNvGrpSpPr/>
          <p:nvPr/>
        </p:nvGrpSpPr>
        <p:grpSpPr>
          <a:xfrm>
            <a:off x="36360" y="2878200"/>
            <a:ext cx="2476440" cy="3051000"/>
            <a:chOff x="36360" y="2878200"/>
            <a:chExt cx="2476440" cy="3051000"/>
          </a:xfrm>
        </p:grpSpPr>
        <p:sp>
          <p:nvSpPr>
            <p:cNvPr id="227" name="Oval 21"/>
            <p:cNvSpPr/>
            <p:nvPr/>
          </p:nvSpPr>
          <p:spPr>
            <a:xfrm>
              <a:off x="763200" y="2878200"/>
              <a:ext cx="790560" cy="431280"/>
            </a:xfrm>
            <a:prstGeom prst="ellipse">
              <a:avLst/>
            </a:prstGeom>
            <a:solidFill>
              <a:srgbClr val="8f17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en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specializ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22"/>
            <p:cNvSpPr/>
            <p:nvPr/>
          </p:nvSpPr>
          <p:spPr>
            <a:xfrm>
              <a:off x="1184400" y="3384360"/>
              <a:ext cx="75960" cy="790560"/>
            </a:xfrm>
            <a:prstGeom prst="upDownArrow">
              <a:avLst>
                <a:gd name="adj1" fmla="val 50000"/>
                <a:gd name="adj2" fmla="val 207188"/>
              </a:avLst>
            </a:prstGeom>
            <a:solidFill>
              <a:srgbClr val="8f1736">
                <a:alpha val="50000"/>
              </a:srgbClr>
            </a:solidFill>
            <a:ln w="9360">
              <a:solidFill>
                <a:srgbClr val="eb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23"/>
            <p:cNvSpPr/>
            <p:nvPr/>
          </p:nvSpPr>
          <p:spPr>
            <a:xfrm>
              <a:off x="2100600" y="3957840"/>
              <a:ext cx="72360" cy="1009080"/>
            </a:xfrm>
            <a:prstGeom prst="upDownArrow">
              <a:avLst>
                <a:gd name="adj1" fmla="val 50000"/>
                <a:gd name="adj2" fmla="val 277614"/>
              </a:avLst>
            </a:prstGeom>
            <a:solidFill>
              <a:srgbClr val="8f1736">
                <a:alpha val="50000"/>
              </a:srgbClr>
            </a:solidFill>
            <a:ln w="9360">
              <a:solidFill>
                <a:srgbClr val="eb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4"/>
            <p:cNvSpPr/>
            <p:nvPr/>
          </p:nvSpPr>
          <p:spPr>
            <a:xfrm rot="1080000">
              <a:off x="1619640" y="3886200"/>
              <a:ext cx="83880" cy="1654200"/>
            </a:xfrm>
            <a:prstGeom prst="upDownArrow">
              <a:avLst>
                <a:gd name="adj1" fmla="val 50000"/>
                <a:gd name="adj2" fmla="val 392594"/>
              </a:avLst>
            </a:prstGeom>
            <a:solidFill>
              <a:srgbClr val="8f1736">
                <a:alpha val="50000"/>
              </a:srgbClr>
            </a:solidFill>
            <a:ln w="9360">
              <a:solidFill>
                <a:srgbClr val="eb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25"/>
            <p:cNvSpPr/>
            <p:nvPr/>
          </p:nvSpPr>
          <p:spPr>
            <a:xfrm rot="2700000">
              <a:off x="1598400" y="3818520"/>
              <a:ext cx="69120" cy="432360"/>
            </a:xfrm>
            <a:prstGeom prst="upDownArrow">
              <a:avLst>
                <a:gd name="adj1" fmla="val 50000"/>
                <a:gd name="adj2" fmla="val 124785"/>
              </a:avLst>
            </a:prstGeom>
            <a:solidFill>
              <a:srgbClr val="8f1736">
                <a:alpha val="50000"/>
              </a:srgbClr>
            </a:solidFill>
            <a:ln w="9360">
              <a:solidFill>
                <a:srgbClr val="eb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26"/>
            <p:cNvSpPr/>
            <p:nvPr/>
          </p:nvSpPr>
          <p:spPr>
            <a:xfrm rot="7500000">
              <a:off x="1653120" y="3183480"/>
              <a:ext cx="69480" cy="360720"/>
            </a:xfrm>
            <a:prstGeom prst="upDownArrow">
              <a:avLst>
                <a:gd name="adj1" fmla="val 50000"/>
                <a:gd name="adj2" fmla="val 103522"/>
              </a:avLst>
            </a:prstGeom>
            <a:solidFill>
              <a:srgbClr val="8f1736">
                <a:alpha val="50000"/>
              </a:srgbClr>
            </a:solidFill>
            <a:ln w="9360">
              <a:solidFill>
                <a:srgbClr val="eb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27"/>
            <p:cNvSpPr/>
            <p:nvPr/>
          </p:nvSpPr>
          <p:spPr>
            <a:xfrm flipV="1" rot="3300000">
              <a:off x="1699920" y="5321880"/>
              <a:ext cx="86040" cy="334800"/>
            </a:xfrm>
            <a:prstGeom prst="upDownArrow">
              <a:avLst>
                <a:gd name="adj1" fmla="val 50000"/>
                <a:gd name="adj2" fmla="val 79373"/>
              </a:avLst>
            </a:prstGeom>
            <a:solidFill>
              <a:srgbClr val="8f1736">
                <a:alpha val="50000"/>
              </a:srgbClr>
            </a:solidFill>
            <a:ln w="9360">
              <a:solidFill>
                <a:srgbClr val="eb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36360" y="3598200"/>
              <a:ext cx="707760" cy="1456920"/>
            </a:xfrm>
            <a:prstGeom prst="ellipse">
              <a:avLst/>
            </a:prstGeom>
            <a:solidFill>
              <a:srgbClr val="8f1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ten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ima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9"/>
            <p:cNvSpPr/>
            <p:nvPr/>
          </p:nvSpPr>
          <p:spPr>
            <a:xfrm>
              <a:off x="830160" y="4208760"/>
              <a:ext cx="790560" cy="430920"/>
            </a:xfrm>
            <a:prstGeom prst="ellipse">
              <a:avLst/>
            </a:prstGeom>
            <a:solidFill>
              <a:srgbClr val="8f17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en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specializ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0"/>
            <p:cNvSpPr/>
            <p:nvPr/>
          </p:nvSpPr>
          <p:spPr>
            <a:xfrm>
              <a:off x="785520" y="5497920"/>
              <a:ext cx="790560" cy="431280"/>
            </a:xfrm>
            <a:prstGeom prst="ellipse">
              <a:avLst/>
            </a:prstGeom>
            <a:solidFill>
              <a:srgbClr val="8f17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en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specializ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1687320" y="4966920"/>
              <a:ext cx="790560" cy="431280"/>
            </a:xfrm>
            <a:prstGeom prst="ellipse">
              <a:avLst/>
            </a:prstGeom>
            <a:solidFill>
              <a:srgbClr val="8f17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en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specializa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1721880" y="3453840"/>
              <a:ext cx="790920" cy="429840"/>
            </a:xfrm>
            <a:prstGeom prst="ellipse">
              <a:avLst/>
            </a:prstGeom>
            <a:solidFill>
              <a:srgbClr val="8f173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en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295280"/>
                  <a:tab algn="l" pos="2590920"/>
                  <a:tab algn="l" pos="3886200"/>
                  <a:tab algn="l" pos="5181480"/>
                  <a:tab algn="l" pos="6477120"/>
                  <a:tab algn="l" pos="7772400"/>
                  <a:tab algn="l" pos="9067680"/>
                  <a:tab algn="l" pos="1036332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specializ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33"/>
            <p:cNvSpPr/>
            <p:nvPr/>
          </p:nvSpPr>
          <p:spPr>
            <a:xfrm rot="1749600">
              <a:off x="815400" y="3326040"/>
              <a:ext cx="212760" cy="604440"/>
            </a:xfrm>
            <a:prstGeom prst="upDownArrow">
              <a:avLst>
                <a:gd name="adj1" fmla="val 50000"/>
                <a:gd name="adj2" fmla="val 56608"/>
              </a:avLst>
            </a:prstGeom>
            <a:solidFill>
              <a:srgbClr val="8f1736"/>
            </a:solidFill>
            <a:ln w="9360">
              <a:solidFill>
                <a:srgbClr val="8f17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34"/>
            <p:cNvSpPr/>
            <p:nvPr/>
          </p:nvSpPr>
          <p:spPr>
            <a:xfrm rot="19431600">
              <a:off x="682560" y="4879080"/>
              <a:ext cx="225000" cy="529560"/>
            </a:xfrm>
            <a:prstGeom prst="upDownArrow">
              <a:avLst>
                <a:gd name="adj1" fmla="val 50000"/>
                <a:gd name="adj2" fmla="val 47170"/>
              </a:avLst>
            </a:prstGeom>
            <a:solidFill>
              <a:srgbClr val="8f1736"/>
            </a:solidFill>
            <a:ln w="9360">
              <a:solidFill>
                <a:srgbClr val="8f17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35"/>
            <p:cNvSpPr/>
            <p:nvPr/>
          </p:nvSpPr>
          <p:spPr>
            <a:xfrm rot="7200000">
              <a:off x="828000" y="3958200"/>
              <a:ext cx="136440" cy="287640"/>
            </a:xfrm>
            <a:prstGeom prst="upDownArrow">
              <a:avLst>
                <a:gd name="adj1" fmla="val 50000"/>
                <a:gd name="adj2" fmla="val 41997"/>
              </a:avLst>
            </a:prstGeom>
            <a:solidFill>
              <a:srgbClr val="8f1736"/>
            </a:solidFill>
            <a:ln w="9360">
              <a:solidFill>
                <a:srgbClr val="8f17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36"/>
            <p:cNvSpPr/>
            <p:nvPr/>
          </p:nvSpPr>
          <p:spPr>
            <a:xfrm>
              <a:off x="1180800" y="4657680"/>
              <a:ext cx="75960" cy="790560"/>
            </a:xfrm>
            <a:prstGeom prst="upDownArrow">
              <a:avLst>
                <a:gd name="adj1" fmla="val 50000"/>
                <a:gd name="adj2" fmla="val 207188"/>
              </a:avLst>
            </a:prstGeom>
            <a:solidFill>
              <a:srgbClr val="8f1736">
                <a:alpha val="50000"/>
              </a:srgbClr>
            </a:solidFill>
            <a:ln w="9360">
              <a:solidFill>
                <a:srgbClr val="eb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37"/>
          <p:cNvSpPr/>
          <p:nvPr/>
        </p:nvSpPr>
        <p:spPr>
          <a:xfrm>
            <a:off x="2590920" y="2166840"/>
            <a:ext cx="3001680" cy="426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eb819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8"/>
          <p:cNvSpPr/>
          <p:nvPr/>
        </p:nvSpPr>
        <p:spPr>
          <a:xfrm>
            <a:off x="2590920" y="216684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CANISMOS DE COORDINACIÓN DE INFORMACIÓN Y DE GESTIÓN CLÍ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2946240" y="3179880"/>
            <a:ext cx="243864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PG, Mapas de atención, guías farmacológicas, planificación del a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istema de experto, formación contin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standarización de 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-mail, web, teléf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Gestor de ca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Grupos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295280"/>
                <a:tab algn="l" pos="2590920"/>
                <a:tab algn="l" pos="3886200"/>
                <a:tab algn="l" pos="5181480"/>
                <a:tab algn="l" pos="6477120"/>
                <a:tab algn="l" pos="7772400"/>
                <a:tab algn="l" pos="9067680"/>
                <a:tab algn="l" pos="1036332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Hoja de referencia y contrarreferencia, sistema información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587920" y="181116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CANISMOS DE COORDINACIÓN ADMINISTR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5638680" y="2930400"/>
            <a:ext cx="142236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tocolos y circuitos de referencia de pac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stema de petición de ci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entral de regu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-mail, web, teléfo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7315200" y="1150920"/>
            <a:ext cx="1676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CANISMOS DE COORDINACIÓN FUNCIONES DE DIRECCIÓN Y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5"/>
          <p:cNvSpPr/>
          <p:nvPr/>
        </p:nvSpPr>
        <p:spPr>
          <a:xfrm>
            <a:off x="7315200" y="2421000"/>
            <a:ext cx="162396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Sistemas de planificación de 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Sistemas de control del ren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Contratos de gestión inte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ité de gestión interniv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rector asistencial de la red, de área o distrito, de ámbito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ructura matr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640" y="123480"/>
            <a:ext cx="8962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3. Mecanismos coordinación de la atención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4"/>
          <p:cNvSpPr/>
          <p:nvPr/>
        </p:nvSpPr>
        <p:spPr>
          <a:xfrm>
            <a:off x="324000" y="1737360"/>
            <a:ext cx="84247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acto de diferentes estrategias de integración de la atención en el desempeño de las redes de servicios de salud de diferentes sistemas de salud  de Latinoamérica (Equity LA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Mapa Europa"/>
          <p:cNvPicPr/>
          <p:nvPr/>
        </p:nvPicPr>
        <p:blipFill>
          <a:blip r:embed="rId1"/>
          <a:srcRect l="5501" t="35665" r="45984" b="0"/>
          <a:stretch/>
        </p:blipFill>
        <p:spPr>
          <a:xfrm>
            <a:off x="6948360" y="1058760"/>
            <a:ext cx="1917720" cy="25862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3"/>
          <p:cNvGrpSpPr/>
          <p:nvPr/>
        </p:nvGrpSpPr>
        <p:grpSpPr>
          <a:xfrm>
            <a:off x="179280" y="1197000"/>
            <a:ext cx="4465440" cy="4897080"/>
            <a:chOff x="179280" y="1197000"/>
            <a:chExt cx="4465440" cy="4897080"/>
          </a:xfrm>
        </p:grpSpPr>
        <p:sp>
          <p:nvSpPr>
            <p:cNvPr id="254" name="Freeform 20"/>
            <p:cNvSpPr/>
            <p:nvPr/>
          </p:nvSpPr>
          <p:spPr>
            <a:xfrm>
              <a:off x="1854360" y="2497320"/>
              <a:ext cx="188280" cy="129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05" h="173">
                  <a:moveTo>
                    <a:pt x="0" y="113"/>
                  </a:moveTo>
                  <a:lnTo>
                    <a:pt x="5" y="56"/>
                  </a:lnTo>
                  <a:lnTo>
                    <a:pt x="2" y="7"/>
                  </a:lnTo>
                  <a:lnTo>
                    <a:pt x="26" y="0"/>
                  </a:lnTo>
                  <a:lnTo>
                    <a:pt x="44" y="31"/>
                  </a:lnTo>
                  <a:lnTo>
                    <a:pt x="72" y="40"/>
                  </a:lnTo>
                  <a:lnTo>
                    <a:pt x="92" y="58"/>
                  </a:lnTo>
                  <a:lnTo>
                    <a:pt x="181" y="27"/>
                  </a:lnTo>
                  <a:lnTo>
                    <a:pt x="193" y="36"/>
                  </a:lnTo>
                  <a:lnTo>
                    <a:pt x="205" y="56"/>
                  </a:lnTo>
                  <a:lnTo>
                    <a:pt x="156" y="100"/>
                  </a:lnTo>
                  <a:lnTo>
                    <a:pt x="186" y="151"/>
                  </a:lnTo>
                  <a:lnTo>
                    <a:pt x="128" y="173"/>
                  </a:lnTo>
                  <a:lnTo>
                    <a:pt x="118" y="127"/>
                  </a:lnTo>
                  <a:lnTo>
                    <a:pt x="109" y="141"/>
                  </a:lnTo>
                  <a:lnTo>
                    <a:pt x="78" y="112"/>
                  </a:lnTo>
                  <a:lnTo>
                    <a:pt x="15" y="9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"/>
            <p:cNvSpPr/>
            <p:nvPr/>
          </p:nvSpPr>
          <p:spPr>
            <a:xfrm>
              <a:off x="2042640" y="2497320"/>
              <a:ext cx="138240" cy="12996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50" h="164">
                  <a:moveTo>
                    <a:pt x="87" y="89"/>
                  </a:moveTo>
                  <a:lnTo>
                    <a:pt x="112" y="93"/>
                  </a:lnTo>
                  <a:lnTo>
                    <a:pt x="103" y="78"/>
                  </a:lnTo>
                  <a:lnTo>
                    <a:pt x="83" y="74"/>
                  </a:lnTo>
                  <a:lnTo>
                    <a:pt x="65" y="55"/>
                  </a:lnTo>
                  <a:lnTo>
                    <a:pt x="20" y="33"/>
                  </a:lnTo>
                  <a:lnTo>
                    <a:pt x="3" y="19"/>
                  </a:lnTo>
                  <a:lnTo>
                    <a:pt x="0" y="0"/>
                  </a:lnTo>
                  <a:lnTo>
                    <a:pt x="62" y="2"/>
                  </a:lnTo>
                  <a:lnTo>
                    <a:pt x="105" y="31"/>
                  </a:lnTo>
                  <a:lnTo>
                    <a:pt x="149" y="59"/>
                  </a:lnTo>
                  <a:lnTo>
                    <a:pt x="150" y="115"/>
                  </a:lnTo>
                  <a:lnTo>
                    <a:pt x="127" y="133"/>
                  </a:lnTo>
                  <a:lnTo>
                    <a:pt x="111" y="164"/>
                  </a:lnTo>
                  <a:lnTo>
                    <a:pt x="95" y="142"/>
                  </a:lnTo>
                  <a:lnTo>
                    <a:pt x="87" y="8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"/>
            <p:cNvSpPr/>
            <p:nvPr/>
          </p:nvSpPr>
          <p:spPr>
            <a:xfrm>
              <a:off x="3492360" y="2710080"/>
              <a:ext cx="171720" cy="198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90" h="260">
                  <a:moveTo>
                    <a:pt x="150" y="69"/>
                  </a:moveTo>
                  <a:lnTo>
                    <a:pt x="91" y="13"/>
                  </a:lnTo>
                  <a:lnTo>
                    <a:pt x="44" y="0"/>
                  </a:lnTo>
                  <a:lnTo>
                    <a:pt x="32" y="26"/>
                  </a:lnTo>
                  <a:lnTo>
                    <a:pt x="12" y="88"/>
                  </a:lnTo>
                  <a:lnTo>
                    <a:pt x="36" y="177"/>
                  </a:lnTo>
                  <a:lnTo>
                    <a:pt x="0" y="248"/>
                  </a:lnTo>
                  <a:lnTo>
                    <a:pt x="43" y="256"/>
                  </a:lnTo>
                  <a:lnTo>
                    <a:pt x="106" y="260"/>
                  </a:lnTo>
                  <a:lnTo>
                    <a:pt x="149" y="191"/>
                  </a:lnTo>
                  <a:lnTo>
                    <a:pt x="190" y="124"/>
                  </a:lnTo>
                  <a:lnTo>
                    <a:pt x="175" y="82"/>
                  </a:lnTo>
                  <a:lnTo>
                    <a:pt x="174" y="95"/>
                  </a:lnTo>
                  <a:lnTo>
                    <a:pt x="150" y="6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3"/>
            <p:cNvSpPr/>
            <p:nvPr/>
          </p:nvSpPr>
          <p:spPr>
            <a:xfrm>
              <a:off x="2069280" y="2335680"/>
              <a:ext cx="706680" cy="934560"/>
            </a:xfrm>
            <a:custGeom>
              <a:avLst/>
              <a:gdLst>
                <a:gd name="textAreaLeft" fmla="*/ 0 w 706680"/>
                <a:gd name="textAreaRight" fmla="*/ 706680 w 706680"/>
                <a:gd name="textAreaTop" fmla="*/ 0 h 934560"/>
                <a:gd name="textAreaBottom" fmla="*/ 934920 h 934560"/>
              </a:gdLst>
              <a:ahLst/>
              <a:rect l="textAreaLeft" t="textAreaTop" r="textAreaRight" b="textAreaBottom"/>
              <a:pathLst>
                <a:path w="778" h="1212">
                  <a:moveTo>
                    <a:pt x="328" y="81"/>
                  </a:moveTo>
                  <a:lnTo>
                    <a:pt x="306" y="113"/>
                  </a:lnTo>
                  <a:lnTo>
                    <a:pt x="314" y="100"/>
                  </a:lnTo>
                  <a:lnTo>
                    <a:pt x="276" y="101"/>
                  </a:lnTo>
                  <a:lnTo>
                    <a:pt x="230" y="160"/>
                  </a:lnTo>
                  <a:lnTo>
                    <a:pt x="222" y="214"/>
                  </a:lnTo>
                  <a:lnTo>
                    <a:pt x="150" y="282"/>
                  </a:lnTo>
                  <a:lnTo>
                    <a:pt x="142" y="323"/>
                  </a:lnTo>
                  <a:lnTo>
                    <a:pt x="130" y="287"/>
                  </a:lnTo>
                  <a:lnTo>
                    <a:pt x="116" y="269"/>
                  </a:lnTo>
                  <a:lnTo>
                    <a:pt x="117" y="325"/>
                  </a:lnTo>
                  <a:lnTo>
                    <a:pt x="94" y="343"/>
                  </a:lnTo>
                  <a:lnTo>
                    <a:pt x="78" y="374"/>
                  </a:lnTo>
                  <a:lnTo>
                    <a:pt x="96" y="405"/>
                  </a:lnTo>
                  <a:lnTo>
                    <a:pt x="111" y="471"/>
                  </a:lnTo>
                  <a:lnTo>
                    <a:pt x="96" y="502"/>
                  </a:lnTo>
                  <a:lnTo>
                    <a:pt x="101" y="556"/>
                  </a:lnTo>
                  <a:lnTo>
                    <a:pt x="105" y="612"/>
                  </a:lnTo>
                  <a:lnTo>
                    <a:pt x="115" y="622"/>
                  </a:lnTo>
                  <a:lnTo>
                    <a:pt x="73" y="704"/>
                  </a:lnTo>
                  <a:lnTo>
                    <a:pt x="33" y="720"/>
                  </a:lnTo>
                  <a:lnTo>
                    <a:pt x="20" y="760"/>
                  </a:lnTo>
                  <a:lnTo>
                    <a:pt x="0" y="774"/>
                  </a:lnTo>
                  <a:lnTo>
                    <a:pt x="6" y="798"/>
                  </a:lnTo>
                  <a:lnTo>
                    <a:pt x="58" y="838"/>
                  </a:lnTo>
                  <a:lnTo>
                    <a:pt x="97" y="876"/>
                  </a:lnTo>
                  <a:lnTo>
                    <a:pt x="160" y="874"/>
                  </a:lnTo>
                  <a:lnTo>
                    <a:pt x="232" y="911"/>
                  </a:lnTo>
                  <a:lnTo>
                    <a:pt x="236" y="906"/>
                  </a:lnTo>
                  <a:lnTo>
                    <a:pt x="273" y="942"/>
                  </a:lnTo>
                  <a:lnTo>
                    <a:pt x="309" y="979"/>
                  </a:lnTo>
                  <a:lnTo>
                    <a:pt x="359" y="1036"/>
                  </a:lnTo>
                  <a:lnTo>
                    <a:pt x="371" y="1069"/>
                  </a:lnTo>
                  <a:lnTo>
                    <a:pt x="452" y="1070"/>
                  </a:lnTo>
                  <a:lnTo>
                    <a:pt x="500" y="1074"/>
                  </a:lnTo>
                  <a:lnTo>
                    <a:pt x="566" y="1095"/>
                  </a:lnTo>
                  <a:lnTo>
                    <a:pt x="541" y="1184"/>
                  </a:lnTo>
                  <a:lnTo>
                    <a:pt x="582" y="1212"/>
                  </a:lnTo>
                  <a:lnTo>
                    <a:pt x="596" y="1109"/>
                  </a:lnTo>
                  <a:lnTo>
                    <a:pt x="612" y="1007"/>
                  </a:lnTo>
                  <a:lnTo>
                    <a:pt x="585" y="930"/>
                  </a:lnTo>
                  <a:lnTo>
                    <a:pt x="570" y="861"/>
                  </a:lnTo>
                  <a:lnTo>
                    <a:pt x="617" y="857"/>
                  </a:lnTo>
                  <a:lnTo>
                    <a:pt x="628" y="841"/>
                  </a:lnTo>
                  <a:lnTo>
                    <a:pt x="593" y="826"/>
                  </a:lnTo>
                  <a:lnTo>
                    <a:pt x="586" y="778"/>
                  </a:lnTo>
                  <a:lnTo>
                    <a:pt x="640" y="778"/>
                  </a:lnTo>
                  <a:lnTo>
                    <a:pt x="695" y="778"/>
                  </a:lnTo>
                  <a:lnTo>
                    <a:pt x="689" y="766"/>
                  </a:lnTo>
                  <a:lnTo>
                    <a:pt x="706" y="774"/>
                  </a:lnTo>
                  <a:lnTo>
                    <a:pt x="740" y="749"/>
                  </a:lnTo>
                  <a:lnTo>
                    <a:pt x="764" y="809"/>
                  </a:lnTo>
                  <a:lnTo>
                    <a:pt x="778" y="814"/>
                  </a:lnTo>
                  <a:lnTo>
                    <a:pt x="763" y="755"/>
                  </a:lnTo>
                  <a:lnTo>
                    <a:pt x="726" y="699"/>
                  </a:lnTo>
                  <a:lnTo>
                    <a:pt x="747" y="664"/>
                  </a:lnTo>
                  <a:lnTo>
                    <a:pt x="717" y="573"/>
                  </a:lnTo>
                  <a:lnTo>
                    <a:pt x="732" y="511"/>
                  </a:lnTo>
                  <a:lnTo>
                    <a:pt x="748" y="450"/>
                  </a:lnTo>
                  <a:lnTo>
                    <a:pt x="691" y="453"/>
                  </a:lnTo>
                  <a:lnTo>
                    <a:pt x="636" y="457"/>
                  </a:lnTo>
                  <a:lnTo>
                    <a:pt x="577" y="393"/>
                  </a:lnTo>
                  <a:lnTo>
                    <a:pt x="528" y="390"/>
                  </a:lnTo>
                  <a:lnTo>
                    <a:pt x="478" y="388"/>
                  </a:lnTo>
                  <a:lnTo>
                    <a:pt x="432" y="362"/>
                  </a:lnTo>
                  <a:lnTo>
                    <a:pt x="434" y="316"/>
                  </a:lnTo>
                  <a:lnTo>
                    <a:pt x="401" y="234"/>
                  </a:lnTo>
                  <a:lnTo>
                    <a:pt x="375" y="233"/>
                  </a:lnTo>
                  <a:lnTo>
                    <a:pt x="402" y="171"/>
                  </a:lnTo>
                  <a:lnTo>
                    <a:pt x="439" y="110"/>
                  </a:lnTo>
                  <a:lnTo>
                    <a:pt x="475" y="50"/>
                  </a:lnTo>
                  <a:lnTo>
                    <a:pt x="518" y="36"/>
                  </a:lnTo>
                  <a:lnTo>
                    <a:pt x="525" y="0"/>
                  </a:lnTo>
                  <a:lnTo>
                    <a:pt x="485" y="5"/>
                  </a:lnTo>
                  <a:lnTo>
                    <a:pt x="424" y="42"/>
                  </a:lnTo>
                  <a:lnTo>
                    <a:pt x="365" y="78"/>
                  </a:lnTo>
                  <a:lnTo>
                    <a:pt x="328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4"/>
            <p:cNvSpPr/>
            <p:nvPr/>
          </p:nvSpPr>
          <p:spPr>
            <a:xfrm>
              <a:off x="3105360" y="2553480"/>
              <a:ext cx="275040" cy="40320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308" h="527">
                  <a:moveTo>
                    <a:pt x="248" y="379"/>
                  </a:moveTo>
                  <a:lnTo>
                    <a:pt x="215" y="339"/>
                  </a:lnTo>
                  <a:lnTo>
                    <a:pt x="219" y="275"/>
                  </a:lnTo>
                  <a:lnTo>
                    <a:pt x="250" y="260"/>
                  </a:lnTo>
                  <a:lnTo>
                    <a:pt x="262" y="223"/>
                  </a:lnTo>
                  <a:lnTo>
                    <a:pt x="259" y="166"/>
                  </a:lnTo>
                  <a:lnTo>
                    <a:pt x="190" y="122"/>
                  </a:lnTo>
                  <a:lnTo>
                    <a:pt x="177" y="148"/>
                  </a:lnTo>
                  <a:lnTo>
                    <a:pt x="182" y="77"/>
                  </a:lnTo>
                  <a:lnTo>
                    <a:pt x="144" y="45"/>
                  </a:lnTo>
                  <a:lnTo>
                    <a:pt x="107" y="13"/>
                  </a:lnTo>
                  <a:lnTo>
                    <a:pt x="121" y="24"/>
                  </a:lnTo>
                  <a:lnTo>
                    <a:pt x="94" y="0"/>
                  </a:lnTo>
                  <a:lnTo>
                    <a:pt x="103" y="15"/>
                  </a:lnTo>
                  <a:lnTo>
                    <a:pt x="44" y="73"/>
                  </a:lnTo>
                  <a:lnTo>
                    <a:pt x="70" y="103"/>
                  </a:lnTo>
                  <a:lnTo>
                    <a:pt x="24" y="132"/>
                  </a:lnTo>
                  <a:lnTo>
                    <a:pt x="0" y="186"/>
                  </a:lnTo>
                  <a:lnTo>
                    <a:pt x="37" y="244"/>
                  </a:lnTo>
                  <a:lnTo>
                    <a:pt x="74" y="242"/>
                  </a:lnTo>
                  <a:lnTo>
                    <a:pt x="78" y="283"/>
                  </a:lnTo>
                  <a:lnTo>
                    <a:pt x="107" y="320"/>
                  </a:lnTo>
                  <a:lnTo>
                    <a:pt x="89" y="387"/>
                  </a:lnTo>
                  <a:lnTo>
                    <a:pt x="96" y="473"/>
                  </a:lnTo>
                  <a:lnTo>
                    <a:pt x="139" y="527"/>
                  </a:lnTo>
                  <a:lnTo>
                    <a:pt x="178" y="525"/>
                  </a:lnTo>
                  <a:lnTo>
                    <a:pt x="242" y="495"/>
                  </a:lnTo>
                  <a:lnTo>
                    <a:pt x="308" y="481"/>
                  </a:lnTo>
                  <a:lnTo>
                    <a:pt x="278" y="430"/>
                  </a:lnTo>
                  <a:lnTo>
                    <a:pt x="248" y="37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5"/>
            <p:cNvSpPr/>
            <p:nvPr/>
          </p:nvSpPr>
          <p:spPr>
            <a:xfrm>
              <a:off x="3293640" y="2700000"/>
              <a:ext cx="228240" cy="2242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251" h="298">
                  <a:moveTo>
                    <a:pt x="33" y="187"/>
                  </a:moveTo>
                  <a:lnTo>
                    <a:pt x="0" y="147"/>
                  </a:lnTo>
                  <a:lnTo>
                    <a:pt x="4" y="83"/>
                  </a:lnTo>
                  <a:lnTo>
                    <a:pt x="35" y="68"/>
                  </a:lnTo>
                  <a:lnTo>
                    <a:pt x="47" y="31"/>
                  </a:lnTo>
                  <a:lnTo>
                    <a:pt x="59" y="2"/>
                  </a:lnTo>
                  <a:lnTo>
                    <a:pt x="135" y="8"/>
                  </a:lnTo>
                  <a:lnTo>
                    <a:pt x="192" y="5"/>
                  </a:lnTo>
                  <a:lnTo>
                    <a:pt x="190" y="0"/>
                  </a:lnTo>
                  <a:lnTo>
                    <a:pt x="251" y="6"/>
                  </a:lnTo>
                  <a:lnTo>
                    <a:pt x="246" y="40"/>
                  </a:lnTo>
                  <a:lnTo>
                    <a:pt x="226" y="102"/>
                  </a:lnTo>
                  <a:lnTo>
                    <a:pt x="250" y="191"/>
                  </a:lnTo>
                  <a:lnTo>
                    <a:pt x="214" y="262"/>
                  </a:lnTo>
                  <a:lnTo>
                    <a:pt x="176" y="248"/>
                  </a:lnTo>
                  <a:lnTo>
                    <a:pt x="118" y="261"/>
                  </a:lnTo>
                  <a:lnTo>
                    <a:pt x="122" y="298"/>
                  </a:lnTo>
                  <a:lnTo>
                    <a:pt x="93" y="289"/>
                  </a:lnTo>
                  <a:lnTo>
                    <a:pt x="63" y="238"/>
                  </a:lnTo>
                  <a:lnTo>
                    <a:pt x="33" y="187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6"/>
            <p:cNvSpPr/>
            <p:nvPr/>
          </p:nvSpPr>
          <p:spPr>
            <a:xfrm>
              <a:off x="3087000" y="2426760"/>
              <a:ext cx="53280" cy="385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8" h="50">
                  <a:moveTo>
                    <a:pt x="17" y="2"/>
                  </a:moveTo>
                  <a:lnTo>
                    <a:pt x="58" y="0"/>
                  </a:lnTo>
                  <a:lnTo>
                    <a:pt x="39" y="50"/>
                  </a:lnTo>
                  <a:lnTo>
                    <a:pt x="0" y="45"/>
                  </a:lnTo>
                  <a:lnTo>
                    <a:pt x="25" y="17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7"/>
            <p:cNvSpPr/>
            <p:nvPr/>
          </p:nvSpPr>
          <p:spPr>
            <a:xfrm>
              <a:off x="2413080" y="2347560"/>
              <a:ext cx="785520" cy="63900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39000"/>
                <a:gd name="textAreaBottom" fmla="*/ 639360 h 639000"/>
              </a:gdLst>
              <a:ahLst/>
              <a:rect l="textAreaLeft" t="textAreaTop" r="textAreaRight" b="textAreaBottom"/>
              <a:pathLst>
                <a:path w="870" h="836">
                  <a:moveTo>
                    <a:pt x="723" y="182"/>
                  </a:moveTo>
                  <a:lnTo>
                    <a:pt x="718" y="171"/>
                  </a:lnTo>
                  <a:lnTo>
                    <a:pt x="704" y="154"/>
                  </a:lnTo>
                  <a:lnTo>
                    <a:pt x="679" y="155"/>
                  </a:lnTo>
                  <a:lnTo>
                    <a:pt x="692" y="153"/>
                  </a:lnTo>
                  <a:lnTo>
                    <a:pt x="675" y="134"/>
                  </a:lnTo>
                  <a:lnTo>
                    <a:pt x="740" y="112"/>
                  </a:lnTo>
                  <a:lnTo>
                    <a:pt x="670" y="113"/>
                  </a:lnTo>
                  <a:lnTo>
                    <a:pt x="600" y="114"/>
                  </a:lnTo>
                  <a:lnTo>
                    <a:pt x="625" y="123"/>
                  </a:lnTo>
                  <a:lnTo>
                    <a:pt x="558" y="152"/>
                  </a:lnTo>
                  <a:lnTo>
                    <a:pt x="472" y="123"/>
                  </a:lnTo>
                  <a:lnTo>
                    <a:pt x="411" y="123"/>
                  </a:lnTo>
                  <a:lnTo>
                    <a:pt x="351" y="125"/>
                  </a:lnTo>
                  <a:lnTo>
                    <a:pt x="328" y="78"/>
                  </a:lnTo>
                  <a:lnTo>
                    <a:pt x="258" y="50"/>
                  </a:lnTo>
                  <a:lnTo>
                    <a:pt x="231" y="0"/>
                  </a:lnTo>
                  <a:lnTo>
                    <a:pt x="213" y="30"/>
                  </a:lnTo>
                  <a:lnTo>
                    <a:pt x="244" y="50"/>
                  </a:lnTo>
                  <a:lnTo>
                    <a:pt x="229" y="51"/>
                  </a:lnTo>
                  <a:lnTo>
                    <a:pt x="143" y="87"/>
                  </a:lnTo>
                  <a:lnTo>
                    <a:pt x="131" y="101"/>
                  </a:lnTo>
                  <a:lnTo>
                    <a:pt x="148" y="193"/>
                  </a:lnTo>
                  <a:lnTo>
                    <a:pt x="119" y="229"/>
                  </a:lnTo>
                  <a:lnTo>
                    <a:pt x="84" y="179"/>
                  </a:lnTo>
                  <a:lnTo>
                    <a:pt x="119" y="116"/>
                  </a:lnTo>
                  <a:lnTo>
                    <a:pt x="100" y="57"/>
                  </a:lnTo>
                  <a:lnTo>
                    <a:pt x="143" y="24"/>
                  </a:lnTo>
                  <a:lnTo>
                    <a:pt x="100" y="38"/>
                  </a:lnTo>
                  <a:lnTo>
                    <a:pt x="64" y="98"/>
                  </a:lnTo>
                  <a:lnTo>
                    <a:pt x="27" y="159"/>
                  </a:lnTo>
                  <a:lnTo>
                    <a:pt x="0" y="221"/>
                  </a:lnTo>
                  <a:lnTo>
                    <a:pt x="26" y="222"/>
                  </a:lnTo>
                  <a:lnTo>
                    <a:pt x="59" y="304"/>
                  </a:lnTo>
                  <a:lnTo>
                    <a:pt x="57" y="350"/>
                  </a:lnTo>
                  <a:lnTo>
                    <a:pt x="103" y="376"/>
                  </a:lnTo>
                  <a:lnTo>
                    <a:pt x="153" y="378"/>
                  </a:lnTo>
                  <a:lnTo>
                    <a:pt x="202" y="381"/>
                  </a:lnTo>
                  <a:lnTo>
                    <a:pt x="261" y="445"/>
                  </a:lnTo>
                  <a:lnTo>
                    <a:pt x="316" y="441"/>
                  </a:lnTo>
                  <a:lnTo>
                    <a:pt x="373" y="438"/>
                  </a:lnTo>
                  <a:lnTo>
                    <a:pt x="357" y="499"/>
                  </a:lnTo>
                  <a:lnTo>
                    <a:pt x="342" y="561"/>
                  </a:lnTo>
                  <a:lnTo>
                    <a:pt x="372" y="652"/>
                  </a:lnTo>
                  <a:lnTo>
                    <a:pt x="351" y="687"/>
                  </a:lnTo>
                  <a:lnTo>
                    <a:pt x="388" y="743"/>
                  </a:lnTo>
                  <a:lnTo>
                    <a:pt x="403" y="802"/>
                  </a:lnTo>
                  <a:lnTo>
                    <a:pt x="454" y="834"/>
                  </a:lnTo>
                  <a:lnTo>
                    <a:pt x="490" y="830"/>
                  </a:lnTo>
                  <a:lnTo>
                    <a:pt x="497" y="836"/>
                  </a:lnTo>
                  <a:lnTo>
                    <a:pt x="563" y="786"/>
                  </a:lnTo>
                  <a:lnTo>
                    <a:pt x="619" y="735"/>
                  </a:lnTo>
                  <a:lnTo>
                    <a:pt x="631" y="714"/>
                  </a:lnTo>
                  <a:lnTo>
                    <a:pt x="589" y="700"/>
                  </a:lnTo>
                  <a:lnTo>
                    <a:pt x="570" y="618"/>
                  </a:lnTo>
                  <a:lnTo>
                    <a:pt x="549" y="580"/>
                  </a:lnTo>
                  <a:lnTo>
                    <a:pt x="614" y="603"/>
                  </a:lnTo>
                  <a:lnTo>
                    <a:pt x="672" y="622"/>
                  </a:lnTo>
                  <a:lnTo>
                    <a:pt x="684" y="597"/>
                  </a:lnTo>
                  <a:lnTo>
                    <a:pt x="737" y="574"/>
                  </a:lnTo>
                  <a:lnTo>
                    <a:pt x="791" y="552"/>
                  </a:lnTo>
                  <a:lnTo>
                    <a:pt x="809" y="512"/>
                  </a:lnTo>
                  <a:lnTo>
                    <a:pt x="804" y="511"/>
                  </a:lnTo>
                  <a:lnTo>
                    <a:pt x="767" y="453"/>
                  </a:lnTo>
                  <a:lnTo>
                    <a:pt x="791" y="399"/>
                  </a:lnTo>
                  <a:lnTo>
                    <a:pt x="837" y="370"/>
                  </a:lnTo>
                  <a:lnTo>
                    <a:pt x="811" y="340"/>
                  </a:lnTo>
                  <a:lnTo>
                    <a:pt x="870" y="282"/>
                  </a:lnTo>
                  <a:lnTo>
                    <a:pt x="861" y="267"/>
                  </a:lnTo>
                  <a:lnTo>
                    <a:pt x="796" y="265"/>
                  </a:lnTo>
                  <a:lnTo>
                    <a:pt x="755" y="265"/>
                  </a:lnTo>
                  <a:lnTo>
                    <a:pt x="771" y="261"/>
                  </a:lnTo>
                  <a:lnTo>
                    <a:pt x="792" y="227"/>
                  </a:lnTo>
                  <a:lnTo>
                    <a:pt x="809" y="214"/>
                  </a:lnTo>
                  <a:lnTo>
                    <a:pt x="769" y="176"/>
                  </a:lnTo>
                  <a:lnTo>
                    <a:pt x="746" y="179"/>
                  </a:lnTo>
                  <a:lnTo>
                    <a:pt x="721" y="165"/>
                  </a:lnTo>
                  <a:lnTo>
                    <a:pt x="723" y="18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8"/>
            <p:cNvSpPr/>
            <p:nvPr/>
          </p:nvSpPr>
          <p:spPr>
            <a:xfrm>
              <a:off x="2939760" y="2408400"/>
              <a:ext cx="33480" cy="6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" h="7">
                  <a:moveTo>
                    <a:pt x="31" y="7"/>
                  </a:moveTo>
                  <a:lnTo>
                    <a:pt x="0" y="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4"/>
            <p:cNvSpPr/>
            <p:nvPr/>
          </p:nvSpPr>
          <p:spPr>
            <a:xfrm>
              <a:off x="2954880" y="1993320"/>
              <a:ext cx="8280" cy="46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" h="5">
                  <a:moveTo>
                    <a:pt x="9" y="1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8"/>
            <p:cNvSpPr/>
            <p:nvPr/>
          </p:nvSpPr>
          <p:spPr>
            <a:xfrm>
              <a:off x="2958480" y="199836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2">
                  <a:moveTo>
                    <a:pt x="4" y="1"/>
                  </a:move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0"/>
            <p:cNvSpPr/>
            <p:nvPr/>
          </p:nvSpPr>
          <p:spPr>
            <a:xfrm>
              <a:off x="2541600" y="1913760"/>
              <a:ext cx="206280" cy="1263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27" h="164">
                  <a:moveTo>
                    <a:pt x="19" y="11"/>
                  </a:moveTo>
                  <a:lnTo>
                    <a:pt x="8" y="63"/>
                  </a:lnTo>
                  <a:lnTo>
                    <a:pt x="0" y="89"/>
                  </a:lnTo>
                  <a:lnTo>
                    <a:pt x="4" y="132"/>
                  </a:lnTo>
                  <a:lnTo>
                    <a:pt x="25" y="164"/>
                  </a:lnTo>
                  <a:lnTo>
                    <a:pt x="52" y="125"/>
                  </a:lnTo>
                  <a:lnTo>
                    <a:pt x="84" y="108"/>
                  </a:lnTo>
                  <a:lnTo>
                    <a:pt x="116" y="110"/>
                  </a:lnTo>
                  <a:lnTo>
                    <a:pt x="198" y="115"/>
                  </a:lnTo>
                  <a:lnTo>
                    <a:pt x="227" y="88"/>
                  </a:lnTo>
                  <a:lnTo>
                    <a:pt x="155" y="55"/>
                  </a:lnTo>
                  <a:lnTo>
                    <a:pt x="169" y="40"/>
                  </a:lnTo>
                  <a:lnTo>
                    <a:pt x="137" y="24"/>
                  </a:lnTo>
                  <a:lnTo>
                    <a:pt x="48" y="0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41"/>
            <p:cNvSpPr/>
            <p:nvPr/>
          </p:nvSpPr>
          <p:spPr>
            <a:xfrm>
              <a:off x="2396160" y="1913760"/>
              <a:ext cx="166680" cy="99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83" h="131">
                  <a:moveTo>
                    <a:pt x="183" y="10"/>
                  </a:moveTo>
                  <a:lnTo>
                    <a:pt x="172" y="62"/>
                  </a:lnTo>
                  <a:lnTo>
                    <a:pt x="164" y="88"/>
                  </a:lnTo>
                  <a:lnTo>
                    <a:pt x="168" y="131"/>
                  </a:lnTo>
                  <a:lnTo>
                    <a:pt x="103" y="127"/>
                  </a:lnTo>
                  <a:lnTo>
                    <a:pt x="39" y="125"/>
                  </a:lnTo>
                  <a:lnTo>
                    <a:pt x="0" y="102"/>
                  </a:lnTo>
                  <a:lnTo>
                    <a:pt x="33" y="90"/>
                  </a:lnTo>
                  <a:lnTo>
                    <a:pt x="84" y="93"/>
                  </a:lnTo>
                  <a:lnTo>
                    <a:pt x="136" y="95"/>
                  </a:lnTo>
                  <a:lnTo>
                    <a:pt x="115" y="41"/>
                  </a:lnTo>
                  <a:lnTo>
                    <a:pt x="88" y="16"/>
                  </a:lnTo>
                  <a:lnTo>
                    <a:pt x="82" y="0"/>
                  </a:lnTo>
                  <a:lnTo>
                    <a:pt x="145" y="6"/>
                  </a:lnTo>
                  <a:lnTo>
                    <a:pt x="183" y="1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44"/>
            <p:cNvSpPr/>
            <p:nvPr/>
          </p:nvSpPr>
          <p:spPr>
            <a:xfrm>
              <a:off x="3143520" y="2237760"/>
              <a:ext cx="8280" cy="2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5">
                  <a:moveTo>
                    <a:pt x="8" y="25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5"/>
            <p:cNvSpPr/>
            <p:nvPr/>
          </p:nvSpPr>
          <p:spPr>
            <a:xfrm>
              <a:off x="1690920" y="2408400"/>
              <a:ext cx="191520" cy="1684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09" h="222">
                  <a:moveTo>
                    <a:pt x="45" y="110"/>
                  </a:moveTo>
                  <a:lnTo>
                    <a:pt x="0" y="52"/>
                  </a:lnTo>
                  <a:lnTo>
                    <a:pt x="10" y="19"/>
                  </a:lnTo>
                  <a:lnTo>
                    <a:pt x="8" y="9"/>
                  </a:lnTo>
                  <a:lnTo>
                    <a:pt x="17" y="0"/>
                  </a:lnTo>
                  <a:lnTo>
                    <a:pt x="108" y="18"/>
                  </a:lnTo>
                  <a:lnTo>
                    <a:pt x="146" y="11"/>
                  </a:lnTo>
                  <a:lnTo>
                    <a:pt x="177" y="60"/>
                  </a:lnTo>
                  <a:lnTo>
                    <a:pt x="209" y="109"/>
                  </a:lnTo>
                  <a:lnTo>
                    <a:pt x="185" y="116"/>
                  </a:lnTo>
                  <a:lnTo>
                    <a:pt x="188" y="165"/>
                  </a:lnTo>
                  <a:lnTo>
                    <a:pt x="183" y="222"/>
                  </a:lnTo>
                  <a:lnTo>
                    <a:pt x="151" y="173"/>
                  </a:lnTo>
                  <a:lnTo>
                    <a:pt x="151" y="193"/>
                  </a:lnTo>
                  <a:lnTo>
                    <a:pt x="138" y="171"/>
                  </a:lnTo>
                  <a:lnTo>
                    <a:pt x="120" y="129"/>
                  </a:lnTo>
                  <a:lnTo>
                    <a:pt x="76" y="95"/>
                  </a:lnTo>
                  <a:lnTo>
                    <a:pt x="39" y="60"/>
                  </a:lnTo>
                  <a:lnTo>
                    <a:pt x="54" y="97"/>
                  </a:lnTo>
                  <a:lnTo>
                    <a:pt x="45" y="11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2621520" y="2323800"/>
              <a:ext cx="10080" cy="82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14">
                  <a:moveTo>
                    <a:pt x="2" y="0"/>
                  </a:moveTo>
                  <a:lnTo>
                    <a:pt x="0" y="2"/>
                  </a:lnTo>
                  <a:lnTo>
                    <a:pt x="1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3213720" y="2285280"/>
              <a:ext cx="21240" cy="115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4" h="18">
                  <a:moveTo>
                    <a:pt x="13" y="14"/>
                  </a:moveTo>
                  <a:lnTo>
                    <a:pt x="3" y="18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3126960" y="2158560"/>
              <a:ext cx="13320" cy="16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" h="28">
                  <a:moveTo>
                    <a:pt x="13" y="19"/>
                  </a:moveTo>
                  <a:lnTo>
                    <a:pt x="5" y="28"/>
                  </a:lnTo>
                  <a:lnTo>
                    <a:pt x="0" y="1"/>
                  </a:lnTo>
                  <a:lnTo>
                    <a:pt x="10" y="0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1461960" y="2219400"/>
              <a:ext cx="135360" cy="655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44" h="93">
                  <a:moveTo>
                    <a:pt x="143" y="74"/>
                  </a:moveTo>
                  <a:lnTo>
                    <a:pt x="128" y="93"/>
                  </a:lnTo>
                  <a:lnTo>
                    <a:pt x="95" y="86"/>
                  </a:lnTo>
                  <a:lnTo>
                    <a:pt x="47" y="68"/>
                  </a:lnTo>
                  <a:lnTo>
                    <a:pt x="0" y="50"/>
                  </a:lnTo>
                  <a:lnTo>
                    <a:pt x="53" y="0"/>
                  </a:lnTo>
                  <a:lnTo>
                    <a:pt x="92" y="30"/>
                  </a:lnTo>
                  <a:lnTo>
                    <a:pt x="144" y="39"/>
                  </a:lnTo>
                  <a:lnTo>
                    <a:pt x="143" y="7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0"/>
            <p:cNvSpPr/>
            <p:nvPr/>
          </p:nvSpPr>
          <p:spPr>
            <a:xfrm>
              <a:off x="3096720" y="2347560"/>
              <a:ext cx="8280" cy="115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3" h="18">
                  <a:moveTo>
                    <a:pt x="13" y="9"/>
                  </a:moveTo>
                  <a:lnTo>
                    <a:pt x="13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1"/>
            <p:cNvSpPr/>
            <p:nvPr/>
          </p:nvSpPr>
          <p:spPr>
            <a:xfrm>
              <a:off x="3105360" y="2337120"/>
              <a:ext cx="3240" cy="100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3">
                  <a:moveTo>
                    <a:pt x="1" y="2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2"/>
            <p:cNvSpPr/>
            <p:nvPr/>
          </p:nvSpPr>
          <p:spPr>
            <a:xfrm>
              <a:off x="1508760" y="2138400"/>
              <a:ext cx="363240" cy="16164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401" h="213">
                  <a:moveTo>
                    <a:pt x="216" y="145"/>
                  </a:moveTo>
                  <a:lnTo>
                    <a:pt x="192" y="153"/>
                  </a:lnTo>
                  <a:lnTo>
                    <a:pt x="161" y="169"/>
                  </a:lnTo>
                  <a:lnTo>
                    <a:pt x="138" y="213"/>
                  </a:lnTo>
                  <a:lnTo>
                    <a:pt x="122" y="213"/>
                  </a:lnTo>
                  <a:lnTo>
                    <a:pt x="115" y="187"/>
                  </a:lnTo>
                  <a:lnTo>
                    <a:pt x="90" y="181"/>
                  </a:lnTo>
                  <a:lnTo>
                    <a:pt x="91" y="146"/>
                  </a:lnTo>
                  <a:lnTo>
                    <a:pt x="39" y="137"/>
                  </a:lnTo>
                  <a:lnTo>
                    <a:pt x="0" y="107"/>
                  </a:lnTo>
                  <a:lnTo>
                    <a:pt x="38" y="48"/>
                  </a:lnTo>
                  <a:lnTo>
                    <a:pt x="82" y="13"/>
                  </a:lnTo>
                  <a:lnTo>
                    <a:pt x="90" y="12"/>
                  </a:lnTo>
                  <a:lnTo>
                    <a:pt x="152" y="6"/>
                  </a:lnTo>
                  <a:lnTo>
                    <a:pt x="214" y="0"/>
                  </a:lnTo>
                  <a:lnTo>
                    <a:pt x="265" y="2"/>
                  </a:lnTo>
                  <a:lnTo>
                    <a:pt x="317" y="3"/>
                  </a:lnTo>
                  <a:lnTo>
                    <a:pt x="360" y="32"/>
                  </a:lnTo>
                  <a:lnTo>
                    <a:pt x="346" y="28"/>
                  </a:lnTo>
                  <a:lnTo>
                    <a:pt x="355" y="42"/>
                  </a:lnTo>
                  <a:lnTo>
                    <a:pt x="375" y="42"/>
                  </a:lnTo>
                  <a:lnTo>
                    <a:pt x="401" y="66"/>
                  </a:lnTo>
                  <a:lnTo>
                    <a:pt x="349" y="75"/>
                  </a:lnTo>
                  <a:lnTo>
                    <a:pt x="295" y="83"/>
                  </a:lnTo>
                  <a:lnTo>
                    <a:pt x="216" y="14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3"/>
            <p:cNvSpPr/>
            <p:nvPr/>
          </p:nvSpPr>
          <p:spPr>
            <a:xfrm>
              <a:off x="3140280" y="2195640"/>
              <a:ext cx="18000" cy="2160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5" h="26">
                  <a:moveTo>
                    <a:pt x="25" y="22"/>
                  </a:moveTo>
                  <a:lnTo>
                    <a:pt x="0" y="0"/>
                  </a:lnTo>
                  <a:lnTo>
                    <a:pt x="25" y="26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4"/>
            <p:cNvSpPr/>
            <p:nvPr/>
          </p:nvSpPr>
          <p:spPr>
            <a:xfrm>
              <a:off x="1600200" y="2187360"/>
              <a:ext cx="271800" cy="23580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304" h="306">
                  <a:moveTo>
                    <a:pt x="119" y="79"/>
                  </a:moveTo>
                  <a:lnTo>
                    <a:pt x="95" y="87"/>
                  </a:lnTo>
                  <a:lnTo>
                    <a:pt x="64" y="103"/>
                  </a:lnTo>
                  <a:lnTo>
                    <a:pt x="41" y="147"/>
                  </a:lnTo>
                  <a:lnTo>
                    <a:pt x="25" y="147"/>
                  </a:lnTo>
                  <a:lnTo>
                    <a:pt x="0" y="153"/>
                  </a:lnTo>
                  <a:lnTo>
                    <a:pt x="58" y="220"/>
                  </a:lnTo>
                  <a:lnTo>
                    <a:pt x="118" y="288"/>
                  </a:lnTo>
                  <a:lnTo>
                    <a:pt x="209" y="306"/>
                  </a:lnTo>
                  <a:lnTo>
                    <a:pt x="247" y="299"/>
                  </a:lnTo>
                  <a:lnTo>
                    <a:pt x="247" y="251"/>
                  </a:lnTo>
                  <a:lnTo>
                    <a:pt x="249" y="214"/>
                  </a:lnTo>
                  <a:lnTo>
                    <a:pt x="263" y="170"/>
                  </a:lnTo>
                  <a:lnTo>
                    <a:pt x="267" y="185"/>
                  </a:lnTo>
                  <a:lnTo>
                    <a:pt x="277" y="127"/>
                  </a:lnTo>
                  <a:lnTo>
                    <a:pt x="286" y="70"/>
                  </a:lnTo>
                  <a:lnTo>
                    <a:pt x="287" y="14"/>
                  </a:lnTo>
                  <a:lnTo>
                    <a:pt x="304" y="0"/>
                  </a:lnTo>
                  <a:lnTo>
                    <a:pt x="252" y="9"/>
                  </a:lnTo>
                  <a:lnTo>
                    <a:pt x="198" y="17"/>
                  </a:lnTo>
                  <a:lnTo>
                    <a:pt x="119" y="7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5"/>
            <p:cNvSpPr/>
            <p:nvPr/>
          </p:nvSpPr>
          <p:spPr>
            <a:xfrm>
              <a:off x="3126960" y="2281680"/>
              <a:ext cx="13320" cy="32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" h="16">
                  <a:moveTo>
                    <a:pt x="5" y="16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6"/>
            <p:cNvSpPr/>
            <p:nvPr/>
          </p:nvSpPr>
          <p:spPr>
            <a:xfrm>
              <a:off x="3068640" y="2064240"/>
              <a:ext cx="3240" cy="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7"/>
            <p:cNvSpPr/>
            <p:nvPr/>
          </p:nvSpPr>
          <p:spPr>
            <a:xfrm>
              <a:off x="3056760" y="2057040"/>
              <a:ext cx="11520" cy="68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12"/>
                  </a:moveTo>
                  <a:lnTo>
                    <a:pt x="0" y="0"/>
                  </a:lnTo>
                  <a:lnTo>
                    <a:pt x="12" y="1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8"/>
            <p:cNvSpPr/>
            <p:nvPr/>
          </p:nvSpPr>
          <p:spPr>
            <a:xfrm>
              <a:off x="3108600" y="2114640"/>
              <a:ext cx="12960" cy="8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3" h="18">
                  <a:moveTo>
                    <a:pt x="12" y="0"/>
                  </a:moveTo>
                  <a:lnTo>
                    <a:pt x="13" y="5"/>
                  </a:lnTo>
                  <a:lnTo>
                    <a:pt x="0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9"/>
            <p:cNvSpPr/>
            <p:nvPr/>
          </p:nvSpPr>
          <p:spPr>
            <a:xfrm>
              <a:off x="3043440" y="200160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" h="8">
                  <a:moveTo>
                    <a:pt x="13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0"/>
            <p:cNvSpPr/>
            <p:nvPr/>
          </p:nvSpPr>
          <p:spPr>
            <a:xfrm>
              <a:off x="3108600" y="2064240"/>
              <a:ext cx="12960" cy="8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11">
                  <a:moveTo>
                    <a:pt x="6" y="0"/>
                  </a:moveTo>
                  <a:lnTo>
                    <a:pt x="1" y="3"/>
                  </a:lnTo>
                  <a:lnTo>
                    <a:pt x="0" y="11"/>
                  </a:lnTo>
                  <a:lnTo>
                    <a:pt x="1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1"/>
            <p:cNvSpPr/>
            <p:nvPr/>
          </p:nvSpPr>
          <p:spPr>
            <a:xfrm>
              <a:off x="3121920" y="2034000"/>
              <a:ext cx="360" cy="97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8"/>
                  </a:moveTo>
                  <a:lnTo>
                    <a:pt x="5" y="10"/>
                  </a:lnTo>
                  <a:lnTo>
                    <a:pt x="0" y="2"/>
                  </a:lnTo>
                  <a:lnTo>
                    <a:pt x="1" y="3"/>
                  </a:lnTo>
                  <a:lnTo>
                    <a:pt x="0" y="0"/>
                  </a:lnTo>
                  <a:lnTo>
                    <a:pt x="9" y="7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2"/>
            <p:cNvSpPr/>
            <p:nvPr/>
          </p:nvSpPr>
          <p:spPr>
            <a:xfrm>
              <a:off x="1533600" y="1993320"/>
              <a:ext cx="69840" cy="14472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87" h="188">
                  <a:moveTo>
                    <a:pt x="52" y="154"/>
                  </a:moveTo>
                  <a:lnTo>
                    <a:pt x="19" y="188"/>
                  </a:lnTo>
                  <a:lnTo>
                    <a:pt x="0" y="188"/>
                  </a:lnTo>
                  <a:lnTo>
                    <a:pt x="11" y="118"/>
                  </a:lnTo>
                  <a:lnTo>
                    <a:pt x="22" y="48"/>
                  </a:lnTo>
                  <a:lnTo>
                    <a:pt x="81" y="0"/>
                  </a:lnTo>
                  <a:lnTo>
                    <a:pt x="87" y="10"/>
                  </a:lnTo>
                  <a:lnTo>
                    <a:pt x="70" y="81"/>
                  </a:lnTo>
                  <a:lnTo>
                    <a:pt x="52" y="15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3"/>
            <p:cNvSpPr/>
            <p:nvPr/>
          </p:nvSpPr>
          <p:spPr>
            <a:xfrm>
              <a:off x="1348920" y="2031840"/>
              <a:ext cx="233280" cy="22104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267" h="298">
                  <a:moveTo>
                    <a:pt x="25" y="264"/>
                  </a:moveTo>
                  <a:lnTo>
                    <a:pt x="0" y="240"/>
                  </a:lnTo>
                  <a:lnTo>
                    <a:pt x="7" y="187"/>
                  </a:lnTo>
                  <a:lnTo>
                    <a:pt x="45" y="128"/>
                  </a:lnTo>
                  <a:lnTo>
                    <a:pt x="131" y="117"/>
                  </a:lnTo>
                  <a:lnTo>
                    <a:pt x="84" y="47"/>
                  </a:lnTo>
                  <a:lnTo>
                    <a:pt x="104" y="42"/>
                  </a:lnTo>
                  <a:lnTo>
                    <a:pt x="109" y="0"/>
                  </a:lnTo>
                  <a:lnTo>
                    <a:pt x="169" y="0"/>
                  </a:lnTo>
                  <a:lnTo>
                    <a:pt x="227" y="0"/>
                  </a:lnTo>
                  <a:lnTo>
                    <a:pt x="216" y="70"/>
                  </a:lnTo>
                  <a:lnTo>
                    <a:pt x="205" y="140"/>
                  </a:lnTo>
                  <a:lnTo>
                    <a:pt x="224" y="140"/>
                  </a:lnTo>
                  <a:lnTo>
                    <a:pt x="247" y="144"/>
                  </a:lnTo>
                  <a:lnTo>
                    <a:pt x="267" y="154"/>
                  </a:lnTo>
                  <a:lnTo>
                    <a:pt x="223" y="189"/>
                  </a:lnTo>
                  <a:lnTo>
                    <a:pt x="185" y="248"/>
                  </a:lnTo>
                  <a:lnTo>
                    <a:pt x="132" y="298"/>
                  </a:lnTo>
                  <a:lnTo>
                    <a:pt x="78" y="281"/>
                  </a:lnTo>
                  <a:lnTo>
                    <a:pt x="25" y="26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4"/>
            <p:cNvSpPr/>
            <p:nvPr/>
          </p:nvSpPr>
          <p:spPr>
            <a:xfrm>
              <a:off x="2171160" y="1993320"/>
              <a:ext cx="119880" cy="3852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38520"/>
                <a:gd name="textAreaBottom" fmla="*/ 38520 h 38520"/>
              </a:gdLst>
              <a:ahLst/>
              <a:rect l="textAreaLeft" t="textAreaTop" r="textAreaRight" b="textAreaBottom"/>
              <a:pathLst>
                <a:path w="136" h="49">
                  <a:moveTo>
                    <a:pt x="52" y="0"/>
                  </a:moveTo>
                  <a:lnTo>
                    <a:pt x="0" y="17"/>
                  </a:lnTo>
                  <a:lnTo>
                    <a:pt x="73" y="49"/>
                  </a:lnTo>
                  <a:lnTo>
                    <a:pt x="136" y="4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5"/>
            <p:cNvSpPr/>
            <p:nvPr/>
          </p:nvSpPr>
          <p:spPr>
            <a:xfrm>
              <a:off x="2809800" y="1993320"/>
              <a:ext cx="91800" cy="320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2040"/>
                <a:gd name="textAreaBottom" fmla="*/ 32040 h 3204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20"/>
                  </a:moveTo>
                  <a:lnTo>
                    <a:pt x="95" y="24"/>
                  </a:lnTo>
                  <a:lnTo>
                    <a:pt x="26" y="39"/>
                  </a:lnTo>
                  <a:lnTo>
                    <a:pt x="0" y="31"/>
                  </a:lnTo>
                  <a:lnTo>
                    <a:pt x="9" y="0"/>
                  </a:lnTo>
                  <a:lnTo>
                    <a:pt x="100" y="2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6"/>
            <p:cNvSpPr/>
            <p:nvPr/>
          </p:nvSpPr>
          <p:spPr>
            <a:xfrm>
              <a:off x="2939760" y="2031840"/>
              <a:ext cx="18360" cy="18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" h="6">
                  <a:moveTo>
                    <a:pt x="20" y="4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7"/>
            <p:cNvSpPr/>
            <p:nvPr/>
          </p:nvSpPr>
          <p:spPr>
            <a:xfrm>
              <a:off x="179280" y="1197000"/>
              <a:ext cx="1536480" cy="1017000"/>
            </a:xfrm>
            <a:custGeom>
              <a:avLst/>
              <a:gdLst>
                <a:gd name="textAreaLeft" fmla="*/ 0 w 1536480"/>
                <a:gd name="textAreaRight" fmla="*/ 1536840 w 1536480"/>
                <a:gd name="textAreaTop" fmla="*/ 0 h 1017000"/>
                <a:gd name="textAreaBottom" fmla="*/ 1017360 h 1017000"/>
              </a:gdLst>
              <a:ahLst/>
              <a:rect l="textAreaLeft" t="textAreaTop" r="textAreaRight" b="textAreaBottom"/>
              <a:pathLst>
                <a:path w="1707" h="1325">
                  <a:moveTo>
                    <a:pt x="295" y="689"/>
                  </a:moveTo>
                  <a:lnTo>
                    <a:pt x="251" y="707"/>
                  </a:lnTo>
                  <a:lnTo>
                    <a:pt x="216" y="639"/>
                  </a:lnTo>
                  <a:lnTo>
                    <a:pt x="154" y="575"/>
                  </a:lnTo>
                  <a:lnTo>
                    <a:pt x="162" y="518"/>
                  </a:lnTo>
                  <a:lnTo>
                    <a:pt x="140" y="463"/>
                  </a:lnTo>
                  <a:lnTo>
                    <a:pt x="121" y="422"/>
                  </a:lnTo>
                  <a:lnTo>
                    <a:pt x="83" y="421"/>
                  </a:lnTo>
                  <a:lnTo>
                    <a:pt x="52" y="387"/>
                  </a:lnTo>
                  <a:lnTo>
                    <a:pt x="22" y="352"/>
                  </a:lnTo>
                  <a:lnTo>
                    <a:pt x="73" y="361"/>
                  </a:lnTo>
                  <a:lnTo>
                    <a:pt x="85" y="287"/>
                  </a:lnTo>
                  <a:lnTo>
                    <a:pt x="51" y="238"/>
                  </a:lnTo>
                  <a:lnTo>
                    <a:pt x="16" y="190"/>
                  </a:lnTo>
                  <a:lnTo>
                    <a:pt x="8" y="100"/>
                  </a:lnTo>
                  <a:lnTo>
                    <a:pt x="0" y="8"/>
                  </a:lnTo>
                  <a:lnTo>
                    <a:pt x="73" y="4"/>
                  </a:lnTo>
                  <a:lnTo>
                    <a:pt x="148" y="0"/>
                  </a:lnTo>
                  <a:lnTo>
                    <a:pt x="197" y="24"/>
                  </a:lnTo>
                  <a:lnTo>
                    <a:pt x="245" y="47"/>
                  </a:lnTo>
                  <a:lnTo>
                    <a:pt x="294" y="72"/>
                  </a:lnTo>
                  <a:lnTo>
                    <a:pt x="343" y="96"/>
                  </a:lnTo>
                  <a:lnTo>
                    <a:pt x="430" y="96"/>
                  </a:lnTo>
                  <a:lnTo>
                    <a:pt x="518" y="96"/>
                  </a:lnTo>
                  <a:lnTo>
                    <a:pt x="530" y="63"/>
                  </a:lnTo>
                  <a:lnTo>
                    <a:pt x="633" y="63"/>
                  </a:lnTo>
                  <a:lnTo>
                    <a:pt x="687" y="134"/>
                  </a:lnTo>
                  <a:lnTo>
                    <a:pt x="706" y="208"/>
                  </a:lnTo>
                  <a:lnTo>
                    <a:pt x="744" y="237"/>
                  </a:lnTo>
                  <a:lnTo>
                    <a:pt x="783" y="268"/>
                  </a:lnTo>
                  <a:lnTo>
                    <a:pt x="825" y="212"/>
                  </a:lnTo>
                  <a:lnTo>
                    <a:pt x="912" y="222"/>
                  </a:lnTo>
                  <a:lnTo>
                    <a:pt x="940" y="288"/>
                  </a:lnTo>
                  <a:lnTo>
                    <a:pt x="969" y="356"/>
                  </a:lnTo>
                  <a:lnTo>
                    <a:pt x="990" y="441"/>
                  </a:lnTo>
                  <a:lnTo>
                    <a:pt x="1032" y="476"/>
                  </a:lnTo>
                  <a:lnTo>
                    <a:pt x="1108" y="489"/>
                  </a:lnTo>
                  <a:lnTo>
                    <a:pt x="1067" y="586"/>
                  </a:lnTo>
                  <a:lnTo>
                    <a:pt x="1032" y="684"/>
                  </a:lnTo>
                  <a:lnTo>
                    <a:pt x="1021" y="782"/>
                  </a:lnTo>
                  <a:lnTo>
                    <a:pt x="1042" y="852"/>
                  </a:lnTo>
                  <a:lnTo>
                    <a:pt x="1065" y="919"/>
                  </a:lnTo>
                  <a:lnTo>
                    <a:pt x="1084" y="965"/>
                  </a:lnTo>
                  <a:lnTo>
                    <a:pt x="1102" y="1012"/>
                  </a:lnTo>
                  <a:lnTo>
                    <a:pt x="1111" y="1018"/>
                  </a:lnTo>
                  <a:lnTo>
                    <a:pt x="1178" y="1051"/>
                  </a:lnTo>
                  <a:lnTo>
                    <a:pt x="1236" y="1046"/>
                  </a:lnTo>
                  <a:lnTo>
                    <a:pt x="1305" y="1032"/>
                  </a:lnTo>
                  <a:lnTo>
                    <a:pt x="1347" y="1030"/>
                  </a:lnTo>
                  <a:lnTo>
                    <a:pt x="1376" y="1037"/>
                  </a:lnTo>
                  <a:lnTo>
                    <a:pt x="1395" y="1018"/>
                  </a:lnTo>
                  <a:lnTo>
                    <a:pt x="1390" y="1007"/>
                  </a:lnTo>
                  <a:lnTo>
                    <a:pt x="1439" y="952"/>
                  </a:lnTo>
                  <a:lnTo>
                    <a:pt x="1472" y="865"/>
                  </a:lnTo>
                  <a:lnTo>
                    <a:pt x="1538" y="828"/>
                  </a:lnTo>
                  <a:lnTo>
                    <a:pt x="1600" y="822"/>
                  </a:lnTo>
                  <a:lnTo>
                    <a:pt x="1662" y="816"/>
                  </a:lnTo>
                  <a:lnTo>
                    <a:pt x="1677" y="814"/>
                  </a:lnTo>
                  <a:lnTo>
                    <a:pt x="1702" y="830"/>
                  </a:lnTo>
                  <a:lnTo>
                    <a:pt x="1707" y="841"/>
                  </a:lnTo>
                  <a:lnTo>
                    <a:pt x="1647" y="930"/>
                  </a:lnTo>
                  <a:lnTo>
                    <a:pt x="1635" y="958"/>
                  </a:lnTo>
                  <a:lnTo>
                    <a:pt x="1638" y="967"/>
                  </a:lnTo>
                  <a:lnTo>
                    <a:pt x="1635" y="976"/>
                  </a:lnTo>
                  <a:lnTo>
                    <a:pt x="1606" y="1046"/>
                  </a:lnTo>
                  <a:lnTo>
                    <a:pt x="1593" y="1018"/>
                  </a:lnTo>
                  <a:lnTo>
                    <a:pt x="1581" y="1037"/>
                  </a:lnTo>
                  <a:lnTo>
                    <a:pt x="1522" y="1085"/>
                  </a:lnTo>
                  <a:lnTo>
                    <a:pt x="1464" y="1085"/>
                  </a:lnTo>
                  <a:lnTo>
                    <a:pt x="1404" y="1085"/>
                  </a:lnTo>
                  <a:lnTo>
                    <a:pt x="1399" y="1127"/>
                  </a:lnTo>
                  <a:lnTo>
                    <a:pt x="1379" y="1132"/>
                  </a:lnTo>
                  <a:lnTo>
                    <a:pt x="1426" y="1202"/>
                  </a:lnTo>
                  <a:lnTo>
                    <a:pt x="1340" y="1213"/>
                  </a:lnTo>
                  <a:lnTo>
                    <a:pt x="1302" y="1272"/>
                  </a:lnTo>
                  <a:lnTo>
                    <a:pt x="1295" y="1325"/>
                  </a:lnTo>
                  <a:lnTo>
                    <a:pt x="1232" y="1261"/>
                  </a:lnTo>
                  <a:lnTo>
                    <a:pt x="1171" y="1198"/>
                  </a:lnTo>
                  <a:lnTo>
                    <a:pt x="1197" y="1218"/>
                  </a:lnTo>
                  <a:lnTo>
                    <a:pt x="1160" y="1198"/>
                  </a:lnTo>
                  <a:lnTo>
                    <a:pt x="1129" y="1199"/>
                  </a:lnTo>
                  <a:lnTo>
                    <a:pt x="1143" y="1203"/>
                  </a:lnTo>
                  <a:lnTo>
                    <a:pt x="1080" y="1221"/>
                  </a:lnTo>
                  <a:lnTo>
                    <a:pt x="1018" y="1239"/>
                  </a:lnTo>
                  <a:lnTo>
                    <a:pt x="946" y="1206"/>
                  </a:lnTo>
                  <a:lnTo>
                    <a:pt x="876" y="1173"/>
                  </a:lnTo>
                  <a:lnTo>
                    <a:pt x="805" y="1140"/>
                  </a:lnTo>
                  <a:lnTo>
                    <a:pt x="734" y="1107"/>
                  </a:lnTo>
                  <a:lnTo>
                    <a:pt x="694" y="1078"/>
                  </a:lnTo>
                  <a:lnTo>
                    <a:pt x="647" y="1053"/>
                  </a:lnTo>
                  <a:lnTo>
                    <a:pt x="602" y="1030"/>
                  </a:lnTo>
                  <a:lnTo>
                    <a:pt x="556" y="986"/>
                  </a:lnTo>
                  <a:lnTo>
                    <a:pt x="511" y="942"/>
                  </a:lnTo>
                  <a:lnTo>
                    <a:pt x="503" y="891"/>
                  </a:lnTo>
                  <a:lnTo>
                    <a:pt x="528" y="878"/>
                  </a:lnTo>
                  <a:lnTo>
                    <a:pt x="519" y="860"/>
                  </a:lnTo>
                  <a:lnTo>
                    <a:pt x="535" y="815"/>
                  </a:lnTo>
                  <a:lnTo>
                    <a:pt x="513" y="757"/>
                  </a:lnTo>
                  <a:lnTo>
                    <a:pt x="492" y="700"/>
                  </a:lnTo>
                  <a:lnTo>
                    <a:pt x="454" y="649"/>
                  </a:lnTo>
                  <a:lnTo>
                    <a:pt x="416" y="598"/>
                  </a:lnTo>
                  <a:lnTo>
                    <a:pt x="433" y="605"/>
                  </a:lnTo>
                  <a:lnTo>
                    <a:pt x="407" y="567"/>
                  </a:lnTo>
                  <a:lnTo>
                    <a:pt x="395" y="556"/>
                  </a:lnTo>
                  <a:lnTo>
                    <a:pt x="402" y="553"/>
                  </a:lnTo>
                  <a:lnTo>
                    <a:pt x="353" y="525"/>
                  </a:lnTo>
                  <a:lnTo>
                    <a:pt x="364" y="509"/>
                  </a:lnTo>
                  <a:lnTo>
                    <a:pt x="340" y="506"/>
                  </a:lnTo>
                  <a:lnTo>
                    <a:pt x="359" y="464"/>
                  </a:lnTo>
                  <a:lnTo>
                    <a:pt x="334" y="438"/>
                  </a:lnTo>
                  <a:lnTo>
                    <a:pt x="294" y="365"/>
                  </a:lnTo>
                  <a:lnTo>
                    <a:pt x="293" y="348"/>
                  </a:lnTo>
                  <a:lnTo>
                    <a:pt x="252" y="316"/>
                  </a:lnTo>
                  <a:lnTo>
                    <a:pt x="229" y="253"/>
                  </a:lnTo>
                  <a:lnTo>
                    <a:pt x="205" y="190"/>
                  </a:lnTo>
                  <a:lnTo>
                    <a:pt x="205" y="103"/>
                  </a:lnTo>
                  <a:lnTo>
                    <a:pt x="164" y="84"/>
                  </a:lnTo>
                  <a:lnTo>
                    <a:pt x="116" y="55"/>
                  </a:lnTo>
                  <a:lnTo>
                    <a:pt x="108" y="132"/>
                  </a:lnTo>
                  <a:lnTo>
                    <a:pt x="99" y="209"/>
                  </a:lnTo>
                  <a:lnTo>
                    <a:pt x="133" y="269"/>
                  </a:lnTo>
                  <a:lnTo>
                    <a:pt x="166" y="330"/>
                  </a:lnTo>
                  <a:lnTo>
                    <a:pt x="184" y="383"/>
                  </a:lnTo>
                  <a:lnTo>
                    <a:pt x="201" y="435"/>
                  </a:lnTo>
                  <a:lnTo>
                    <a:pt x="209" y="427"/>
                  </a:lnTo>
                  <a:lnTo>
                    <a:pt x="218" y="512"/>
                  </a:lnTo>
                  <a:lnTo>
                    <a:pt x="231" y="599"/>
                  </a:lnTo>
                  <a:lnTo>
                    <a:pt x="255" y="614"/>
                  </a:lnTo>
                  <a:lnTo>
                    <a:pt x="284" y="652"/>
                  </a:lnTo>
                  <a:lnTo>
                    <a:pt x="295" y="689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75"/>
            <p:cNvSpPr/>
            <p:nvPr/>
          </p:nvSpPr>
          <p:spPr>
            <a:xfrm>
              <a:off x="3700800" y="5901840"/>
              <a:ext cx="83520" cy="504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95" h="71">
                  <a:moveTo>
                    <a:pt x="95" y="28"/>
                  </a:moveTo>
                  <a:lnTo>
                    <a:pt x="75" y="17"/>
                  </a:lnTo>
                  <a:lnTo>
                    <a:pt x="56" y="15"/>
                  </a:lnTo>
                  <a:lnTo>
                    <a:pt x="47" y="12"/>
                  </a:lnTo>
                  <a:lnTo>
                    <a:pt x="22" y="0"/>
                  </a:lnTo>
                  <a:lnTo>
                    <a:pt x="19" y="24"/>
                  </a:lnTo>
                  <a:lnTo>
                    <a:pt x="0" y="49"/>
                  </a:lnTo>
                  <a:lnTo>
                    <a:pt x="20" y="71"/>
                  </a:lnTo>
                  <a:lnTo>
                    <a:pt x="31" y="57"/>
                  </a:lnTo>
                  <a:lnTo>
                    <a:pt x="43" y="55"/>
                  </a:lnTo>
                  <a:lnTo>
                    <a:pt x="43" y="46"/>
                  </a:lnTo>
                  <a:lnTo>
                    <a:pt x="95" y="28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6"/>
            <p:cNvSpPr/>
            <p:nvPr/>
          </p:nvSpPr>
          <p:spPr>
            <a:xfrm>
              <a:off x="3642480" y="5905080"/>
              <a:ext cx="64800" cy="35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50">
                  <a:moveTo>
                    <a:pt x="21" y="19"/>
                  </a:moveTo>
                  <a:lnTo>
                    <a:pt x="6" y="4"/>
                  </a:lnTo>
                  <a:lnTo>
                    <a:pt x="73" y="0"/>
                  </a:lnTo>
                  <a:lnTo>
                    <a:pt x="39" y="38"/>
                  </a:lnTo>
                  <a:lnTo>
                    <a:pt x="0" y="50"/>
                  </a:lnTo>
                  <a:lnTo>
                    <a:pt x="22" y="30"/>
                  </a:lnTo>
                  <a:lnTo>
                    <a:pt x="12" y="24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77"/>
            <p:cNvSpPr/>
            <p:nvPr/>
          </p:nvSpPr>
          <p:spPr>
            <a:xfrm>
              <a:off x="2636640" y="3579120"/>
              <a:ext cx="728640" cy="73368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807" h="954">
                  <a:moveTo>
                    <a:pt x="541" y="755"/>
                  </a:moveTo>
                  <a:lnTo>
                    <a:pt x="526" y="833"/>
                  </a:lnTo>
                  <a:lnTo>
                    <a:pt x="512" y="911"/>
                  </a:lnTo>
                  <a:lnTo>
                    <a:pt x="498" y="895"/>
                  </a:lnTo>
                  <a:lnTo>
                    <a:pt x="424" y="906"/>
                  </a:lnTo>
                  <a:lnTo>
                    <a:pt x="404" y="947"/>
                  </a:lnTo>
                  <a:lnTo>
                    <a:pt x="372" y="904"/>
                  </a:lnTo>
                  <a:lnTo>
                    <a:pt x="294" y="889"/>
                  </a:lnTo>
                  <a:lnTo>
                    <a:pt x="280" y="879"/>
                  </a:lnTo>
                  <a:lnTo>
                    <a:pt x="228" y="954"/>
                  </a:lnTo>
                  <a:lnTo>
                    <a:pt x="183" y="947"/>
                  </a:lnTo>
                  <a:lnTo>
                    <a:pt x="157" y="881"/>
                  </a:lnTo>
                  <a:lnTo>
                    <a:pt x="130" y="816"/>
                  </a:lnTo>
                  <a:lnTo>
                    <a:pt x="112" y="753"/>
                  </a:lnTo>
                  <a:lnTo>
                    <a:pt x="114" y="699"/>
                  </a:lnTo>
                  <a:lnTo>
                    <a:pt x="79" y="649"/>
                  </a:lnTo>
                  <a:lnTo>
                    <a:pt x="60" y="599"/>
                  </a:lnTo>
                  <a:lnTo>
                    <a:pt x="41" y="565"/>
                  </a:lnTo>
                  <a:lnTo>
                    <a:pt x="42" y="536"/>
                  </a:lnTo>
                  <a:lnTo>
                    <a:pt x="71" y="475"/>
                  </a:lnTo>
                  <a:lnTo>
                    <a:pt x="50" y="468"/>
                  </a:lnTo>
                  <a:lnTo>
                    <a:pt x="41" y="407"/>
                  </a:lnTo>
                  <a:lnTo>
                    <a:pt x="44" y="345"/>
                  </a:lnTo>
                  <a:lnTo>
                    <a:pt x="54" y="307"/>
                  </a:lnTo>
                  <a:lnTo>
                    <a:pt x="55" y="216"/>
                  </a:lnTo>
                  <a:lnTo>
                    <a:pt x="66" y="199"/>
                  </a:lnTo>
                  <a:lnTo>
                    <a:pt x="32" y="143"/>
                  </a:lnTo>
                  <a:lnTo>
                    <a:pt x="0" y="86"/>
                  </a:lnTo>
                  <a:lnTo>
                    <a:pt x="82" y="88"/>
                  </a:lnTo>
                  <a:lnTo>
                    <a:pt x="112" y="67"/>
                  </a:lnTo>
                  <a:lnTo>
                    <a:pt x="165" y="33"/>
                  </a:lnTo>
                  <a:lnTo>
                    <a:pt x="219" y="0"/>
                  </a:lnTo>
                  <a:lnTo>
                    <a:pt x="270" y="5"/>
                  </a:lnTo>
                  <a:lnTo>
                    <a:pt x="275" y="67"/>
                  </a:lnTo>
                  <a:lnTo>
                    <a:pt x="281" y="127"/>
                  </a:lnTo>
                  <a:lnTo>
                    <a:pt x="330" y="181"/>
                  </a:lnTo>
                  <a:lnTo>
                    <a:pt x="377" y="197"/>
                  </a:lnTo>
                  <a:lnTo>
                    <a:pt x="434" y="224"/>
                  </a:lnTo>
                  <a:lnTo>
                    <a:pt x="507" y="274"/>
                  </a:lnTo>
                  <a:lnTo>
                    <a:pt x="579" y="286"/>
                  </a:lnTo>
                  <a:lnTo>
                    <a:pt x="598" y="317"/>
                  </a:lnTo>
                  <a:lnTo>
                    <a:pt x="608" y="389"/>
                  </a:lnTo>
                  <a:lnTo>
                    <a:pt x="596" y="389"/>
                  </a:lnTo>
                  <a:lnTo>
                    <a:pt x="619" y="418"/>
                  </a:lnTo>
                  <a:lnTo>
                    <a:pt x="629" y="475"/>
                  </a:lnTo>
                  <a:lnTo>
                    <a:pt x="687" y="481"/>
                  </a:lnTo>
                  <a:lnTo>
                    <a:pt x="746" y="488"/>
                  </a:lnTo>
                  <a:lnTo>
                    <a:pt x="755" y="551"/>
                  </a:lnTo>
                  <a:lnTo>
                    <a:pt x="795" y="591"/>
                  </a:lnTo>
                  <a:lnTo>
                    <a:pt x="807" y="619"/>
                  </a:lnTo>
                  <a:lnTo>
                    <a:pt x="794" y="674"/>
                  </a:lnTo>
                  <a:lnTo>
                    <a:pt x="780" y="728"/>
                  </a:lnTo>
                  <a:lnTo>
                    <a:pt x="790" y="752"/>
                  </a:lnTo>
                  <a:lnTo>
                    <a:pt x="780" y="761"/>
                  </a:lnTo>
                  <a:lnTo>
                    <a:pt x="781" y="749"/>
                  </a:lnTo>
                  <a:lnTo>
                    <a:pt x="716" y="701"/>
                  </a:lnTo>
                  <a:lnTo>
                    <a:pt x="632" y="712"/>
                  </a:lnTo>
                  <a:lnTo>
                    <a:pt x="548" y="723"/>
                  </a:lnTo>
                  <a:lnTo>
                    <a:pt x="541" y="75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2377800" y="2738880"/>
              <a:ext cx="2266920" cy="2190960"/>
            </a:xfrm>
            <a:custGeom>
              <a:avLst/>
              <a:gdLst>
                <a:gd name="textAreaLeft" fmla="*/ 0 w 2266920"/>
                <a:gd name="textAreaRight" fmla="*/ 2267280 w 2266920"/>
                <a:gd name="textAreaTop" fmla="*/ 0 h 2190960"/>
                <a:gd name="textAreaBottom" fmla="*/ 2191320 h 2190960"/>
              </a:gdLst>
              <a:ahLst/>
              <a:rect l="textAreaLeft" t="textAreaTop" r="textAreaRight" b="textAreaBottom"/>
              <a:pathLst>
                <a:path w="2522" h="2852">
                  <a:moveTo>
                    <a:pt x="1914" y="560"/>
                  </a:moveTo>
                  <a:lnTo>
                    <a:pt x="1901" y="568"/>
                  </a:lnTo>
                  <a:lnTo>
                    <a:pt x="1876" y="615"/>
                  </a:lnTo>
                  <a:lnTo>
                    <a:pt x="1894" y="560"/>
                  </a:lnTo>
                  <a:lnTo>
                    <a:pt x="1885" y="544"/>
                  </a:lnTo>
                  <a:lnTo>
                    <a:pt x="1876" y="550"/>
                  </a:lnTo>
                  <a:lnTo>
                    <a:pt x="1882" y="517"/>
                  </a:lnTo>
                  <a:lnTo>
                    <a:pt x="1859" y="496"/>
                  </a:lnTo>
                  <a:lnTo>
                    <a:pt x="1834" y="497"/>
                  </a:lnTo>
                  <a:lnTo>
                    <a:pt x="1828" y="487"/>
                  </a:lnTo>
                  <a:lnTo>
                    <a:pt x="1805" y="476"/>
                  </a:lnTo>
                  <a:lnTo>
                    <a:pt x="1777" y="460"/>
                  </a:lnTo>
                  <a:lnTo>
                    <a:pt x="1751" y="451"/>
                  </a:lnTo>
                  <a:lnTo>
                    <a:pt x="1730" y="446"/>
                  </a:lnTo>
                  <a:lnTo>
                    <a:pt x="1695" y="428"/>
                  </a:lnTo>
                  <a:lnTo>
                    <a:pt x="1694" y="436"/>
                  </a:lnTo>
                  <a:lnTo>
                    <a:pt x="1653" y="445"/>
                  </a:lnTo>
                  <a:lnTo>
                    <a:pt x="1630" y="490"/>
                  </a:lnTo>
                  <a:lnTo>
                    <a:pt x="1628" y="498"/>
                  </a:lnTo>
                  <a:lnTo>
                    <a:pt x="1603" y="511"/>
                  </a:lnTo>
                  <a:lnTo>
                    <a:pt x="1559" y="574"/>
                  </a:lnTo>
                  <a:lnTo>
                    <a:pt x="1564" y="519"/>
                  </a:lnTo>
                  <a:lnTo>
                    <a:pt x="1544" y="534"/>
                  </a:lnTo>
                  <a:lnTo>
                    <a:pt x="1522" y="523"/>
                  </a:lnTo>
                  <a:lnTo>
                    <a:pt x="1500" y="524"/>
                  </a:lnTo>
                  <a:lnTo>
                    <a:pt x="1478" y="453"/>
                  </a:lnTo>
                  <a:lnTo>
                    <a:pt x="1433" y="477"/>
                  </a:lnTo>
                  <a:lnTo>
                    <a:pt x="1388" y="500"/>
                  </a:lnTo>
                  <a:lnTo>
                    <a:pt x="1367" y="494"/>
                  </a:lnTo>
                  <a:lnTo>
                    <a:pt x="1414" y="465"/>
                  </a:lnTo>
                  <a:lnTo>
                    <a:pt x="1454" y="387"/>
                  </a:lnTo>
                  <a:lnTo>
                    <a:pt x="1496" y="338"/>
                  </a:lnTo>
                  <a:lnTo>
                    <a:pt x="1538" y="290"/>
                  </a:lnTo>
                  <a:lnTo>
                    <a:pt x="1521" y="253"/>
                  </a:lnTo>
                  <a:lnTo>
                    <a:pt x="1489" y="225"/>
                  </a:lnTo>
                  <a:lnTo>
                    <a:pt x="1476" y="162"/>
                  </a:lnTo>
                  <a:lnTo>
                    <a:pt x="1462" y="100"/>
                  </a:lnTo>
                  <a:lnTo>
                    <a:pt x="1459" y="105"/>
                  </a:lnTo>
                  <a:lnTo>
                    <a:pt x="1436" y="69"/>
                  </a:lnTo>
                  <a:lnTo>
                    <a:pt x="1438" y="85"/>
                  </a:lnTo>
                  <a:lnTo>
                    <a:pt x="1430" y="85"/>
                  </a:lnTo>
                  <a:lnTo>
                    <a:pt x="1426" y="88"/>
                  </a:lnTo>
                  <a:lnTo>
                    <a:pt x="1385" y="155"/>
                  </a:lnTo>
                  <a:lnTo>
                    <a:pt x="1342" y="224"/>
                  </a:lnTo>
                  <a:lnTo>
                    <a:pt x="1279" y="220"/>
                  </a:lnTo>
                  <a:lnTo>
                    <a:pt x="1236" y="212"/>
                  </a:lnTo>
                  <a:lnTo>
                    <a:pt x="1198" y="198"/>
                  </a:lnTo>
                  <a:lnTo>
                    <a:pt x="1140" y="211"/>
                  </a:lnTo>
                  <a:lnTo>
                    <a:pt x="1144" y="248"/>
                  </a:lnTo>
                  <a:lnTo>
                    <a:pt x="1115" y="239"/>
                  </a:lnTo>
                  <a:lnTo>
                    <a:pt x="1049" y="253"/>
                  </a:lnTo>
                  <a:lnTo>
                    <a:pt x="985" y="283"/>
                  </a:lnTo>
                  <a:lnTo>
                    <a:pt x="946" y="285"/>
                  </a:lnTo>
                  <a:lnTo>
                    <a:pt x="903" y="231"/>
                  </a:lnTo>
                  <a:lnTo>
                    <a:pt x="896" y="145"/>
                  </a:lnTo>
                  <a:lnTo>
                    <a:pt x="914" y="78"/>
                  </a:lnTo>
                  <a:lnTo>
                    <a:pt x="885" y="41"/>
                  </a:lnTo>
                  <a:lnTo>
                    <a:pt x="881" y="0"/>
                  </a:lnTo>
                  <a:lnTo>
                    <a:pt x="844" y="2"/>
                  </a:lnTo>
                  <a:lnTo>
                    <a:pt x="849" y="3"/>
                  </a:lnTo>
                  <a:lnTo>
                    <a:pt x="831" y="43"/>
                  </a:lnTo>
                  <a:lnTo>
                    <a:pt x="777" y="65"/>
                  </a:lnTo>
                  <a:lnTo>
                    <a:pt x="724" y="88"/>
                  </a:lnTo>
                  <a:lnTo>
                    <a:pt x="712" y="113"/>
                  </a:lnTo>
                  <a:lnTo>
                    <a:pt x="654" y="94"/>
                  </a:lnTo>
                  <a:lnTo>
                    <a:pt x="589" y="71"/>
                  </a:lnTo>
                  <a:lnTo>
                    <a:pt x="610" y="109"/>
                  </a:lnTo>
                  <a:lnTo>
                    <a:pt x="629" y="191"/>
                  </a:lnTo>
                  <a:lnTo>
                    <a:pt x="671" y="205"/>
                  </a:lnTo>
                  <a:lnTo>
                    <a:pt x="659" y="226"/>
                  </a:lnTo>
                  <a:lnTo>
                    <a:pt x="603" y="277"/>
                  </a:lnTo>
                  <a:lnTo>
                    <a:pt x="537" y="327"/>
                  </a:lnTo>
                  <a:lnTo>
                    <a:pt x="530" y="321"/>
                  </a:lnTo>
                  <a:lnTo>
                    <a:pt x="494" y="325"/>
                  </a:lnTo>
                  <a:lnTo>
                    <a:pt x="443" y="293"/>
                  </a:lnTo>
                  <a:lnTo>
                    <a:pt x="429" y="288"/>
                  </a:lnTo>
                  <a:lnTo>
                    <a:pt x="405" y="228"/>
                  </a:lnTo>
                  <a:lnTo>
                    <a:pt x="371" y="253"/>
                  </a:lnTo>
                  <a:lnTo>
                    <a:pt x="354" y="245"/>
                  </a:lnTo>
                  <a:lnTo>
                    <a:pt x="360" y="257"/>
                  </a:lnTo>
                  <a:lnTo>
                    <a:pt x="305" y="257"/>
                  </a:lnTo>
                  <a:lnTo>
                    <a:pt x="251" y="257"/>
                  </a:lnTo>
                  <a:lnTo>
                    <a:pt x="258" y="305"/>
                  </a:lnTo>
                  <a:lnTo>
                    <a:pt x="293" y="320"/>
                  </a:lnTo>
                  <a:lnTo>
                    <a:pt x="282" y="336"/>
                  </a:lnTo>
                  <a:lnTo>
                    <a:pt x="235" y="340"/>
                  </a:lnTo>
                  <a:lnTo>
                    <a:pt x="250" y="409"/>
                  </a:lnTo>
                  <a:lnTo>
                    <a:pt x="277" y="486"/>
                  </a:lnTo>
                  <a:lnTo>
                    <a:pt x="261" y="588"/>
                  </a:lnTo>
                  <a:lnTo>
                    <a:pt x="247" y="691"/>
                  </a:lnTo>
                  <a:lnTo>
                    <a:pt x="225" y="689"/>
                  </a:lnTo>
                  <a:lnTo>
                    <a:pt x="170" y="703"/>
                  </a:lnTo>
                  <a:lnTo>
                    <a:pt x="118" y="728"/>
                  </a:lnTo>
                  <a:lnTo>
                    <a:pt x="67" y="752"/>
                  </a:lnTo>
                  <a:lnTo>
                    <a:pt x="50" y="808"/>
                  </a:lnTo>
                  <a:lnTo>
                    <a:pt x="34" y="865"/>
                  </a:lnTo>
                  <a:lnTo>
                    <a:pt x="0" y="923"/>
                  </a:lnTo>
                  <a:lnTo>
                    <a:pt x="29" y="978"/>
                  </a:lnTo>
                  <a:lnTo>
                    <a:pt x="59" y="1034"/>
                  </a:lnTo>
                  <a:lnTo>
                    <a:pt x="55" y="1065"/>
                  </a:lnTo>
                  <a:lnTo>
                    <a:pt x="81" y="1072"/>
                  </a:lnTo>
                  <a:lnTo>
                    <a:pt x="119" y="1102"/>
                  </a:lnTo>
                  <a:lnTo>
                    <a:pt x="171" y="1115"/>
                  </a:lnTo>
                  <a:lnTo>
                    <a:pt x="215" y="1079"/>
                  </a:lnTo>
                  <a:lnTo>
                    <a:pt x="219" y="1134"/>
                  </a:lnTo>
                  <a:lnTo>
                    <a:pt x="223" y="1188"/>
                  </a:lnTo>
                  <a:lnTo>
                    <a:pt x="292" y="1184"/>
                  </a:lnTo>
                  <a:lnTo>
                    <a:pt x="374" y="1186"/>
                  </a:lnTo>
                  <a:lnTo>
                    <a:pt x="404" y="1165"/>
                  </a:lnTo>
                  <a:lnTo>
                    <a:pt x="457" y="1131"/>
                  </a:lnTo>
                  <a:lnTo>
                    <a:pt x="511" y="1098"/>
                  </a:lnTo>
                  <a:lnTo>
                    <a:pt x="562" y="1103"/>
                  </a:lnTo>
                  <a:lnTo>
                    <a:pt x="567" y="1165"/>
                  </a:lnTo>
                  <a:lnTo>
                    <a:pt x="573" y="1225"/>
                  </a:lnTo>
                  <a:lnTo>
                    <a:pt x="622" y="1279"/>
                  </a:lnTo>
                  <a:lnTo>
                    <a:pt x="669" y="1295"/>
                  </a:lnTo>
                  <a:lnTo>
                    <a:pt x="726" y="1322"/>
                  </a:lnTo>
                  <a:lnTo>
                    <a:pt x="799" y="1372"/>
                  </a:lnTo>
                  <a:lnTo>
                    <a:pt x="871" y="1384"/>
                  </a:lnTo>
                  <a:lnTo>
                    <a:pt x="890" y="1415"/>
                  </a:lnTo>
                  <a:lnTo>
                    <a:pt x="900" y="1487"/>
                  </a:lnTo>
                  <a:lnTo>
                    <a:pt x="888" y="1487"/>
                  </a:lnTo>
                  <a:lnTo>
                    <a:pt x="911" y="1516"/>
                  </a:lnTo>
                  <a:lnTo>
                    <a:pt x="921" y="1573"/>
                  </a:lnTo>
                  <a:lnTo>
                    <a:pt x="979" y="1579"/>
                  </a:lnTo>
                  <a:lnTo>
                    <a:pt x="1038" y="1586"/>
                  </a:lnTo>
                  <a:lnTo>
                    <a:pt x="1047" y="1649"/>
                  </a:lnTo>
                  <a:lnTo>
                    <a:pt x="1087" y="1689"/>
                  </a:lnTo>
                  <a:lnTo>
                    <a:pt x="1099" y="1717"/>
                  </a:lnTo>
                  <a:lnTo>
                    <a:pt x="1086" y="1772"/>
                  </a:lnTo>
                  <a:lnTo>
                    <a:pt x="1072" y="1826"/>
                  </a:lnTo>
                  <a:lnTo>
                    <a:pt x="1082" y="1850"/>
                  </a:lnTo>
                  <a:lnTo>
                    <a:pt x="1072" y="1859"/>
                  </a:lnTo>
                  <a:lnTo>
                    <a:pt x="1086" y="1892"/>
                  </a:lnTo>
                  <a:lnTo>
                    <a:pt x="1096" y="1994"/>
                  </a:lnTo>
                  <a:lnTo>
                    <a:pt x="1185" y="2007"/>
                  </a:lnTo>
                  <a:lnTo>
                    <a:pt x="1233" y="2014"/>
                  </a:lnTo>
                  <a:lnTo>
                    <a:pt x="1252" y="2074"/>
                  </a:lnTo>
                  <a:lnTo>
                    <a:pt x="1271" y="2134"/>
                  </a:lnTo>
                  <a:lnTo>
                    <a:pt x="1304" y="2132"/>
                  </a:lnTo>
                  <a:lnTo>
                    <a:pt x="1338" y="2137"/>
                  </a:lnTo>
                  <a:lnTo>
                    <a:pt x="1336" y="2195"/>
                  </a:lnTo>
                  <a:lnTo>
                    <a:pt x="1335" y="2253"/>
                  </a:lnTo>
                  <a:lnTo>
                    <a:pt x="1375" y="2256"/>
                  </a:lnTo>
                  <a:lnTo>
                    <a:pt x="1404" y="2350"/>
                  </a:lnTo>
                  <a:lnTo>
                    <a:pt x="1363" y="2385"/>
                  </a:lnTo>
                  <a:lnTo>
                    <a:pt x="1324" y="2421"/>
                  </a:lnTo>
                  <a:lnTo>
                    <a:pt x="1290" y="2463"/>
                  </a:lnTo>
                  <a:lnTo>
                    <a:pt x="1257" y="2506"/>
                  </a:lnTo>
                  <a:lnTo>
                    <a:pt x="1222" y="2549"/>
                  </a:lnTo>
                  <a:lnTo>
                    <a:pt x="1189" y="2592"/>
                  </a:lnTo>
                  <a:lnTo>
                    <a:pt x="1190" y="2595"/>
                  </a:lnTo>
                  <a:lnTo>
                    <a:pt x="1222" y="2587"/>
                  </a:lnTo>
                  <a:lnTo>
                    <a:pt x="1300" y="2646"/>
                  </a:lnTo>
                  <a:lnTo>
                    <a:pt x="1318" y="2647"/>
                  </a:lnTo>
                  <a:lnTo>
                    <a:pt x="1356" y="2671"/>
                  </a:lnTo>
                  <a:lnTo>
                    <a:pt x="1423" y="2720"/>
                  </a:lnTo>
                  <a:lnTo>
                    <a:pt x="1489" y="2768"/>
                  </a:lnTo>
                  <a:lnTo>
                    <a:pt x="1482" y="2803"/>
                  </a:lnTo>
                  <a:lnTo>
                    <a:pt x="1496" y="2852"/>
                  </a:lnTo>
                  <a:lnTo>
                    <a:pt x="1520" y="2807"/>
                  </a:lnTo>
                  <a:lnTo>
                    <a:pt x="1544" y="2761"/>
                  </a:lnTo>
                  <a:lnTo>
                    <a:pt x="1546" y="2716"/>
                  </a:lnTo>
                  <a:lnTo>
                    <a:pt x="1564" y="2671"/>
                  </a:lnTo>
                  <a:lnTo>
                    <a:pt x="1590" y="2637"/>
                  </a:lnTo>
                  <a:lnTo>
                    <a:pt x="1584" y="2595"/>
                  </a:lnTo>
                  <a:lnTo>
                    <a:pt x="1586" y="2592"/>
                  </a:lnTo>
                  <a:lnTo>
                    <a:pt x="1616" y="2601"/>
                  </a:lnTo>
                  <a:lnTo>
                    <a:pt x="1631" y="2605"/>
                  </a:lnTo>
                  <a:lnTo>
                    <a:pt x="1603" y="2658"/>
                  </a:lnTo>
                  <a:lnTo>
                    <a:pt x="1576" y="2710"/>
                  </a:lnTo>
                  <a:lnTo>
                    <a:pt x="1557" y="2723"/>
                  </a:lnTo>
                  <a:lnTo>
                    <a:pt x="1561" y="2730"/>
                  </a:lnTo>
                  <a:lnTo>
                    <a:pt x="1604" y="2671"/>
                  </a:lnTo>
                  <a:lnTo>
                    <a:pt x="1647" y="2613"/>
                  </a:lnTo>
                  <a:lnTo>
                    <a:pt x="1673" y="2552"/>
                  </a:lnTo>
                  <a:lnTo>
                    <a:pt x="1700" y="2493"/>
                  </a:lnTo>
                  <a:lnTo>
                    <a:pt x="1718" y="2461"/>
                  </a:lnTo>
                  <a:lnTo>
                    <a:pt x="1722" y="2460"/>
                  </a:lnTo>
                  <a:lnTo>
                    <a:pt x="1723" y="2401"/>
                  </a:lnTo>
                  <a:lnTo>
                    <a:pt x="1723" y="2341"/>
                  </a:lnTo>
                  <a:lnTo>
                    <a:pt x="1709" y="2301"/>
                  </a:lnTo>
                  <a:lnTo>
                    <a:pt x="1706" y="2276"/>
                  </a:lnTo>
                  <a:lnTo>
                    <a:pt x="1717" y="2250"/>
                  </a:lnTo>
                  <a:lnTo>
                    <a:pt x="1709" y="2245"/>
                  </a:lnTo>
                  <a:lnTo>
                    <a:pt x="1735" y="2239"/>
                  </a:lnTo>
                  <a:lnTo>
                    <a:pt x="1789" y="2186"/>
                  </a:lnTo>
                  <a:lnTo>
                    <a:pt x="1846" y="2132"/>
                  </a:lnTo>
                  <a:lnTo>
                    <a:pt x="1899" y="2117"/>
                  </a:lnTo>
                  <a:lnTo>
                    <a:pt x="1947" y="2083"/>
                  </a:lnTo>
                  <a:lnTo>
                    <a:pt x="1969" y="2066"/>
                  </a:lnTo>
                  <a:lnTo>
                    <a:pt x="2011" y="2067"/>
                  </a:lnTo>
                  <a:lnTo>
                    <a:pt x="1992" y="2071"/>
                  </a:lnTo>
                  <a:lnTo>
                    <a:pt x="2034" y="2055"/>
                  </a:lnTo>
                  <a:lnTo>
                    <a:pt x="2043" y="2052"/>
                  </a:lnTo>
                  <a:lnTo>
                    <a:pt x="2115" y="2052"/>
                  </a:lnTo>
                  <a:lnTo>
                    <a:pt x="2134" y="2012"/>
                  </a:lnTo>
                  <a:lnTo>
                    <a:pt x="2172" y="1989"/>
                  </a:lnTo>
                  <a:lnTo>
                    <a:pt x="2179" y="1908"/>
                  </a:lnTo>
                  <a:lnTo>
                    <a:pt x="2210" y="1851"/>
                  </a:lnTo>
                  <a:lnTo>
                    <a:pt x="2240" y="1794"/>
                  </a:lnTo>
                  <a:lnTo>
                    <a:pt x="2251" y="1696"/>
                  </a:lnTo>
                  <a:lnTo>
                    <a:pt x="2266" y="1659"/>
                  </a:lnTo>
                  <a:lnTo>
                    <a:pt x="2270" y="1589"/>
                  </a:lnTo>
                  <a:lnTo>
                    <a:pt x="2273" y="1518"/>
                  </a:lnTo>
                  <a:lnTo>
                    <a:pt x="2271" y="1465"/>
                  </a:lnTo>
                  <a:lnTo>
                    <a:pt x="2268" y="1411"/>
                  </a:lnTo>
                  <a:lnTo>
                    <a:pt x="2260" y="1389"/>
                  </a:lnTo>
                  <a:lnTo>
                    <a:pt x="2271" y="1319"/>
                  </a:lnTo>
                  <a:lnTo>
                    <a:pt x="2290" y="1313"/>
                  </a:lnTo>
                  <a:lnTo>
                    <a:pt x="2296" y="1335"/>
                  </a:lnTo>
                  <a:lnTo>
                    <a:pt x="2329" y="1277"/>
                  </a:lnTo>
                  <a:lnTo>
                    <a:pt x="2362" y="1220"/>
                  </a:lnTo>
                  <a:lnTo>
                    <a:pt x="2363" y="1213"/>
                  </a:lnTo>
                  <a:lnTo>
                    <a:pt x="2376" y="1195"/>
                  </a:lnTo>
                  <a:lnTo>
                    <a:pt x="2414" y="1143"/>
                  </a:lnTo>
                  <a:lnTo>
                    <a:pt x="2453" y="1090"/>
                  </a:lnTo>
                  <a:lnTo>
                    <a:pt x="2510" y="1008"/>
                  </a:lnTo>
                  <a:lnTo>
                    <a:pt x="2522" y="907"/>
                  </a:lnTo>
                  <a:lnTo>
                    <a:pt x="2494" y="833"/>
                  </a:lnTo>
                  <a:lnTo>
                    <a:pt x="2466" y="757"/>
                  </a:lnTo>
                  <a:lnTo>
                    <a:pt x="2414" y="748"/>
                  </a:lnTo>
                  <a:lnTo>
                    <a:pt x="2361" y="739"/>
                  </a:lnTo>
                  <a:lnTo>
                    <a:pt x="2292" y="677"/>
                  </a:lnTo>
                  <a:lnTo>
                    <a:pt x="2222" y="615"/>
                  </a:lnTo>
                  <a:lnTo>
                    <a:pt x="2133" y="589"/>
                  </a:lnTo>
                  <a:lnTo>
                    <a:pt x="2071" y="592"/>
                  </a:lnTo>
                  <a:lnTo>
                    <a:pt x="2015" y="579"/>
                  </a:lnTo>
                  <a:lnTo>
                    <a:pt x="1958" y="566"/>
                  </a:lnTo>
                  <a:lnTo>
                    <a:pt x="1908" y="581"/>
                  </a:lnTo>
                  <a:lnTo>
                    <a:pt x="1914" y="560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9"/>
            <p:cNvSpPr/>
            <p:nvPr/>
          </p:nvSpPr>
          <p:spPr>
            <a:xfrm>
              <a:off x="3100320" y="4118760"/>
              <a:ext cx="483840" cy="456840"/>
            </a:xfrm>
            <a:custGeom>
              <a:avLst/>
              <a:gdLst>
                <a:gd name="textAreaLeft" fmla="*/ 0 w 483840"/>
                <a:gd name="textAreaRight" fmla="*/ 484200 w 483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34" h="593">
                  <a:moveTo>
                    <a:pt x="29" y="54"/>
                  </a:moveTo>
                  <a:lnTo>
                    <a:pt x="14" y="132"/>
                  </a:lnTo>
                  <a:lnTo>
                    <a:pt x="0" y="210"/>
                  </a:lnTo>
                  <a:lnTo>
                    <a:pt x="62" y="271"/>
                  </a:lnTo>
                  <a:lnTo>
                    <a:pt x="124" y="330"/>
                  </a:lnTo>
                  <a:lnTo>
                    <a:pt x="176" y="354"/>
                  </a:lnTo>
                  <a:lnTo>
                    <a:pt x="230" y="377"/>
                  </a:lnTo>
                  <a:lnTo>
                    <a:pt x="287" y="412"/>
                  </a:lnTo>
                  <a:lnTo>
                    <a:pt x="345" y="445"/>
                  </a:lnTo>
                  <a:lnTo>
                    <a:pt x="320" y="514"/>
                  </a:lnTo>
                  <a:lnTo>
                    <a:pt x="297" y="583"/>
                  </a:lnTo>
                  <a:lnTo>
                    <a:pt x="371" y="589"/>
                  </a:lnTo>
                  <a:lnTo>
                    <a:pt x="444" y="593"/>
                  </a:lnTo>
                  <a:lnTo>
                    <a:pt x="486" y="578"/>
                  </a:lnTo>
                  <a:lnTo>
                    <a:pt x="534" y="501"/>
                  </a:lnTo>
                  <a:lnTo>
                    <a:pt x="531" y="454"/>
                  </a:lnTo>
                  <a:lnTo>
                    <a:pt x="532" y="396"/>
                  </a:lnTo>
                  <a:lnTo>
                    <a:pt x="534" y="338"/>
                  </a:lnTo>
                  <a:lnTo>
                    <a:pt x="500" y="333"/>
                  </a:lnTo>
                  <a:lnTo>
                    <a:pt x="467" y="335"/>
                  </a:lnTo>
                  <a:lnTo>
                    <a:pt x="448" y="275"/>
                  </a:lnTo>
                  <a:lnTo>
                    <a:pt x="429" y="215"/>
                  </a:lnTo>
                  <a:lnTo>
                    <a:pt x="381" y="208"/>
                  </a:lnTo>
                  <a:lnTo>
                    <a:pt x="292" y="195"/>
                  </a:lnTo>
                  <a:lnTo>
                    <a:pt x="282" y="93"/>
                  </a:lnTo>
                  <a:lnTo>
                    <a:pt x="268" y="60"/>
                  </a:lnTo>
                  <a:lnTo>
                    <a:pt x="269" y="48"/>
                  </a:lnTo>
                  <a:lnTo>
                    <a:pt x="204" y="0"/>
                  </a:lnTo>
                  <a:lnTo>
                    <a:pt x="120" y="11"/>
                  </a:lnTo>
                  <a:lnTo>
                    <a:pt x="36" y="22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80"/>
            <p:cNvSpPr/>
            <p:nvPr/>
          </p:nvSpPr>
          <p:spPr>
            <a:xfrm>
              <a:off x="3438720" y="4722840"/>
              <a:ext cx="280080" cy="26784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313" h="350">
                  <a:moveTo>
                    <a:pt x="306" y="181"/>
                  </a:moveTo>
                  <a:lnTo>
                    <a:pt x="240" y="133"/>
                  </a:lnTo>
                  <a:lnTo>
                    <a:pt x="173" y="84"/>
                  </a:lnTo>
                  <a:lnTo>
                    <a:pt x="135" y="60"/>
                  </a:lnTo>
                  <a:lnTo>
                    <a:pt x="117" y="59"/>
                  </a:lnTo>
                  <a:lnTo>
                    <a:pt x="39" y="0"/>
                  </a:lnTo>
                  <a:lnTo>
                    <a:pt x="7" y="8"/>
                  </a:lnTo>
                  <a:lnTo>
                    <a:pt x="7" y="12"/>
                  </a:lnTo>
                  <a:lnTo>
                    <a:pt x="5" y="91"/>
                  </a:lnTo>
                  <a:lnTo>
                    <a:pt x="1" y="171"/>
                  </a:lnTo>
                  <a:lnTo>
                    <a:pt x="6" y="181"/>
                  </a:lnTo>
                  <a:lnTo>
                    <a:pt x="0" y="241"/>
                  </a:lnTo>
                  <a:lnTo>
                    <a:pt x="32" y="301"/>
                  </a:lnTo>
                  <a:lnTo>
                    <a:pt x="110" y="333"/>
                  </a:lnTo>
                  <a:lnTo>
                    <a:pt x="212" y="350"/>
                  </a:lnTo>
                  <a:lnTo>
                    <a:pt x="269" y="327"/>
                  </a:lnTo>
                  <a:lnTo>
                    <a:pt x="313" y="265"/>
                  </a:lnTo>
                  <a:lnTo>
                    <a:pt x="299" y="216"/>
                  </a:lnTo>
                  <a:lnTo>
                    <a:pt x="306" y="181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1"/>
            <p:cNvSpPr/>
            <p:nvPr/>
          </p:nvSpPr>
          <p:spPr>
            <a:xfrm>
              <a:off x="2748240" y="4253760"/>
              <a:ext cx="894240" cy="1701720"/>
            </a:xfrm>
            <a:custGeom>
              <a:avLst/>
              <a:gdLst>
                <a:gd name="textAreaLeft" fmla="*/ 0 w 894240"/>
                <a:gd name="textAreaRight" fmla="*/ 894600 w 894240"/>
                <a:gd name="textAreaTop" fmla="*/ 0 h 1701720"/>
                <a:gd name="textAreaBottom" fmla="*/ 1702080 h 1701720"/>
              </a:gdLst>
              <a:ahLst/>
              <a:rect l="textAreaLeft" t="textAreaTop" r="textAreaRight" b="textAreaBottom"/>
              <a:pathLst>
                <a:path w="991" h="2218">
                  <a:moveTo>
                    <a:pt x="636" y="1408"/>
                  </a:moveTo>
                  <a:lnTo>
                    <a:pt x="551" y="1406"/>
                  </a:lnTo>
                  <a:lnTo>
                    <a:pt x="489" y="1394"/>
                  </a:lnTo>
                  <a:lnTo>
                    <a:pt x="538" y="1491"/>
                  </a:lnTo>
                  <a:lnTo>
                    <a:pt x="555" y="1499"/>
                  </a:lnTo>
                  <a:lnTo>
                    <a:pt x="579" y="1496"/>
                  </a:lnTo>
                  <a:lnTo>
                    <a:pt x="597" y="1483"/>
                  </a:lnTo>
                  <a:lnTo>
                    <a:pt x="615" y="1536"/>
                  </a:lnTo>
                  <a:lnTo>
                    <a:pt x="581" y="1525"/>
                  </a:lnTo>
                  <a:lnTo>
                    <a:pt x="538" y="1525"/>
                  </a:lnTo>
                  <a:lnTo>
                    <a:pt x="584" y="1549"/>
                  </a:lnTo>
                  <a:lnTo>
                    <a:pt x="540" y="1605"/>
                  </a:lnTo>
                  <a:lnTo>
                    <a:pt x="546" y="1664"/>
                  </a:lnTo>
                  <a:lnTo>
                    <a:pt x="538" y="1695"/>
                  </a:lnTo>
                  <a:lnTo>
                    <a:pt x="471" y="1728"/>
                  </a:lnTo>
                  <a:lnTo>
                    <a:pt x="474" y="1796"/>
                  </a:lnTo>
                  <a:lnTo>
                    <a:pt x="565" y="1843"/>
                  </a:lnTo>
                  <a:lnTo>
                    <a:pt x="599" y="1863"/>
                  </a:lnTo>
                  <a:lnTo>
                    <a:pt x="580" y="1899"/>
                  </a:lnTo>
                  <a:lnTo>
                    <a:pt x="600" y="1906"/>
                  </a:lnTo>
                  <a:lnTo>
                    <a:pt x="568" y="1952"/>
                  </a:lnTo>
                  <a:lnTo>
                    <a:pt x="538" y="1999"/>
                  </a:lnTo>
                  <a:lnTo>
                    <a:pt x="534" y="2056"/>
                  </a:lnTo>
                  <a:lnTo>
                    <a:pt x="501" y="2044"/>
                  </a:lnTo>
                  <a:lnTo>
                    <a:pt x="488" y="2050"/>
                  </a:lnTo>
                  <a:lnTo>
                    <a:pt x="517" y="2065"/>
                  </a:lnTo>
                  <a:lnTo>
                    <a:pt x="493" y="2103"/>
                  </a:lnTo>
                  <a:lnTo>
                    <a:pt x="493" y="2121"/>
                  </a:lnTo>
                  <a:lnTo>
                    <a:pt x="520" y="2164"/>
                  </a:lnTo>
                  <a:lnTo>
                    <a:pt x="506" y="2162"/>
                  </a:lnTo>
                  <a:lnTo>
                    <a:pt x="546" y="2183"/>
                  </a:lnTo>
                  <a:lnTo>
                    <a:pt x="580" y="2218"/>
                  </a:lnTo>
                  <a:lnTo>
                    <a:pt x="483" y="2191"/>
                  </a:lnTo>
                  <a:lnTo>
                    <a:pt x="369" y="2180"/>
                  </a:lnTo>
                  <a:lnTo>
                    <a:pt x="336" y="2149"/>
                  </a:lnTo>
                  <a:lnTo>
                    <a:pt x="300" y="2094"/>
                  </a:lnTo>
                  <a:lnTo>
                    <a:pt x="266" y="2096"/>
                  </a:lnTo>
                  <a:lnTo>
                    <a:pt x="210" y="2002"/>
                  </a:lnTo>
                  <a:lnTo>
                    <a:pt x="246" y="1960"/>
                  </a:lnTo>
                  <a:lnTo>
                    <a:pt x="236" y="1861"/>
                  </a:lnTo>
                  <a:lnTo>
                    <a:pt x="224" y="1780"/>
                  </a:lnTo>
                  <a:lnTo>
                    <a:pt x="220" y="1724"/>
                  </a:lnTo>
                  <a:lnTo>
                    <a:pt x="204" y="1693"/>
                  </a:lnTo>
                  <a:lnTo>
                    <a:pt x="181" y="1678"/>
                  </a:lnTo>
                  <a:lnTo>
                    <a:pt x="220" y="1664"/>
                  </a:lnTo>
                  <a:lnTo>
                    <a:pt x="172" y="1636"/>
                  </a:lnTo>
                  <a:lnTo>
                    <a:pt x="145" y="1559"/>
                  </a:lnTo>
                  <a:lnTo>
                    <a:pt x="114" y="1518"/>
                  </a:lnTo>
                  <a:lnTo>
                    <a:pt x="112" y="1461"/>
                  </a:lnTo>
                  <a:lnTo>
                    <a:pt x="88" y="1363"/>
                  </a:lnTo>
                  <a:lnTo>
                    <a:pt x="81" y="1287"/>
                  </a:lnTo>
                  <a:lnTo>
                    <a:pt x="94" y="1241"/>
                  </a:lnTo>
                  <a:lnTo>
                    <a:pt x="86" y="1198"/>
                  </a:lnTo>
                  <a:lnTo>
                    <a:pt x="68" y="1136"/>
                  </a:lnTo>
                  <a:lnTo>
                    <a:pt x="50" y="1076"/>
                  </a:lnTo>
                  <a:lnTo>
                    <a:pt x="80" y="1027"/>
                  </a:lnTo>
                  <a:lnTo>
                    <a:pt x="66" y="979"/>
                  </a:lnTo>
                  <a:lnTo>
                    <a:pt x="75" y="885"/>
                  </a:lnTo>
                  <a:lnTo>
                    <a:pt x="60" y="842"/>
                  </a:lnTo>
                  <a:lnTo>
                    <a:pt x="30" y="783"/>
                  </a:lnTo>
                  <a:lnTo>
                    <a:pt x="0" y="724"/>
                  </a:lnTo>
                  <a:lnTo>
                    <a:pt x="1" y="677"/>
                  </a:lnTo>
                  <a:lnTo>
                    <a:pt x="12" y="630"/>
                  </a:lnTo>
                  <a:lnTo>
                    <a:pt x="9" y="578"/>
                  </a:lnTo>
                  <a:lnTo>
                    <a:pt x="6" y="524"/>
                  </a:lnTo>
                  <a:lnTo>
                    <a:pt x="32" y="458"/>
                  </a:lnTo>
                  <a:lnTo>
                    <a:pt x="58" y="393"/>
                  </a:lnTo>
                  <a:lnTo>
                    <a:pt x="76" y="373"/>
                  </a:lnTo>
                  <a:lnTo>
                    <a:pt x="52" y="330"/>
                  </a:lnTo>
                  <a:lnTo>
                    <a:pt x="42" y="228"/>
                  </a:lnTo>
                  <a:lnTo>
                    <a:pt x="52" y="191"/>
                  </a:lnTo>
                  <a:lnTo>
                    <a:pt x="107" y="164"/>
                  </a:lnTo>
                  <a:lnTo>
                    <a:pt x="120" y="89"/>
                  </a:lnTo>
                  <a:lnTo>
                    <a:pt x="107" y="75"/>
                  </a:lnTo>
                  <a:lnTo>
                    <a:pt x="159" y="0"/>
                  </a:lnTo>
                  <a:lnTo>
                    <a:pt x="173" y="10"/>
                  </a:lnTo>
                  <a:lnTo>
                    <a:pt x="251" y="25"/>
                  </a:lnTo>
                  <a:lnTo>
                    <a:pt x="283" y="68"/>
                  </a:lnTo>
                  <a:lnTo>
                    <a:pt x="303" y="27"/>
                  </a:lnTo>
                  <a:lnTo>
                    <a:pt x="377" y="16"/>
                  </a:lnTo>
                  <a:lnTo>
                    <a:pt x="391" y="32"/>
                  </a:lnTo>
                  <a:lnTo>
                    <a:pt x="453" y="93"/>
                  </a:lnTo>
                  <a:lnTo>
                    <a:pt x="515" y="152"/>
                  </a:lnTo>
                  <a:lnTo>
                    <a:pt x="567" y="176"/>
                  </a:lnTo>
                  <a:lnTo>
                    <a:pt x="621" y="199"/>
                  </a:lnTo>
                  <a:lnTo>
                    <a:pt x="678" y="234"/>
                  </a:lnTo>
                  <a:lnTo>
                    <a:pt x="736" y="267"/>
                  </a:lnTo>
                  <a:lnTo>
                    <a:pt x="711" y="336"/>
                  </a:lnTo>
                  <a:lnTo>
                    <a:pt x="688" y="405"/>
                  </a:lnTo>
                  <a:lnTo>
                    <a:pt x="762" y="411"/>
                  </a:lnTo>
                  <a:lnTo>
                    <a:pt x="835" y="415"/>
                  </a:lnTo>
                  <a:lnTo>
                    <a:pt x="877" y="400"/>
                  </a:lnTo>
                  <a:lnTo>
                    <a:pt x="925" y="323"/>
                  </a:lnTo>
                  <a:lnTo>
                    <a:pt x="922" y="276"/>
                  </a:lnTo>
                  <a:lnTo>
                    <a:pt x="962" y="279"/>
                  </a:lnTo>
                  <a:lnTo>
                    <a:pt x="991" y="373"/>
                  </a:lnTo>
                  <a:lnTo>
                    <a:pt x="950" y="408"/>
                  </a:lnTo>
                  <a:lnTo>
                    <a:pt x="911" y="444"/>
                  </a:lnTo>
                  <a:lnTo>
                    <a:pt x="877" y="486"/>
                  </a:lnTo>
                  <a:lnTo>
                    <a:pt x="844" y="529"/>
                  </a:lnTo>
                  <a:lnTo>
                    <a:pt x="809" y="572"/>
                  </a:lnTo>
                  <a:lnTo>
                    <a:pt x="776" y="615"/>
                  </a:lnTo>
                  <a:lnTo>
                    <a:pt x="777" y="622"/>
                  </a:lnTo>
                  <a:lnTo>
                    <a:pt x="775" y="701"/>
                  </a:lnTo>
                  <a:lnTo>
                    <a:pt x="771" y="781"/>
                  </a:lnTo>
                  <a:lnTo>
                    <a:pt x="780" y="828"/>
                  </a:lnTo>
                  <a:lnTo>
                    <a:pt x="764" y="859"/>
                  </a:lnTo>
                  <a:lnTo>
                    <a:pt x="793" y="943"/>
                  </a:lnTo>
                  <a:lnTo>
                    <a:pt x="877" y="1001"/>
                  </a:lnTo>
                  <a:lnTo>
                    <a:pt x="882" y="1053"/>
                  </a:lnTo>
                  <a:lnTo>
                    <a:pt x="922" y="1083"/>
                  </a:lnTo>
                  <a:lnTo>
                    <a:pt x="897" y="1146"/>
                  </a:lnTo>
                  <a:lnTo>
                    <a:pt x="872" y="1209"/>
                  </a:lnTo>
                  <a:lnTo>
                    <a:pt x="821" y="1222"/>
                  </a:lnTo>
                  <a:lnTo>
                    <a:pt x="770" y="1235"/>
                  </a:lnTo>
                  <a:lnTo>
                    <a:pt x="719" y="1248"/>
                  </a:lnTo>
                  <a:lnTo>
                    <a:pt x="667" y="1260"/>
                  </a:lnTo>
                  <a:lnTo>
                    <a:pt x="619" y="1255"/>
                  </a:lnTo>
                  <a:lnTo>
                    <a:pt x="635" y="1282"/>
                  </a:lnTo>
                  <a:lnTo>
                    <a:pt x="650" y="1371"/>
                  </a:lnTo>
                  <a:lnTo>
                    <a:pt x="636" y="1408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82"/>
            <p:cNvSpPr/>
            <p:nvPr/>
          </p:nvSpPr>
          <p:spPr>
            <a:xfrm>
              <a:off x="3272040" y="5967720"/>
              <a:ext cx="219960" cy="1263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244" h="158">
                  <a:moveTo>
                    <a:pt x="21" y="31"/>
                  </a:moveTo>
                  <a:lnTo>
                    <a:pt x="0" y="0"/>
                  </a:lnTo>
                  <a:lnTo>
                    <a:pt x="32" y="78"/>
                  </a:lnTo>
                  <a:lnTo>
                    <a:pt x="65" y="156"/>
                  </a:lnTo>
                  <a:lnTo>
                    <a:pt x="154" y="158"/>
                  </a:lnTo>
                  <a:lnTo>
                    <a:pt x="244" y="158"/>
                  </a:lnTo>
                  <a:lnTo>
                    <a:pt x="237" y="139"/>
                  </a:lnTo>
                  <a:lnTo>
                    <a:pt x="109" y="97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83"/>
            <p:cNvSpPr/>
            <p:nvPr/>
          </p:nvSpPr>
          <p:spPr>
            <a:xfrm>
              <a:off x="2631600" y="4012560"/>
              <a:ext cx="643680" cy="202572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2025720"/>
                <a:gd name="textAreaBottom" fmla="*/ 2026080 h 2025720"/>
              </a:gdLst>
              <a:ahLst/>
              <a:rect l="textAreaLeft" t="textAreaTop" r="textAreaRight" b="textAreaBottom"/>
              <a:pathLst>
                <a:path w="711" h="2636">
                  <a:moveTo>
                    <a:pt x="46" y="937"/>
                  </a:moveTo>
                  <a:lnTo>
                    <a:pt x="59" y="991"/>
                  </a:lnTo>
                  <a:lnTo>
                    <a:pt x="72" y="1046"/>
                  </a:lnTo>
                  <a:lnTo>
                    <a:pt x="79" y="1102"/>
                  </a:lnTo>
                  <a:lnTo>
                    <a:pt x="87" y="1156"/>
                  </a:lnTo>
                  <a:lnTo>
                    <a:pt x="79" y="1221"/>
                  </a:lnTo>
                  <a:lnTo>
                    <a:pt x="71" y="1287"/>
                  </a:lnTo>
                  <a:lnTo>
                    <a:pt x="66" y="1352"/>
                  </a:lnTo>
                  <a:lnTo>
                    <a:pt x="61" y="1417"/>
                  </a:lnTo>
                  <a:lnTo>
                    <a:pt x="45" y="1442"/>
                  </a:lnTo>
                  <a:lnTo>
                    <a:pt x="67" y="1504"/>
                  </a:lnTo>
                  <a:lnTo>
                    <a:pt x="89" y="1565"/>
                  </a:lnTo>
                  <a:lnTo>
                    <a:pt x="104" y="1634"/>
                  </a:lnTo>
                  <a:lnTo>
                    <a:pt x="97" y="1701"/>
                  </a:lnTo>
                  <a:lnTo>
                    <a:pt x="136" y="1761"/>
                  </a:lnTo>
                  <a:lnTo>
                    <a:pt x="141" y="1774"/>
                  </a:lnTo>
                  <a:lnTo>
                    <a:pt x="164" y="1760"/>
                  </a:lnTo>
                  <a:lnTo>
                    <a:pt x="187" y="1761"/>
                  </a:lnTo>
                  <a:lnTo>
                    <a:pt x="206" y="1750"/>
                  </a:lnTo>
                  <a:lnTo>
                    <a:pt x="199" y="1791"/>
                  </a:lnTo>
                  <a:lnTo>
                    <a:pt x="218" y="1812"/>
                  </a:lnTo>
                  <a:lnTo>
                    <a:pt x="208" y="1804"/>
                  </a:lnTo>
                  <a:lnTo>
                    <a:pt x="211" y="1826"/>
                  </a:lnTo>
                  <a:lnTo>
                    <a:pt x="219" y="1868"/>
                  </a:lnTo>
                  <a:lnTo>
                    <a:pt x="223" y="1917"/>
                  </a:lnTo>
                  <a:lnTo>
                    <a:pt x="224" y="1943"/>
                  </a:lnTo>
                  <a:lnTo>
                    <a:pt x="258" y="1971"/>
                  </a:lnTo>
                  <a:lnTo>
                    <a:pt x="239" y="2019"/>
                  </a:lnTo>
                  <a:lnTo>
                    <a:pt x="259" y="2035"/>
                  </a:lnTo>
                  <a:lnTo>
                    <a:pt x="245" y="2036"/>
                  </a:lnTo>
                  <a:lnTo>
                    <a:pt x="245" y="2055"/>
                  </a:lnTo>
                  <a:lnTo>
                    <a:pt x="248" y="2058"/>
                  </a:lnTo>
                  <a:lnTo>
                    <a:pt x="250" y="2094"/>
                  </a:lnTo>
                  <a:lnTo>
                    <a:pt x="256" y="2090"/>
                  </a:lnTo>
                  <a:lnTo>
                    <a:pt x="237" y="2118"/>
                  </a:lnTo>
                  <a:lnTo>
                    <a:pt x="232" y="2098"/>
                  </a:lnTo>
                  <a:lnTo>
                    <a:pt x="210" y="2097"/>
                  </a:lnTo>
                  <a:lnTo>
                    <a:pt x="212" y="2072"/>
                  </a:lnTo>
                  <a:lnTo>
                    <a:pt x="197" y="2074"/>
                  </a:lnTo>
                  <a:lnTo>
                    <a:pt x="180" y="2079"/>
                  </a:lnTo>
                  <a:lnTo>
                    <a:pt x="148" y="2137"/>
                  </a:lnTo>
                  <a:lnTo>
                    <a:pt x="159" y="2132"/>
                  </a:lnTo>
                  <a:lnTo>
                    <a:pt x="179" y="2121"/>
                  </a:lnTo>
                  <a:lnTo>
                    <a:pt x="215" y="2135"/>
                  </a:lnTo>
                  <a:lnTo>
                    <a:pt x="257" y="2168"/>
                  </a:lnTo>
                  <a:lnTo>
                    <a:pt x="239" y="2182"/>
                  </a:lnTo>
                  <a:lnTo>
                    <a:pt x="256" y="2194"/>
                  </a:lnTo>
                  <a:lnTo>
                    <a:pt x="229" y="2205"/>
                  </a:lnTo>
                  <a:lnTo>
                    <a:pt x="281" y="2202"/>
                  </a:lnTo>
                  <a:lnTo>
                    <a:pt x="285" y="2195"/>
                  </a:lnTo>
                  <a:lnTo>
                    <a:pt x="308" y="2223"/>
                  </a:lnTo>
                  <a:lnTo>
                    <a:pt x="308" y="2240"/>
                  </a:lnTo>
                  <a:lnTo>
                    <a:pt x="265" y="2231"/>
                  </a:lnTo>
                  <a:lnTo>
                    <a:pt x="249" y="2228"/>
                  </a:lnTo>
                  <a:lnTo>
                    <a:pt x="276" y="2272"/>
                  </a:lnTo>
                  <a:lnTo>
                    <a:pt x="303" y="2321"/>
                  </a:lnTo>
                  <a:lnTo>
                    <a:pt x="307" y="2347"/>
                  </a:lnTo>
                  <a:lnTo>
                    <a:pt x="319" y="2371"/>
                  </a:lnTo>
                  <a:lnTo>
                    <a:pt x="308" y="2380"/>
                  </a:lnTo>
                  <a:lnTo>
                    <a:pt x="338" y="2399"/>
                  </a:lnTo>
                  <a:lnTo>
                    <a:pt x="361" y="2428"/>
                  </a:lnTo>
                  <a:lnTo>
                    <a:pt x="358" y="2442"/>
                  </a:lnTo>
                  <a:lnTo>
                    <a:pt x="386" y="2459"/>
                  </a:lnTo>
                  <a:lnTo>
                    <a:pt x="401" y="2478"/>
                  </a:lnTo>
                  <a:lnTo>
                    <a:pt x="385" y="2472"/>
                  </a:lnTo>
                  <a:lnTo>
                    <a:pt x="416" y="2498"/>
                  </a:lnTo>
                  <a:lnTo>
                    <a:pt x="418" y="2517"/>
                  </a:lnTo>
                  <a:lnTo>
                    <a:pt x="443" y="2549"/>
                  </a:lnTo>
                  <a:lnTo>
                    <a:pt x="453" y="2562"/>
                  </a:lnTo>
                  <a:lnTo>
                    <a:pt x="482" y="2580"/>
                  </a:lnTo>
                  <a:lnTo>
                    <a:pt x="489" y="2589"/>
                  </a:lnTo>
                  <a:lnTo>
                    <a:pt x="480" y="2594"/>
                  </a:lnTo>
                  <a:lnTo>
                    <a:pt x="517" y="2604"/>
                  </a:lnTo>
                  <a:lnTo>
                    <a:pt x="600" y="2636"/>
                  </a:lnTo>
                  <a:lnTo>
                    <a:pt x="605" y="2550"/>
                  </a:lnTo>
                  <a:lnTo>
                    <a:pt x="651" y="2525"/>
                  </a:lnTo>
                  <a:lnTo>
                    <a:pt x="711" y="2532"/>
                  </a:lnTo>
                  <a:lnTo>
                    <a:pt x="614" y="2505"/>
                  </a:lnTo>
                  <a:lnTo>
                    <a:pt x="500" y="2494"/>
                  </a:lnTo>
                  <a:lnTo>
                    <a:pt x="467" y="2463"/>
                  </a:lnTo>
                  <a:lnTo>
                    <a:pt x="431" y="2408"/>
                  </a:lnTo>
                  <a:lnTo>
                    <a:pt x="397" y="2410"/>
                  </a:lnTo>
                  <a:lnTo>
                    <a:pt x="341" y="2316"/>
                  </a:lnTo>
                  <a:lnTo>
                    <a:pt x="377" y="2274"/>
                  </a:lnTo>
                  <a:lnTo>
                    <a:pt x="367" y="2175"/>
                  </a:lnTo>
                  <a:lnTo>
                    <a:pt x="355" y="2094"/>
                  </a:lnTo>
                  <a:lnTo>
                    <a:pt x="351" y="2038"/>
                  </a:lnTo>
                  <a:lnTo>
                    <a:pt x="335" y="2007"/>
                  </a:lnTo>
                  <a:lnTo>
                    <a:pt x="312" y="1992"/>
                  </a:lnTo>
                  <a:lnTo>
                    <a:pt x="351" y="1978"/>
                  </a:lnTo>
                  <a:lnTo>
                    <a:pt x="303" y="1950"/>
                  </a:lnTo>
                  <a:lnTo>
                    <a:pt x="276" y="1873"/>
                  </a:lnTo>
                  <a:lnTo>
                    <a:pt x="245" y="1832"/>
                  </a:lnTo>
                  <a:lnTo>
                    <a:pt x="243" y="1775"/>
                  </a:lnTo>
                  <a:lnTo>
                    <a:pt x="219" y="1677"/>
                  </a:lnTo>
                  <a:lnTo>
                    <a:pt x="212" y="1601"/>
                  </a:lnTo>
                  <a:lnTo>
                    <a:pt x="225" y="1555"/>
                  </a:lnTo>
                  <a:lnTo>
                    <a:pt x="217" y="1512"/>
                  </a:lnTo>
                  <a:lnTo>
                    <a:pt x="199" y="1450"/>
                  </a:lnTo>
                  <a:lnTo>
                    <a:pt x="181" y="1390"/>
                  </a:lnTo>
                  <a:lnTo>
                    <a:pt x="211" y="1341"/>
                  </a:lnTo>
                  <a:lnTo>
                    <a:pt x="197" y="1293"/>
                  </a:lnTo>
                  <a:lnTo>
                    <a:pt x="206" y="1199"/>
                  </a:lnTo>
                  <a:lnTo>
                    <a:pt x="191" y="1156"/>
                  </a:lnTo>
                  <a:lnTo>
                    <a:pt x="161" y="1097"/>
                  </a:lnTo>
                  <a:lnTo>
                    <a:pt x="131" y="1038"/>
                  </a:lnTo>
                  <a:lnTo>
                    <a:pt x="132" y="991"/>
                  </a:lnTo>
                  <a:lnTo>
                    <a:pt x="143" y="944"/>
                  </a:lnTo>
                  <a:lnTo>
                    <a:pt x="140" y="892"/>
                  </a:lnTo>
                  <a:lnTo>
                    <a:pt x="137" y="838"/>
                  </a:lnTo>
                  <a:lnTo>
                    <a:pt x="163" y="772"/>
                  </a:lnTo>
                  <a:lnTo>
                    <a:pt x="189" y="707"/>
                  </a:lnTo>
                  <a:lnTo>
                    <a:pt x="207" y="687"/>
                  </a:lnTo>
                  <a:lnTo>
                    <a:pt x="183" y="644"/>
                  </a:lnTo>
                  <a:lnTo>
                    <a:pt x="173" y="542"/>
                  </a:lnTo>
                  <a:lnTo>
                    <a:pt x="183" y="505"/>
                  </a:lnTo>
                  <a:lnTo>
                    <a:pt x="238" y="478"/>
                  </a:lnTo>
                  <a:lnTo>
                    <a:pt x="251" y="403"/>
                  </a:lnTo>
                  <a:lnTo>
                    <a:pt x="238" y="389"/>
                  </a:lnTo>
                  <a:lnTo>
                    <a:pt x="193" y="382"/>
                  </a:lnTo>
                  <a:lnTo>
                    <a:pt x="167" y="316"/>
                  </a:lnTo>
                  <a:lnTo>
                    <a:pt x="140" y="251"/>
                  </a:lnTo>
                  <a:lnTo>
                    <a:pt x="122" y="188"/>
                  </a:lnTo>
                  <a:lnTo>
                    <a:pt x="124" y="134"/>
                  </a:lnTo>
                  <a:lnTo>
                    <a:pt x="89" y="84"/>
                  </a:lnTo>
                  <a:lnTo>
                    <a:pt x="70" y="34"/>
                  </a:lnTo>
                  <a:lnTo>
                    <a:pt x="51" y="0"/>
                  </a:lnTo>
                  <a:lnTo>
                    <a:pt x="35" y="29"/>
                  </a:lnTo>
                  <a:lnTo>
                    <a:pt x="13" y="61"/>
                  </a:lnTo>
                  <a:lnTo>
                    <a:pt x="0" y="63"/>
                  </a:lnTo>
                  <a:lnTo>
                    <a:pt x="17" y="155"/>
                  </a:lnTo>
                  <a:lnTo>
                    <a:pt x="36" y="248"/>
                  </a:lnTo>
                  <a:lnTo>
                    <a:pt x="34" y="328"/>
                  </a:lnTo>
                  <a:lnTo>
                    <a:pt x="33" y="409"/>
                  </a:lnTo>
                  <a:lnTo>
                    <a:pt x="32" y="441"/>
                  </a:lnTo>
                  <a:lnTo>
                    <a:pt x="42" y="532"/>
                  </a:lnTo>
                  <a:lnTo>
                    <a:pt x="45" y="612"/>
                  </a:lnTo>
                  <a:lnTo>
                    <a:pt x="42" y="715"/>
                  </a:lnTo>
                  <a:lnTo>
                    <a:pt x="41" y="819"/>
                  </a:lnTo>
                  <a:lnTo>
                    <a:pt x="45" y="864"/>
                  </a:lnTo>
                  <a:lnTo>
                    <a:pt x="46" y="937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84"/>
            <p:cNvSpPr/>
            <p:nvPr/>
          </p:nvSpPr>
          <p:spPr>
            <a:xfrm>
              <a:off x="3158640" y="5964120"/>
              <a:ext cx="169920" cy="124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88" h="163">
                  <a:moveTo>
                    <a:pt x="123" y="7"/>
                  </a:moveTo>
                  <a:lnTo>
                    <a:pt x="155" y="85"/>
                  </a:lnTo>
                  <a:lnTo>
                    <a:pt x="188" y="163"/>
                  </a:lnTo>
                  <a:lnTo>
                    <a:pt x="167" y="158"/>
                  </a:lnTo>
                  <a:lnTo>
                    <a:pt x="141" y="162"/>
                  </a:lnTo>
                  <a:lnTo>
                    <a:pt x="74" y="154"/>
                  </a:lnTo>
                  <a:lnTo>
                    <a:pt x="54" y="150"/>
                  </a:lnTo>
                  <a:lnTo>
                    <a:pt x="0" y="145"/>
                  </a:lnTo>
                  <a:lnTo>
                    <a:pt x="14" y="139"/>
                  </a:lnTo>
                  <a:lnTo>
                    <a:pt x="46" y="127"/>
                  </a:lnTo>
                  <a:lnTo>
                    <a:pt x="65" y="139"/>
                  </a:lnTo>
                  <a:lnTo>
                    <a:pt x="84" y="139"/>
                  </a:lnTo>
                  <a:lnTo>
                    <a:pt x="51" y="121"/>
                  </a:lnTo>
                  <a:lnTo>
                    <a:pt x="91" y="129"/>
                  </a:lnTo>
                  <a:lnTo>
                    <a:pt x="110" y="131"/>
                  </a:lnTo>
                  <a:lnTo>
                    <a:pt x="142" y="140"/>
                  </a:lnTo>
                  <a:lnTo>
                    <a:pt x="150" y="141"/>
                  </a:lnTo>
                  <a:lnTo>
                    <a:pt x="78" y="97"/>
                  </a:lnTo>
                  <a:lnTo>
                    <a:pt x="107" y="65"/>
                  </a:lnTo>
                  <a:lnTo>
                    <a:pt x="60" y="65"/>
                  </a:lnTo>
                  <a:lnTo>
                    <a:pt x="40" y="12"/>
                  </a:lnTo>
                  <a:lnTo>
                    <a:pt x="65" y="0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85"/>
            <p:cNvSpPr/>
            <p:nvPr/>
          </p:nvSpPr>
          <p:spPr>
            <a:xfrm>
              <a:off x="2738160" y="5380560"/>
              <a:ext cx="41400" cy="795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1" h="108">
                  <a:moveTo>
                    <a:pt x="19" y="0"/>
                  </a:moveTo>
                  <a:lnTo>
                    <a:pt x="0" y="10"/>
                  </a:lnTo>
                  <a:lnTo>
                    <a:pt x="24" y="108"/>
                  </a:lnTo>
                  <a:lnTo>
                    <a:pt x="47" y="99"/>
                  </a:lnTo>
                  <a:lnTo>
                    <a:pt x="51" y="83"/>
                  </a:lnTo>
                  <a:lnTo>
                    <a:pt x="38" y="35"/>
                  </a:lnTo>
                  <a:lnTo>
                    <a:pt x="47" y="3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86"/>
            <p:cNvSpPr/>
            <p:nvPr/>
          </p:nvSpPr>
          <p:spPr>
            <a:xfrm>
              <a:off x="2843280" y="5761800"/>
              <a:ext cx="42840" cy="67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7" h="90">
                  <a:moveTo>
                    <a:pt x="30" y="0"/>
                  </a:moveTo>
                  <a:lnTo>
                    <a:pt x="0" y="36"/>
                  </a:lnTo>
                  <a:lnTo>
                    <a:pt x="32" y="77"/>
                  </a:lnTo>
                  <a:lnTo>
                    <a:pt x="56" y="90"/>
                  </a:lnTo>
                  <a:lnTo>
                    <a:pt x="57" y="6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7"/>
            <p:cNvSpPr/>
            <p:nvPr/>
          </p:nvSpPr>
          <p:spPr>
            <a:xfrm>
              <a:off x="1959480" y="2948040"/>
              <a:ext cx="330120" cy="358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366" h="471">
                  <a:moveTo>
                    <a:pt x="1" y="188"/>
                  </a:moveTo>
                  <a:lnTo>
                    <a:pt x="8" y="261"/>
                  </a:lnTo>
                  <a:lnTo>
                    <a:pt x="0" y="276"/>
                  </a:lnTo>
                  <a:lnTo>
                    <a:pt x="47" y="296"/>
                  </a:lnTo>
                  <a:lnTo>
                    <a:pt x="59" y="279"/>
                  </a:lnTo>
                  <a:lnTo>
                    <a:pt x="66" y="293"/>
                  </a:lnTo>
                  <a:lnTo>
                    <a:pt x="64" y="340"/>
                  </a:lnTo>
                  <a:lnTo>
                    <a:pt x="39" y="352"/>
                  </a:lnTo>
                  <a:lnTo>
                    <a:pt x="45" y="394"/>
                  </a:lnTo>
                  <a:lnTo>
                    <a:pt x="32" y="426"/>
                  </a:lnTo>
                  <a:lnTo>
                    <a:pt x="54" y="419"/>
                  </a:lnTo>
                  <a:lnTo>
                    <a:pt x="123" y="471"/>
                  </a:lnTo>
                  <a:lnTo>
                    <a:pt x="143" y="444"/>
                  </a:lnTo>
                  <a:lnTo>
                    <a:pt x="150" y="412"/>
                  </a:lnTo>
                  <a:lnTo>
                    <a:pt x="166" y="387"/>
                  </a:lnTo>
                  <a:lnTo>
                    <a:pt x="175" y="343"/>
                  </a:lnTo>
                  <a:lnTo>
                    <a:pt x="183" y="343"/>
                  </a:lnTo>
                  <a:lnTo>
                    <a:pt x="183" y="356"/>
                  </a:lnTo>
                  <a:lnTo>
                    <a:pt x="195" y="354"/>
                  </a:lnTo>
                  <a:lnTo>
                    <a:pt x="189" y="341"/>
                  </a:lnTo>
                  <a:lnTo>
                    <a:pt x="204" y="324"/>
                  </a:lnTo>
                  <a:lnTo>
                    <a:pt x="245" y="308"/>
                  </a:lnTo>
                  <a:lnTo>
                    <a:pt x="313" y="261"/>
                  </a:lnTo>
                  <a:lnTo>
                    <a:pt x="353" y="176"/>
                  </a:lnTo>
                  <a:lnTo>
                    <a:pt x="366" y="177"/>
                  </a:lnTo>
                  <a:lnTo>
                    <a:pt x="342" y="119"/>
                  </a:lnTo>
                  <a:lnTo>
                    <a:pt x="361" y="113"/>
                  </a:lnTo>
                  <a:lnTo>
                    <a:pt x="289" y="76"/>
                  </a:lnTo>
                  <a:lnTo>
                    <a:pt x="226" y="78"/>
                  </a:lnTo>
                  <a:lnTo>
                    <a:pt x="187" y="40"/>
                  </a:lnTo>
                  <a:lnTo>
                    <a:pt x="135" y="0"/>
                  </a:lnTo>
                  <a:lnTo>
                    <a:pt x="110" y="27"/>
                  </a:lnTo>
                  <a:lnTo>
                    <a:pt x="52" y="57"/>
                  </a:lnTo>
                  <a:lnTo>
                    <a:pt x="36" y="118"/>
                  </a:lnTo>
                  <a:lnTo>
                    <a:pt x="32" y="151"/>
                  </a:lnTo>
                  <a:lnTo>
                    <a:pt x="1" y="188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88"/>
            <p:cNvSpPr/>
            <p:nvPr/>
          </p:nvSpPr>
          <p:spPr>
            <a:xfrm>
              <a:off x="1335240" y="3034080"/>
              <a:ext cx="36360" cy="50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65">
                  <a:moveTo>
                    <a:pt x="0" y="0"/>
                  </a:moveTo>
                  <a:lnTo>
                    <a:pt x="21" y="39"/>
                  </a:lnTo>
                  <a:lnTo>
                    <a:pt x="0" y="62"/>
                  </a:lnTo>
                  <a:lnTo>
                    <a:pt x="40" y="6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9"/>
            <p:cNvSpPr/>
            <p:nvPr/>
          </p:nvSpPr>
          <p:spPr>
            <a:xfrm>
              <a:off x="2004480" y="3177360"/>
              <a:ext cx="6120" cy="18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4">
                  <a:moveTo>
                    <a:pt x="17" y="2"/>
                  </a:moveTo>
                  <a:lnTo>
                    <a:pt x="5" y="14"/>
                  </a:lnTo>
                  <a:lnTo>
                    <a:pt x="0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0"/>
            <p:cNvSpPr/>
            <p:nvPr/>
          </p:nvSpPr>
          <p:spPr>
            <a:xfrm>
              <a:off x="1393920" y="3062880"/>
              <a:ext cx="21240" cy="648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2" h="6">
                  <a:moveTo>
                    <a:pt x="22" y="5"/>
                  </a:moveTo>
                  <a:lnTo>
                    <a:pt x="20" y="6"/>
                  </a:lnTo>
                  <a:lnTo>
                    <a:pt x="0" y="0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1"/>
            <p:cNvSpPr/>
            <p:nvPr/>
          </p:nvSpPr>
          <p:spPr>
            <a:xfrm>
              <a:off x="1937520" y="3034080"/>
              <a:ext cx="770760" cy="1028520"/>
            </a:xfrm>
            <a:custGeom>
              <a:avLst/>
              <a:gdLst>
                <a:gd name="textAreaLeft" fmla="*/ 0 w 770760"/>
                <a:gd name="textAreaRight" fmla="*/ 771120 w 77076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49" h="1341">
                  <a:moveTo>
                    <a:pt x="832" y="1020"/>
                  </a:moveTo>
                  <a:lnTo>
                    <a:pt x="822" y="1058"/>
                  </a:lnTo>
                  <a:lnTo>
                    <a:pt x="819" y="1120"/>
                  </a:lnTo>
                  <a:lnTo>
                    <a:pt x="828" y="1181"/>
                  </a:lnTo>
                  <a:lnTo>
                    <a:pt x="849" y="1188"/>
                  </a:lnTo>
                  <a:lnTo>
                    <a:pt x="820" y="1249"/>
                  </a:lnTo>
                  <a:lnTo>
                    <a:pt x="819" y="1278"/>
                  </a:lnTo>
                  <a:lnTo>
                    <a:pt x="803" y="1307"/>
                  </a:lnTo>
                  <a:lnTo>
                    <a:pt x="781" y="1339"/>
                  </a:lnTo>
                  <a:lnTo>
                    <a:pt x="768" y="1341"/>
                  </a:lnTo>
                  <a:lnTo>
                    <a:pt x="725" y="1306"/>
                  </a:lnTo>
                  <a:lnTo>
                    <a:pt x="698" y="1271"/>
                  </a:lnTo>
                  <a:lnTo>
                    <a:pt x="642" y="1239"/>
                  </a:lnTo>
                  <a:lnTo>
                    <a:pt x="587" y="1207"/>
                  </a:lnTo>
                  <a:lnTo>
                    <a:pt x="532" y="1175"/>
                  </a:lnTo>
                  <a:lnTo>
                    <a:pt x="476" y="1143"/>
                  </a:lnTo>
                  <a:lnTo>
                    <a:pt x="419" y="1088"/>
                  </a:lnTo>
                  <a:lnTo>
                    <a:pt x="364" y="1033"/>
                  </a:lnTo>
                  <a:lnTo>
                    <a:pt x="366" y="996"/>
                  </a:lnTo>
                  <a:lnTo>
                    <a:pt x="323" y="915"/>
                  </a:lnTo>
                  <a:lnTo>
                    <a:pt x="279" y="835"/>
                  </a:lnTo>
                  <a:lnTo>
                    <a:pt x="249" y="784"/>
                  </a:lnTo>
                  <a:lnTo>
                    <a:pt x="218" y="735"/>
                  </a:lnTo>
                  <a:lnTo>
                    <a:pt x="191" y="680"/>
                  </a:lnTo>
                  <a:lnTo>
                    <a:pt x="165" y="627"/>
                  </a:lnTo>
                  <a:lnTo>
                    <a:pt x="138" y="572"/>
                  </a:lnTo>
                  <a:lnTo>
                    <a:pt x="110" y="519"/>
                  </a:lnTo>
                  <a:lnTo>
                    <a:pt x="64" y="482"/>
                  </a:lnTo>
                  <a:lnTo>
                    <a:pt x="18" y="445"/>
                  </a:lnTo>
                  <a:lnTo>
                    <a:pt x="25" y="427"/>
                  </a:lnTo>
                  <a:lnTo>
                    <a:pt x="0" y="330"/>
                  </a:lnTo>
                  <a:lnTo>
                    <a:pt x="31" y="287"/>
                  </a:lnTo>
                  <a:lnTo>
                    <a:pt x="61" y="244"/>
                  </a:lnTo>
                  <a:lnTo>
                    <a:pt x="67" y="286"/>
                  </a:lnTo>
                  <a:lnTo>
                    <a:pt x="54" y="318"/>
                  </a:lnTo>
                  <a:lnTo>
                    <a:pt x="76" y="311"/>
                  </a:lnTo>
                  <a:lnTo>
                    <a:pt x="145" y="363"/>
                  </a:lnTo>
                  <a:lnTo>
                    <a:pt x="165" y="336"/>
                  </a:lnTo>
                  <a:lnTo>
                    <a:pt x="172" y="304"/>
                  </a:lnTo>
                  <a:lnTo>
                    <a:pt x="188" y="279"/>
                  </a:lnTo>
                  <a:lnTo>
                    <a:pt x="197" y="235"/>
                  </a:lnTo>
                  <a:lnTo>
                    <a:pt x="205" y="235"/>
                  </a:lnTo>
                  <a:lnTo>
                    <a:pt x="205" y="248"/>
                  </a:lnTo>
                  <a:lnTo>
                    <a:pt x="217" y="246"/>
                  </a:lnTo>
                  <a:lnTo>
                    <a:pt x="211" y="233"/>
                  </a:lnTo>
                  <a:lnTo>
                    <a:pt x="226" y="216"/>
                  </a:lnTo>
                  <a:lnTo>
                    <a:pt x="267" y="200"/>
                  </a:lnTo>
                  <a:lnTo>
                    <a:pt x="335" y="153"/>
                  </a:lnTo>
                  <a:lnTo>
                    <a:pt x="375" y="68"/>
                  </a:lnTo>
                  <a:lnTo>
                    <a:pt x="388" y="69"/>
                  </a:lnTo>
                  <a:lnTo>
                    <a:pt x="364" y="11"/>
                  </a:lnTo>
                  <a:lnTo>
                    <a:pt x="383" y="5"/>
                  </a:lnTo>
                  <a:lnTo>
                    <a:pt x="387" y="0"/>
                  </a:lnTo>
                  <a:lnTo>
                    <a:pt x="424" y="36"/>
                  </a:lnTo>
                  <a:lnTo>
                    <a:pt x="460" y="73"/>
                  </a:lnTo>
                  <a:lnTo>
                    <a:pt x="510" y="130"/>
                  </a:lnTo>
                  <a:lnTo>
                    <a:pt x="522" y="163"/>
                  </a:lnTo>
                  <a:lnTo>
                    <a:pt x="603" y="164"/>
                  </a:lnTo>
                  <a:lnTo>
                    <a:pt x="651" y="168"/>
                  </a:lnTo>
                  <a:lnTo>
                    <a:pt x="717" y="189"/>
                  </a:lnTo>
                  <a:lnTo>
                    <a:pt x="692" y="278"/>
                  </a:lnTo>
                  <a:lnTo>
                    <a:pt x="733" y="306"/>
                  </a:lnTo>
                  <a:lnTo>
                    <a:pt x="711" y="304"/>
                  </a:lnTo>
                  <a:lnTo>
                    <a:pt x="656" y="318"/>
                  </a:lnTo>
                  <a:lnTo>
                    <a:pt x="604" y="343"/>
                  </a:lnTo>
                  <a:lnTo>
                    <a:pt x="553" y="367"/>
                  </a:lnTo>
                  <a:lnTo>
                    <a:pt x="536" y="423"/>
                  </a:lnTo>
                  <a:lnTo>
                    <a:pt x="520" y="480"/>
                  </a:lnTo>
                  <a:lnTo>
                    <a:pt x="486" y="538"/>
                  </a:lnTo>
                  <a:lnTo>
                    <a:pt x="515" y="593"/>
                  </a:lnTo>
                  <a:lnTo>
                    <a:pt x="545" y="649"/>
                  </a:lnTo>
                  <a:lnTo>
                    <a:pt x="541" y="680"/>
                  </a:lnTo>
                  <a:lnTo>
                    <a:pt x="567" y="687"/>
                  </a:lnTo>
                  <a:lnTo>
                    <a:pt x="605" y="717"/>
                  </a:lnTo>
                  <a:lnTo>
                    <a:pt x="657" y="730"/>
                  </a:lnTo>
                  <a:lnTo>
                    <a:pt x="701" y="694"/>
                  </a:lnTo>
                  <a:lnTo>
                    <a:pt x="705" y="749"/>
                  </a:lnTo>
                  <a:lnTo>
                    <a:pt x="709" y="803"/>
                  </a:lnTo>
                  <a:lnTo>
                    <a:pt x="778" y="799"/>
                  </a:lnTo>
                  <a:lnTo>
                    <a:pt x="810" y="856"/>
                  </a:lnTo>
                  <a:lnTo>
                    <a:pt x="844" y="912"/>
                  </a:lnTo>
                  <a:lnTo>
                    <a:pt x="833" y="929"/>
                  </a:lnTo>
                  <a:lnTo>
                    <a:pt x="832" y="102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22"/>
            <p:cNvSpPr/>
            <p:nvPr/>
          </p:nvSpPr>
          <p:spPr>
            <a:xfrm>
              <a:off x="3710880" y="3037320"/>
              <a:ext cx="141840" cy="9432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54" h="127">
                  <a:moveTo>
                    <a:pt x="80" y="115"/>
                  </a:moveTo>
                  <a:lnTo>
                    <a:pt x="68" y="122"/>
                  </a:lnTo>
                  <a:lnTo>
                    <a:pt x="33" y="107"/>
                  </a:lnTo>
                  <a:lnTo>
                    <a:pt x="22" y="127"/>
                  </a:lnTo>
                  <a:lnTo>
                    <a:pt x="0" y="72"/>
                  </a:lnTo>
                  <a:lnTo>
                    <a:pt x="10" y="70"/>
                  </a:lnTo>
                  <a:lnTo>
                    <a:pt x="5" y="40"/>
                  </a:lnTo>
                  <a:lnTo>
                    <a:pt x="25" y="0"/>
                  </a:lnTo>
                  <a:lnTo>
                    <a:pt x="90" y="10"/>
                  </a:lnTo>
                  <a:lnTo>
                    <a:pt x="154" y="19"/>
                  </a:lnTo>
                  <a:lnTo>
                    <a:pt x="124" y="81"/>
                  </a:lnTo>
                  <a:lnTo>
                    <a:pt x="119" y="88"/>
                  </a:lnTo>
                  <a:lnTo>
                    <a:pt x="112" y="104"/>
                  </a:lnTo>
                  <a:lnTo>
                    <a:pt x="101" y="104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59"/>
          <p:cNvSpPr/>
          <p:nvPr/>
        </p:nvSpPr>
        <p:spPr>
          <a:xfrm>
            <a:off x="2746440" y="4876920"/>
            <a:ext cx="73080" cy="7308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0"/>
          <p:cNvSpPr/>
          <p:nvPr/>
        </p:nvSpPr>
        <p:spPr>
          <a:xfrm>
            <a:off x="3238560" y="4875120"/>
            <a:ext cx="73080" cy="7308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1"/>
          <p:cNvSpPr/>
          <p:nvPr/>
        </p:nvSpPr>
        <p:spPr>
          <a:xfrm>
            <a:off x="3564000" y="4925880"/>
            <a:ext cx="73080" cy="7308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62"/>
          <p:cNvGrpSpPr/>
          <p:nvPr/>
        </p:nvGrpSpPr>
        <p:grpSpPr>
          <a:xfrm>
            <a:off x="4500720" y="3429000"/>
            <a:ext cx="1565280" cy="758880"/>
            <a:chOff x="4500720" y="3429000"/>
            <a:chExt cx="1565280" cy="758880"/>
          </a:xfrm>
        </p:grpSpPr>
        <p:pic>
          <p:nvPicPr>
            <p:cNvPr id="313" name="Picture 12" descr="banner"/>
            <p:cNvPicPr/>
            <p:nvPr/>
          </p:nvPicPr>
          <p:blipFill>
            <a:blip r:embed="rId2"/>
            <a:stretch/>
          </p:blipFill>
          <p:spPr>
            <a:xfrm>
              <a:off x="4500720" y="3933720"/>
              <a:ext cx="151128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4" descr=""/>
            <p:cNvPicPr/>
            <p:nvPr/>
          </p:nvPicPr>
          <p:blipFill>
            <a:blip r:embed="rId3"/>
            <a:stretch/>
          </p:blipFill>
          <p:spPr>
            <a:xfrm>
              <a:off x="4500720" y="3429000"/>
              <a:ext cx="156528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65"/>
          <p:cNvGrpSpPr/>
          <p:nvPr/>
        </p:nvGrpSpPr>
        <p:grpSpPr>
          <a:xfrm>
            <a:off x="1403280" y="1052640"/>
            <a:ext cx="893880" cy="934920"/>
            <a:chOff x="1403280" y="1052640"/>
            <a:chExt cx="893880" cy="934920"/>
          </a:xfrm>
        </p:grpSpPr>
        <p:sp>
          <p:nvSpPr>
            <p:cNvPr id="316" name="AutoShape 66"/>
            <p:cNvSpPr/>
            <p:nvPr/>
          </p:nvSpPr>
          <p:spPr>
            <a:xfrm>
              <a:off x="1476360" y="1843200"/>
              <a:ext cx="73080" cy="7308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Picture 3" descr=""/>
            <p:cNvPicPr/>
            <p:nvPr/>
          </p:nvPicPr>
          <p:blipFill>
            <a:blip r:embed="rId4"/>
            <a:stretch/>
          </p:blipFill>
          <p:spPr>
            <a:xfrm>
              <a:off x="1403280" y="1052640"/>
              <a:ext cx="70020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4" descr=""/>
            <p:cNvPicPr/>
            <p:nvPr/>
          </p:nvPicPr>
          <p:blipFill>
            <a:blip r:embed="rId5"/>
            <a:stretch/>
          </p:blipFill>
          <p:spPr>
            <a:xfrm>
              <a:off x="1403280" y="1710000"/>
              <a:ext cx="893880" cy="27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Group 70"/>
          <p:cNvGrpSpPr/>
          <p:nvPr/>
        </p:nvGrpSpPr>
        <p:grpSpPr>
          <a:xfrm>
            <a:off x="3278160" y="4925880"/>
            <a:ext cx="933480" cy="1311480"/>
            <a:chOff x="3278160" y="4925880"/>
            <a:chExt cx="933480" cy="1311480"/>
          </a:xfrm>
        </p:grpSpPr>
        <p:sp>
          <p:nvSpPr>
            <p:cNvPr id="320" name="Line 71"/>
            <p:cNvSpPr/>
            <p:nvPr/>
          </p:nvSpPr>
          <p:spPr>
            <a:xfrm>
              <a:off x="3278160" y="4925880"/>
              <a:ext cx="4302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72" descr=""/>
            <p:cNvPicPr/>
            <p:nvPr/>
          </p:nvPicPr>
          <p:blipFill>
            <a:blip r:embed="rId6"/>
            <a:stretch/>
          </p:blipFill>
          <p:spPr>
            <a:xfrm>
              <a:off x="3514680" y="5502240"/>
              <a:ext cx="696960" cy="73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Group 73"/>
          <p:cNvGrpSpPr/>
          <p:nvPr/>
        </p:nvGrpSpPr>
        <p:grpSpPr>
          <a:xfrm>
            <a:off x="3635280" y="4667400"/>
            <a:ext cx="1106640" cy="1123920"/>
            <a:chOff x="3635280" y="4667400"/>
            <a:chExt cx="1106640" cy="1123920"/>
          </a:xfrm>
        </p:grpSpPr>
        <p:sp>
          <p:nvSpPr>
            <p:cNvPr id="323" name="Line 74"/>
            <p:cNvSpPr/>
            <p:nvPr/>
          </p:nvSpPr>
          <p:spPr>
            <a:xfrm>
              <a:off x="3635280" y="4941720"/>
              <a:ext cx="720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75"/>
            <p:cNvGrpSpPr/>
            <p:nvPr/>
          </p:nvGrpSpPr>
          <p:grpSpPr>
            <a:xfrm>
              <a:off x="4284720" y="4667400"/>
              <a:ext cx="457200" cy="1123920"/>
              <a:chOff x="4284720" y="4667400"/>
              <a:chExt cx="457200" cy="1123920"/>
            </a:xfrm>
          </p:grpSpPr>
          <p:pic>
            <p:nvPicPr>
              <p:cNvPr id="325" name="Imagen 2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7840" y="4667400"/>
                <a:ext cx="424080" cy="5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Imagen 1" descr="Descripción: http://www.fenf.edu.uy/images/logotipo_institucional/rgb/logotipo_fdee_4cm_72ppp_rgb.png"/>
              <p:cNvPicPr/>
              <p:nvPr/>
            </p:nvPicPr>
            <p:blipFill>
              <a:blip r:embed="rId8"/>
              <a:stretch/>
            </p:blipFill>
            <p:spPr>
              <a:xfrm>
                <a:off x="4284720" y="5286600"/>
                <a:ext cx="457200" cy="504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27" name="Picture 20" descr="universidad-del-rosario-colombia"/>
          <p:cNvPicPr/>
          <p:nvPr/>
        </p:nvPicPr>
        <p:blipFill>
          <a:blip r:embed="rId9"/>
          <a:srcRect l="0" t="6779" r="0" b="6486"/>
          <a:stretch/>
        </p:blipFill>
        <p:spPr>
          <a:xfrm>
            <a:off x="900000" y="2708280"/>
            <a:ext cx="1152720" cy="698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6" descr="csc-cen-pos"/>
          <p:cNvPicPr/>
          <p:nvPr/>
        </p:nvPicPr>
        <p:blipFill>
          <a:blip r:embed="rId10"/>
          <a:srcRect l="16366" t="26936" r="19819" b="26325"/>
          <a:stretch/>
        </p:blipFill>
        <p:spPr>
          <a:xfrm>
            <a:off x="7885080" y="3357720"/>
            <a:ext cx="865080" cy="49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itm"/>
          <p:cNvPicPr/>
          <p:nvPr/>
        </p:nvPicPr>
        <p:blipFill>
          <a:blip r:embed="rId11"/>
          <a:stretch/>
        </p:blipFill>
        <p:spPr>
          <a:xfrm>
            <a:off x="7524720" y="1125360"/>
            <a:ext cx="604800" cy="8161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nstituciones participan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82" descr=""/>
          <p:cNvPicPr/>
          <p:nvPr/>
        </p:nvPicPr>
        <p:blipFill>
          <a:blip r:embed="rId12"/>
          <a:stretch/>
        </p:blipFill>
        <p:spPr>
          <a:xfrm>
            <a:off x="1835280" y="4581360"/>
            <a:ext cx="72360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3640" y="119700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c700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es concep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buClr>
                <a:srgbClr val="c700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514440">
              <a:spcBef>
                <a:spcPts val="601"/>
              </a:spcBef>
              <a:buClr>
                <a:srgbClr val="c700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cedentes: ¿por qué hablamos de re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514440">
              <a:spcBef>
                <a:spcPts val="601"/>
              </a:spcBef>
              <a:buClr>
                <a:srgbClr val="c700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o para el análisis de R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514440">
              <a:spcBef>
                <a:spcPts val="601"/>
              </a:spcBef>
              <a:buClr>
                <a:srgbClr val="c7004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venciones para mejorar el desemp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c700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c70044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yecto Equity L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c700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c700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036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1. Reformas y redes de servicios de salu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s al sector salud durante las últimas décadas, para mejorar la equidad y eficiencia del sistema de salud en Latino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ragmentación de la atención prevalente en los sistemas de salud de América Latina causa de baja efectividad, eficiencia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troducción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des integradas de servicios de salu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ampliamente promovida por gobiernos y organizaciones internacionales, sin evidencia de su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3788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1. Antecedentes: Resultados del Equity-L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2852640"/>
            <a:ext cx="4968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2" marL="612720" indent="-239400">
              <a:spcBef>
                <a:spcPts val="1001"/>
              </a:spcBef>
              <a:buClr>
                <a:srgbClr val="0b14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b1455"/>
                </a:solidFill>
                <a:latin typeface="Arial"/>
              </a:rPr>
              <a:t>Relacionadas con deficiencias en la coordinación asiste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2720" indent="-239400">
              <a:spcBef>
                <a:spcPts val="400"/>
              </a:spcBef>
              <a:buClr>
                <a:srgbClr val="0b14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883440" indent="-87120">
              <a:spcBef>
                <a:spcPts val="99"/>
              </a:spcBef>
              <a:buClr>
                <a:srgbClr val="0b14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tores extern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83440" indent="-8712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regulación contratos entre aseguradoras y 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83440" indent="-8712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Falta de políticas que promuevan la coordinación a nivel d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83440" indent="-8712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883440" indent="-87120">
              <a:spcBef>
                <a:spcPts val="799"/>
              </a:spcBef>
              <a:buClr>
                <a:srgbClr val="0b14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tores interno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83440" indent="-8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Insuficiente capacidad resolutiva  en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83440" indent="-8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Falta de comunicación entre profes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83440" indent="-8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Insuficientes mecanismos de coordinación (SI); Escasa adherencia a gu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83440" indent="-8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Falta de formación a profes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3 Rectángulo"/>
          <p:cNvSpPr/>
          <p:nvPr/>
        </p:nvSpPr>
        <p:spPr>
          <a:xfrm>
            <a:off x="4618080" y="2852640"/>
            <a:ext cx="45259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25320" indent="-244440">
              <a:spcBef>
                <a:spcPts val="1001"/>
              </a:spcBef>
              <a:buClr>
                <a:srgbClr val="0b14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b1455"/>
                </a:solidFill>
                <a:latin typeface="Arial"/>
              </a:rPr>
              <a:t>Calidad asistencial traz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01800" indent="-88920">
              <a:spcBef>
                <a:spcPts val="799"/>
              </a:spcBef>
              <a:buClr>
                <a:srgbClr val="0b14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guimiento limitado de pac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01800" indent="-88920">
              <a:spcBef>
                <a:spcPts val="799"/>
              </a:spcBef>
              <a:buClr>
                <a:srgbClr val="0b14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mplimiento limitado de los estándares clín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01800" indent="-88920">
              <a:spcBef>
                <a:spcPts val="799"/>
              </a:spcBef>
              <a:buClr>
                <a:srgbClr val="0b14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rgos periodos de tiempo desde el inicio de síntomas hasta el inicio del tratamiento (cáncer mama,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324000" y="103968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 nivel de política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 avances en formulación de re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buClr>
                <a:srgbClr val="00000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imitada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A nivel de redes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problemas de acceso, no sólo de entrada, sino a nivel y atención adecu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611280" y="1268280"/>
            <a:ext cx="3716280" cy="19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Nivel macro:   Objetivos de las políticas sobre equidad,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eficiencia y continu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rategias para desarrollar las RI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étodos de asignación de recurs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Nivel micro:     Oferta de servicios en el á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aracterísticas de la población cubier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206880" y="435996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3708360" y="4833000"/>
            <a:ext cx="165564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termedio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oordin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ontinuidad asistenc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cce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708360" y="6026760"/>
            <a:ext cx="172548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Final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quidad de acce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1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4502160" y="566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7"/>
          <p:cNvGrpSpPr/>
          <p:nvPr/>
        </p:nvGrpSpPr>
        <p:grpSpPr>
          <a:xfrm>
            <a:off x="4716360" y="1323000"/>
            <a:ext cx="3888000" cy="1890000"/>
            <a:chOff x="4716360" y="1323000"/>
            <a:chExt cx="3888000" cy="1890000"/>
          </a:xfrm>
        </p:grpSpPr>
        <p:cxnSp>
          <p:nvCxnSpPr>
            <p:cNvPr id="344" name="AutoShape 8"/>
            <p:cNvCxnSpPr/>
            <p:nvPr/>
          </p:nvCxnSpPr>
          <p:spPr>
            <a:xfrm>
              <a:off x="6717960" y="2246400"/>
              <a:ext cx="15300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5" name="AutoShape 9"/>
            <p:cNvCxnSpPr>
              <a:stCxn id="346" idx="1"/>
            </p:cNvCxnSpPr>
            <p:nvPr/>
          </p:nvCxnSpPr>
          <p:spPr>
            <a:xfrm flipH="1">
              <a:off x="7070400" y="2352600"/>
              <a:ext cx="122400" cy="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47" name="Rectangle 10"/>
            <p:cNvSpPr/>
            <p:nvPr/>
          </p:nvSpPr>
          <p:spPr>
            <a:xfrm>
              <a:off x="4716360" y="1341360"/>
              <a:ext cx="3600720" cy="18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>
              <a:off x="4759200" y="1323000"/>
              <a:ext cx="384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2"/>
            <p:cNvSpPr/>
            <p:nvPr/>
          </p:nvSpPr>
          <p:spPr>
            <a:xfrm flipH="1">
              <a:off x="6877080" y="23400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7192800" y="2138400"/>
              <a:ext cx="112428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Estructura organizac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4"/>
            <p:cNvSpPr/>
            <p:nvPr/>
          </p:nvSpPr>
          <p:spPr>
            <a:xfrm>
              <a:off x="6300720" y="234000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"/>
            <p:cNvSpPr/>
            <p:nvPr/>
          </p:nvSpPr>
          <p:spPr>
            <a:xfrm>
              <a:off x="6330960" y="2138040"/>
              <a:ext cx="716400" cy="3693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I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6661080" y="248436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799240" y="2635200"/>
              <a:ext cx="1869840" cy="42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signación interna de recurs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4788000" y="2209320"/>
              <a:ext cx="143964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delo de aten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9"/>
            <p:cNvSpPr/>
            <p:nvPr/>
          </p:nvSpPr>
          <p:spPr>
            <a:xfrm>
              <a:off x="6516720" y="1917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"/>
            <p:cNvSpPr/>
            <p:nvPr/>
          </p:nvSpPr>
          <p:spPr>
            <a:xfrm>
              <a:off x="6661080" y="191772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4932360" y="1767960"/>
              <a:ext cx="160020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bjetivos y estrategi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2"/>
            <p:cNvSpPr/>
            <p:nvPr/>
          </p:nvSpPr>
          <p:spPr>
            <a:xfrm>
              <a:off x="6661080" y="1917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3"/>
            <p:cNvSpPr/>
            <p:nvPr/>
          </p:nvSpPr>
          <p:spPr>
            <a:xfrm>
              <a:off x="6804000" y="1704240"/>
              <a:ext cx="952560" cy="26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ltu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Line 24"/>
          <p:cNvSpPr/>
          <p:nvPr/>
        </p:nvSpPr>
        <p:spPr>
          <a:xfrm>
            <a:off x="2050920" y="3873600"/>
            <a:ext cx="1511280" cy="14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5"/>
          <p:cNvSpPr/>
          <p:nvPr/>
        </p:nvSpPr>
        <p:spPr>
          <a:xfrm flipH="1">
            <a:off x="5435640" y="3875040"/>
            <a:ext cx="1512720" cy="151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6"/>
          <p:cNvSpPr/>
          <p:nvPr/>
        </p:nvSpPr>
        <p:spPr>
          <a:xfrm>
            <a:off x="179280" y="115920"/>
            <a:ext cx="86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Antecedentes: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Marco de análisis de RI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7"/>
          <p:cNvSpPr/>
          <p:nvPr/>
        </p:nvSpPr>
        <p:spPr>
          <a:xfrm>
            <a:off x="3851280" y="3429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-181800" y="6451200"/>
            <a:ext cx="33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b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Modificado de Vázquez et al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0"/>
          <p:cNvSpPr/>
          <p:nvPr/>
        </p:nvSpPr>
        <p:spPr>
          <a:xfrm>
            <a:off x="3348000" y="5084640"/>
            <a:ext cx="2592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3840" y="221760"/>
            <a:ext cx="8642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. Antecedentes: Evidencia de eficacia de intervenc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idencia principalmente de EEUU y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20680">
              <a:lnSpc>
                <a:spcPct val="80000"/>
              </a:lnSpc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s de coordinación conllevan disminución de mortalidad y readmisiones hospital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0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20680">
              <a:lnSpc>
                <a:spcPct val="80000"/>
              </a:lnSpc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egias de coordinación que mejoran la calidad asist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0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20680">
              <a:lnSpc>
                <a:spcPct val="80000"/>
              </a:lnSpc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 el resultado:  estrategias</a:t>
            </a:r>
            <a:r>
              <a:rPr b="0" lang="es-ES" sz="1600" spc="-1" strike="noStrike">
                <a:solidFill>
                  <a:srgbClr val="0b1455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ttom-up; formación; balance entre estandarización y libertad clí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idencia limitada o inexistente en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quity LA II profundiza sobre los resultados de coordinación y continuidad, aumentando los países y evaluando estrategias de mejora de la coordinación de la atención entre niv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Objetivo gener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valuar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ficaci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de diferentes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strategias de integración de la atención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la mejora de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oordinación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y l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 la atención en las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RSS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distintos sistemas de salud de América Latin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2. Objetivos específic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aliza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empeño de las re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ervicios de salud con respecto a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ordin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a atención en distintos sistemas de salud de América Latina y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tores asocia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exto particul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señar, implementar y compar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una serie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ven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rganizativas, dirigidas a mejorar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ordin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 atención y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s distintas redes de servicios de salud en América Latina, con énfasis en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esionales de la salu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la gestión de la atención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ón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alizar la efica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divers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vencion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mejora de la coordinación y la calidad asistencial en l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ervicios de salud  e identificar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ctor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determinan su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licabilidad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diferentes context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arrollar herramien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 la aplicación d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la evi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bre las mejor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ácticas en integración de la ate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políticas innovador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efectivas, para una mejor organización de las redes de servicios de salu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América Lat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"/>
          <p:cNvGrpSpPr/>
          <p:nvPr/>
        </p:nvGrpSpPr>
        <p:grpSpPr>
          <a:xfrm>
            <a:off x="0" y="2060640"/>
            <a:ext cx="9144000" cy="2089080"/>
            <a:chOff x="0" y="2060640"/>
            <a:chExt cx="9144000" cy="2089080"/>
          </a:xfrm>
        </p:grpSpPr>
        <p:sp>
          <p:nvSpPr>
            <p:cNvPr id="373" name="Rectangle 5"/>
            <p:cNvSpPr/>
            <p:nvPr/>
          </p:nvSpPr>
          <p:spPr>
            <a:xfrm>
              <a:off x="0" y="2060640"/>
              <a:ext cx="914400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6"/>
            <p:cNvSpPr/>
            <p:nvPr/>
          </p:nvSpPr>
          <p:spPr>
            <a:xfrm>
              <a:off x="0" y="2060640"/>
              <a:ext cx="9144000" cy="2089080"/>
            </a:xfrm>
            <a:prstGeom prst="rect">
              <a:avLst/>
            </a:prstGeom>
            <a:solidFill>
              <a:srgbClr val="c7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 marL="450720" indent="-4507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Arial"/>
                </a:rPr>
                <a:t>Métod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250920" y="189000"/>
            <a:ext cx="864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0" y="189000"/>
            <a:ext cx="100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0"/>
          <p:cNvGrpSpPr/>
          <p:nvPr/>
        </p:nvGrpSpPr>
        <p:grpSpPr>
          <a:xfrm>
            <a:off x="0" y="7920"/>
            <a:ext cx="9144000" cy="1297080"/>
            <a:chOff x="0" y="7920"/>
            <a:chExt cx="9144000" cy="1297080"/>
          </a:xfrm>
        </p:grpSpPr>
        <p:sp>
          <p:nvSpPr>
            <p:cNvPr id="379" name="Rectangle 11"/>
            <p:cNvSpPr/>
            <p:nvPr/>
          </p:nvSpPr>
          <p:spPr>
            <a:xfrm>
              <a:off x="0" y="7920"/>
              <a:ext cx="91440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2"/>
            <p:cNvSpPr/>
            <p:nvPr/>
          </p:nvSpPr>
          <p:spPr>
            <a:xfrm>
              <a:off x="0" y="7920"/>
              <a:ext cx="914400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4"/>
          <p:cNvSpPr/>
          <p:nvPr/>
        </p:nvSpPr>
        <p:spPr>
          <a:xfrm>
            <a:off x="3577320" y="4455360"/>
            <a:ext cx="3216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b">
            <a:spAutoFit/>
          </a:bodyPr>
          <a:p>
            <a:pPr marL="457200" indent="-457200"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Componen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Áreas de estu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de70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étodos: Componentes del estud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. Estudio nacio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por paí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acia de las intervenciones sobre la coordinación y calidad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15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I. Un estudio comparativo trans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ción de factores y actores que influyen en cada contexto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étodos: á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reas</a:t>
            </a: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 de estudio, RI y R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3"/>
          <p:cNvGrpSpPr/>
          <p:nvPr/>
        </p:nvGrpSpPr>
        <p:grpSpPr>
          <a:xfrm>
            <a:off x="1979640" y="1268280"/>
            <a:ext cx="4249800" cy="4608720"/>
            <a:chOff x="1979640" y="1268280"/>
            <a:chExt cx="4249800" cy="4608720"/>
          </a:xfrm>
        </p:grpSpPr>
        <p:sp>
          <p:nvSpPr>
            <p:cNvPr id="386" name="Freeform 20"/>
            <p:cNvSpPr/>
            <p:nvPr/>
          </p:nvSpPr>
          <p:spPr>
            <a:xfrm>
              <a:off x="3573720" y="2492280"/>
              <a:ext cx="179280" cy="1224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05" h="173">
                  <a:moveTo>
                    <a:pt x="0" y="113"/>
                  </a:moveTo>
                  <a:lnTo>
                    <a:pt x="5" y="56"/>
                  </a:lnTo>
                  <a:lnTo>
                    <a:pt x="2" y="7"/>
                  </a:lnTo>
                  <a:lnTo>
                    <a:pt x="26" y="0"/>
                  </a:lnTo>
                  <a:lnTo>
                    <a:pt x="44" y="31"/>
                  </a:lnTo>
                  <a:lnTo>
                    <a:pt x="72" y="40"/>
                  </a:lnTo>
                  <a:lnTo>
                    <a:pt x="92" y="58"/>
                  </a:lnTo>
                  <a:lnTo>
                    <a:pt x="181" y="27"/>
                  </a:lnTo>
                  <a:lnTo>
                    <a:pt x="193" y="36"/>
                  </a:lnTo>
                  <a:lnTo>
                    <a:pt x="205" y="56"/>
                  </a:lnTo>
                  <a:lnTo>
                    <a:pt x="156" y="100"/>
                  </a:lnTo>
                  <a:lnTo>
                    <a:pt x="186" y="151"/>
                  </a:lnTo>
                  <a:lnTo>
                    <a:pt x="128" y="173"/>
                  </a:lnTo>
                  <a:lnTo>
                    <a:pt x="118" y="127"/>
                  </a:lnTo>
                  <a:lnTo>
                    <a:pt x="109" y="141"/>
                  </a:lnTo>
                  <a:lnTo>
                    <a:pt x="78" y="112"/>
                  </a:lnTo>
                  <a:lnTo>
                    <a:pt x="15" y="9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3753000" y="2492280"/>
              <a:ext cx="131760" cy="1224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0" h="164">
                  <a:moveTo>
                    <a:pt x="87" y="89"/>
                  </a:moveTo>
                  <a:lnTo>
                    <a:pt x="112" y="93"/>
                  </a:lnTo>
                  <a:lnTo>
                    <a:pt x="103" y="78"/>
                  </a:lnTo>
                  <a:lnTo>
                    <a:pt x="83" y="74"/>
                  </a:lnTo>
                  <a:lnTo>
                    <a:pt x="65" y="55"/>
                  </a:lnTo>
                  <a:lnTo>
                    <a:pt x="20" y="33"/>
                  </a:lnTo>
                  <a:lnTo>
                    <a:pt x="3" y="19"/>
                  </a:lnTo>
                  <a:lnTo>
                    <a:pt x="0" y="0"/>
                  </a:lnTo>
                  <a:lnTo>
                    <a:pt x="62" y="2"/>
                  </a:lnTo>
                  <a:lnTo>
                    <a:pt x="105" y="31"/>
                  </a:lnTo>
                  <a:lnTo>
                    <a:pt x="149" y="59"/>
                  </a:lnTo>
                  <a:lnTo>
                    <a:pt x="150" y="115"/>
                  </a:lnTo>
                  <a:lnTo>
                    <a:pt x="127" y="133"/>
                  </a:lnTo>
                  <a:lnTo>
                    <a:pt x="111" y="164"/>
                  </a:lnTo>
                  <a:lnTo>
                    <a:pt x="95" y="142"/>
                  </a:lnTo>
                  <a:lnTo>
                    <a:pt x="87" y="8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5132520" y="2692440"/>
              <a:ext cx="163440" cy="1872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90" h="260">
                  <a:moveTo>
                    <a:pt x="150" y="69"/>
                  </a:moveTo>
                  <a:lnTo>
                    <a:pt x="91" y="13"/>
                  </a:lnTo>
                  <a:lnTo>
                    <a:pt x="44" y="0"/>
                  </a:lnTo>
                  <a:lnTo>
                    <a:pt x="32" y="26"/>
                  </a:lnTo>
                  <a:lnTo>
                    <a:pt x="12" y="88"/>
                  </a:lnTo>
                  <a:lnTo>
                    <a:pt x="36" y="177"/>
                  </a:lnTo>
                  <a:lnTo>
                    <a:pt x="0" y="248"/>
                  </a:lnTo>
                  <a:lnTo>
                    <a:pt x="43" y="256"/>
                  </a:lnTo>
                  <a:lnTo>
                    <a:pt x="106" y="260"/>
                  </a:lnTo>
                  <a:lnTo>
                    <a:pt x="149" y="191"/>
                  </a:lnTo>
                  <a:lnTo>
                    <a:pt x="190" y="124"/>
                  </a:lnTo>
                  <a:lnTo>
                    <a:pt x="175" y="82"/>
                  </a:lnTo>
                  <a:lnTo>
                    <a:pt x="174" y="95"/>
                  </a:lnTo>
                  <a:lnTo>
                    <a:pt x="150" y="6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3778560" y="2340000"/>
              <a:ext cx="672840" cy="879480"/>
            </a:xfrm>
            <a:custGeom>
              <a:avLst/>
              <a:gdLst>
                <a:gd name="textAreaLeft" fmla="*/ 0 w 672840"/>
                <a:gd name="textAreaRight" fmla="*/ 673200 w 6728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778" h="1212">
                  <a:moveTo>
                    <a:pt x="328" y="81"/>
                  </a:moveTo>
                  <a:lnTo>
                    <a:pt x="306" y="113"/>
                  </a:lnTo>
                  <a:lnTo>
                    <a:pt x="314" y="100"/>
                  </a:lnTo>
                  <a:lnTo>
                    <a:pt x="276" y="101"/>
                  </a:lnTo>
                  <a:lnTo>
                    <a:pt x="230" y="160"/>
                  </a:lnTo>
                  <a:lnTo>
                    <a:pt x="222" y="214"/>
                  </a:lnTo>
                  <a:lnTo>
                    <a:pt x="150" y="282"/>
                  </a:lnTo>
                  <a:lnTo>
                    <a:pt x="142" y="323"/>
                  </a:lnTo>
                  <a:lnTo>
                    <a:pt x="130" y="287"/>
                  </a:lnTo>
                  <a:lnTo>
                    <a:pt x="116" y="269"/>
                  </a:lnTo>
                  <a:lnTo>
                    <a:pt x="117" y="325"/>
                  </a:lnTo>
                  <a:lnTo>
                    <a:pt x="94" y="343"/>
                  </a:lnTo>
                  <a:lnTo>
                    <a:pt x="78" y="374"/>
                  </a:lnTo>
                  <a:lnTo>
                    <a:pt x="96" y="405"/>
                  </a:lnTo>
                  <a:lnTo>
                    <a:pt x="111" y="471"/>
                  </a:lnTo>
                  <a:lnTo>
                    <a:pt x="96" y="502"/>
                  </a:lnTo>
                  <a:lnTo>
                    <a:pt x="101" y="556"/>
                  </a:lnTo>
                  <a:lnTo>
                    <a:pt x="105" y="612"/>
                  </a:lnTo>
                  <a:lnTo>
                    <a:pt x="115" y="622"/>
                  </a:lnTo>
                  <a:lnTo>
                    <a:pt x="73" y="704"/>
                  </a:lnTo>
                  <a:lnTo>
                    <a:pt x="33" y="720"/>
                  </a:lnTo>
                  <a:lnTo>
                    <a:pt x="20" y="760"/>
                  </a:lnTo>
                  <a:lnTo>
                    <a:pt x="0" y="774"/>
                  </a:lnTo>
                  <a:lnTo>
                    <a:pt x="6" y="798"/>
                  </a:lnTo>
                  <a:lnTo>
                    <a:pt x="58" y="838"/>
                  </a:lnTo>
                  <a:lnTo>
                    <a:pt x="97" y="876"/>
                  </a:lnTo>
                  <a:lnTo>
                    <a:pt x="160" y="874"/>
                  </a:lnTo>
                  <a:lnTo>
                    <a:pt x="232" y="911"/>
                  </a:lnTo>
                  <a:lnTo>
                    <a:pt x="236" y="906"/>
                  </a:lnTo>
                  <a:lnTo>
                    <a:pt x="273" y="942"/>
                  </a:lnTo>
                  <a:lnTo>
                    <a:pt x="309" y="979"/>
                  </a:lnTo>
                  <a:lnTo>
                    <a:pt x="359" y="1036"/>
                  </a:lnTo>
                  <a:lnTo>
                    <a:pt x="371" y="1069"/>
                  </a:lnTo>
                  <a:lnTo>
                    <a:pt x="452" y="1070"/>
                  </a:lnTo>
                  <a:lnTo>
                    <a:pt x="500" y="1074"/>
                  </a:lnTo>
                  <a:lnTo>
                    <a:pt x="566" y="1095"/>
                  </a:lnTo>
                  <a:lnTo>
                    <a:pt x="541" y="1184"/>
                  </a:lnTo>
                  <a:lnTo>
                    <a:pt x="582" y="1212"/>
                  </a:lnTo>
                  <a:lnTo>
                    <a:pt x="596" y="1109"/>
                  </a:lnTo>
                  <a:lnTo>
                    <a:pt x="612" y="1007"/>
                  </a:lnTo>
                  <a:lnTo>
                    <a:pt x="585" y="930"/>
                  </a:lnTo>
                  <a:lnTo>
                    <a:pt x="570" y="861"/>
                  </a:lnTo>
                  <a:lnTo>
                    <a:pt x="617" y="857"/>
                  </a:lnTo>
                  <a:lnTo>
                    <a:pt x="628" y="841"/>
                  </a:lnTo>
                  <a:lnTo>
                    <a:pt x="593" y="826"/>
                  </a:lnTo>
                  <a:lnTo>
                    <a:pt x="586" y="778"/>
                  </a:lnTo>
                  <a:lnTo>
                    <a:pt x="640" y="778"/>
                  </a:lnTo>
                  <a:lnTo>
                    <a:pt x="695" y="778"/>
                  </a:lnTo>
                  <a:lnTo>
                    <a:pt x="689" y="766"/>
                  </a:lnTo>
                  <a:lnTo>
                    <a:pt x="706" y="774"/>
                  </a:lnTo>
                  <a:lnTo>
                    <a:pt x="740" y="749"/>
                  </a:lnTo>
                  <a:lnTo>
                    <a:pt x="764" y="809"/>
                  </a:lnTo>
                  <a:lnTo>
                    <a:pt x="778" y="814"/>
                  </a:lnTo>
                  <a:lnTo>
                    <a:pt x="763" y="755"/>
                  </a:lnTo>
                  <a:lnTo>
                    <a:pt x="726" y="699"/>
                  </a:lnTo>
                  <a:lnTo>
                    <a:pt x="747" y="664"/>
                  </a:lnTo>
                  <a:lnTo>
                    <a:pt x="717" y="573"/>
                  </a:lnTo>
                  <a:lnTo>
                    <a:pt x="732" y="511"/>
                  </a:lnTo>
                  <a:lnTo>
                    <a:pt x="748" y="450"/>
                  </a:lnTo>
                  <a:lnTo>
                    <a:pt x="691" y="453"/>
                  </a:lnTo>
                  <a:lnTo>
                    <a:pt x="636" y="457"/>
                  </a:lnTo>
                  <a:lnTo>
                    <a:pt x="577" y="393"/>
                  </a:lnTo>
                  <a:lnTo>
                    <a:pt x="528" y="390"/>
                  </a:lnTo>
                  <a:lnTo>
                    <a:pt x="478" y="388"/>
                  </a:lnTo>
                  <a:lnTo>
                    <a:pt x="432" y="362"/>
                  </a:lnTo>
                  <a:lnTo>
                    <a:pt x="434" y="316"/>
                  </a:lnTo>
                  <a:lnTo>
                    <a:pt x="401" y="234"/>
                  </a:lnTo>
                  <a:lnTo>
                    <a:pt x="375" y="233"/>
                  </a:lnTo>
                  <a:lnTo>
                    <a:pt x="402" y="171"/>
                  </a:lnTo>
                  <a:lnTo>
                    <a:pt x="439" y="110"/>
                  </a:lnTo>
                  <a:lnTo>
                    <a:pt x="475" y="50"/>
                  </a:lnTo>
                  <a:lnTo>
                    <a:pt x="518" y="36"/>
                  </a:lnTo>
                  <a:lnTo>
                    <a:pt x="525" y="0"/>
                  </a:lnTo>
                  <a:lnTo>
                    <a:pt x="485" y="5"/>
                  </a:lnTo>
                  <a:lnTo>
                    <a:pt x="424" y="42"/>
                  </a:lnTo>
                  <a:lnTo>
                    <a:pt x="365" y="78"/>
                  </a:lnTo>
                  <a:lnTo>
                    <a:pt x="328" y="81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4764240" y="2544840"/>
              <a:ext cx="262080" cy="3794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308" h="527">
                  <a:moveTo>
                    <a:pt x="248" y="379"/>
                  </a:moveTo>
                  <a:lnTo>
                    <a:pt x="215" y="339"/>
                  </a:lnTo>
                  <a:lnTo>
                    <a:pt x="219" y="275"/>
                  </a:lnTo>
                  <a:lnTo>
                    <a:pt x="250" y="260"/>
                  </a:lnTo>
                  <a:lnTo>
                    <a:pt x="262" y="223"/>
                  </a:lnTo>
                  <a:lnTo>
                    <a:pt x="259" y="166"/>
                  </a:lnTo>
                  <a:lnTo>
                    <a:pt x="190" y="122"/>
                  </a:lnTo>
                  <a:lnTo>
                    <a:pt x="177" y="148"/>
                  </a:lnTo>
                  <a:lnTo>
                    <a:pt x="182" y="77"/>
                  </a:lnTo>
                  <a:lnTo>
                    <a:pt x="144" y="45"/>
                  </a:lnTo>
                  <a:lnTo>
                    <a:pt x="107" y="13"/>
                  </a:lnTo>
                  <a:lnTo>
                    <a:pt x="121" y="24"/>
                  </a:lnTo>
                  <a:lnTo>
                    <a:pt x="94" y="0"/>
                  </a:lnTo>
                  <a:lnTo>
                    <a:pt x="103" y="15"/>
                  </a:lnTo>
                  <a:lnTo>
                    <a:pt x="44" y="73"/>
                  </a:lnTo>
                  <a:lnTo>
                    <a:pt x="70" y="103"/>
                  </a:lnTo>
                  <a:lnTo>
                    <a:pt x="24" y="132"/>
                  </a:lnTo>
                  <a:lnTo>
                    <a:pt x="0" y="186"/>
                  </a:lnTo>
                  <a:lnTo>
                    <a:pt x="37" y="244"/>
                  </a:lnTo>
                  <a:lnTo>
                    <a:pt x="74" y="242"/>
                  </a:lnTo>
                  <a:lnTo>
                    <a:pt x="78" y="283"/>
                  </a:lnTo>
                  <a:lnTo>
                    <a:pt x="107" y="320"/>
                  </a:lnTo>
                  <a:lnTo>
                    <a:pt x="89" y="387"/>
                  </a:lnTo>
                  <a:lnTo>
                    <a:pt x="96" y="473"/>
                  </a:lnTo>
                  <a:lnTo>
                    <a:pt x="139" y="527"/>
                  </a:lnTo>
                  <a:lnTo>
                    <a:pt x="178" y="525"/>
                  </a:lnTo>
                  <a:lnTo>
                    <a:pt x="242" y="495"/>
                  </a:lnTo>
                  <a:lnTo>
                    <a:pt x="308" y="481"/>
                  </a:lnTo>
                  <a:lnTo>
                    <a:pt x="278" y="430"/>
                  </a:lnTo>
                  <a:lnTo>
                    <a:pt x="248" y="37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4943520" y="2682720"/>
              <a:ext cx="217440" cy="2113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1" h="298">
                  <a:moveTo>
                    <a:pt x="33" y="187"/>
                  </a:moveTo>
                  <a:lnTo>
                    <a:pt x="0" y="147"/>
                  </a:lnTo>
                  <a:lnTo>
                    <a:pt x="4" y="83"/>
                  </a:lnTo>
                  <a:lnTo>
                    <a:pt x="35" y="68"/>
                  </a:lnTo>
                  <a:lnTo>
                    <a:pt x="47" y="31"/>
                  </a:lnTo>
                  <a:lnTo>
                    <a:pt x="59" y="2"/>
                  </a:lnTo>
                  <a:lnTo>
                    <a:pt x="135" y="8"/>
                  </a:lnTo>
                  <a:lnTo>
                    <a:pt x="192" y="5"/>
                  </a:lnTo>
                  <a:lnTo>
                    <a:pt x="190" y="0"/>
                  </a:lnTo>
                  <a:lnTo>
                    <a:pt x="251" y="6"/>
                  </a:lnTo>
                  <a:lnTo>
                    <a:pt x="246" y="40"/>
                  </a:lnTo>
                  <a:lnTo>
                    <a:pt x="226" y="102"/>
                  </a:lnTo>
                  <a:lnTo>
                    <a:pt x="250" y="191"/>
                  </a:lnTo>
                  <a:lnTo>
                    <a:pt x="214" y="262"/>
                  </a:lnTo>
                  <a:lnTo>
                    <a:pt x="176" y="248"/>
                  </a:lnTo>
                  <a:lnTo>
                    <a:pt x="118" y="261"/>
                  </a:lnTo>
                  <a:lnTo>
                    <a:pt x="122" y="298"/>
                  </a:lnTo>
                  <a:lnTo>
                    <a:pt x="93" y="289"/>
                  </a:lnTo>
                  <a:lnTo>
                    <a:pt x="63" y="238"/>
                  </a:lnTo>
                  <a:lnTo>
                    <a:pt x="33" y="187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4746960" y="2425680"/>
              <a:ext cx="50760" cy="36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8" h="50">
                  <a:moveTo>
                    <a:pt x="17" y="2"/>
                  </a:moveTo>
                  <a:lnTo>
                    <a:pt x="58" y="0"/>
                  </a:lnTo>
                  <a:lnTo>
                    <a:pt x="39" y="50"/>
                  </a:lnTo>
                  <a:lnTo>
                    <a:pt x="0" y="45"/>
                  </a:lnTo>
                  <a:lnTo>
                    <a:pt x="25" y="17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4105440" y="2351160"/>
              <a:ext cx="747720" cy="6015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870" h="836">
                  <a:moveTo>
                    <a:pt x="723" y="182"/>
                  </a:moveTo>
                  <a:lnTo>
                    <a:pt x="718" y="171"/>
                  </a:lnTo>
                  <a:lnTo>
                    <a:pt x="704" y="154"/>
                  </a:lnTo>
                  <a:lnTo>
                    <a:pt x="679" y="155"/>
                  </a:lnTo>
                  <a:lnTo>
                    <a:pt x="692" y="153"/>
                  </a:lnTo>
                  <a:lnTo>
                    <a:pt x="675" y="134"/>
                  </a:lnTo>
                  <a:lnTo>
                    <a:pt x="740" y="112"/>
                  </a:lnTo>
                  <a:lnTo>
                    <a:pt x="670" y="113"/>
                  </a:lnTo>
                  <a:lnTo>
                    <a:pt x="600" y="114"/>
                  </a:lnTo>
                  <a:lnTo>
                    <a:pt x="625" y="123"/>
                  </a:lnTo>
                  <a:lnTo>
                    <a:pt x="558" y="152"/>
                  </a:lnTo>
                  <a:lnTo>
                    <a:pt x="472" y="123"/>
                  </a:lnTo>
                  <a:lnTo>
                    <a:pt x="411" y="123"/>
                  </a:lnTo>
                  <a:lnTo>
                    <a:pt x="351" y="125"/>
                  </a:lnTo>
                  <a:lnTo>
                    <a:pt x="328" y="78"/>
                  </a:lnTo>
                  <a:lnTo>
                    <a:pt x="258" y="50"/>
                  </a:lnTo>
                  <a:lnTo>
                    <a:pt x="231" y="0"/>
                  </a:lnTo>
                  <a:lnTo>
                    <a:pt x="213" y="30"/>
                  </a:lnTo>
                  <a:lnTo>
                    <a:pt x="244" y="50"/>
                  </a:lnTo>
                  <a:lnTo>
                    <a:pt x="229" y="51"/>
                  </a:lnTo>
                  <a:lnTo>
                    <a:pt x="143" y="87"/>
                  </a:lnTo>
                  <a:lnTo>
                    <a:pt x="131" y="101"/>
                  </a:lnTo>
                  <a:lnTo>
                    <a:pt x="148" y="193"/>
                  </a:lnTo>
                  <a:lnTo>
                    <a:pt x="119" y="229"/>
                  </a:lnTo>
                  <a:lnTo>
                    <a:pt x="84" y="179"/>
                  </a:lnTo>
                  <a:lnTo>
                    <a:pt x="119" y="116"/>
                  </a:lnTo>
                  <a:lnTo>
                    <a:pt x="100" y="57"/>
                  </a:lnTo>
                  <a:lnTo>
                    <a:pt x="143" y="24"/>
                  </a:lnTo>
                  <a:lnTo>
                    <a:pt x="100" y="38"/>
                  </a:lnTo>
                  <a:lnTo>
                    <a:pt x="64" y="98"/>
                  </a:lnTo>
                  <a:lnTo>
                    <a:pt x="27" y="159"/>
                  </a:lnTo>
                  <a:lnTo>
                    <a:pt x="0" y="221"/>
                  </a:lnTo>
                  <a:lnTo>
                    <a:pt x="26" y="222"/>
                  </a:lnTo>
                  <a:lnTo>
                    <a:pt x="59" y="304"/>
                  </a:lnTo>
                  <a:lnTo>
                    <a:pt x="57" y="350"/>
                  </a:lnTo>
                  <a:lnTo>
                    <a:pt x="103" y="376"/>
                  </a:lnTo>
                  <a:lnTo>
                    <a:pt x="153" y="378"/>
                  </a:lnTo>
                  <a:lnTo>
                    <a:pt x="202" y="381"/>
                  </a:lnTo>
                  <a:lnTo>
                    <a:pt x="261" y="445"/>
                  </a:lnTo>
                  <a:lnTo>
                    <a:pt x="316" y="441"/>
                  </a:lnTo>
                  <a:lnTo>
                    <a:pt x="373" y="438"/>
                  </a:lnTo>
                  <a:lnTo>
                    <a:pt x="357" y="499"/>
                  </a:lnTo>
                  <a:lnTo>
                    <a:pt x="342" y="561"/>
                  </a:lnTo>
                  <a:lnTo>
                    <a:pt x="372" y="652"/>
                  </a:lnTo>
                  <a:lnTo>
                    <a:pt x="351" y="687"/>
                  </a:lnTo>
                  <a:lnTo>
                    <a:pt x="388" y="743"/>
                  </a:lnTo>
                  <a:lnTo>
                    <a:pt x="403" y="802"/>
                  </a:lnTo>
                  <a:lnTo>
                    <a:pt x="454" y="834"/>
                  </a:lnTo>
                  <a:lnTo>
                    <a:pt x="490" y="830"/>
                  </a:lnTo>
                  <a:lnTo>
                    <a:pt x="497" y="836"/>
                  </a:lnTo>
                  <a:lnTo>
                    <a:pt x="563" y="786"/>
                  </a:lnTo>
                  <a:lnTo>
                    <a:pt x="619" y="735"/>
                  </a:lnTo>
                  <a:lnTo>
                    <a:pt x="631" y="714"/>
                  </a:lnTo>
                  <a:lnTo>
                    <a:pt x="589" y="700"/>
                  </a:lnTo>
                  <a:lnTo>
                    <a:pt x="570" y="618"/>
                  </a:lnTo>
                  <a:lnTo>
                    <a:pt x="549" y="580"/>
                  </a:lnTo>
                  <a:lnTo>
                    <a:pt x="614" y="603"/>
                  </a:lnTo>
                  <a:lnTo>
                    <a:pt x="672" y="622"/>
                  </a:lnTo>
                  <a:lnTo>
                    <a:pt x="684" y="597"/>
                  </a:lnTo>
                  <a:lnTo>
                    <a:pt x="737" y="574"/>
                  </a:lnTo>
                  <a:lnTo>
                    <a:pt x="791" y="552"/>
                  </a:lnTo>
                  <a:lnTo>
                    <a:pt x="809" y="512"/>
                  </a:lnTo>
                  <a:lnTo>
                    <a:pt x="804" y="511"/>
                  </a:lnTo>
                  <a:lnTo>
                    <a:pt x="767" y="453"/>
                  </a:lnTo>
                  <a:lnTo>
                    <a:pt x="791" y="399"/>
                  </a:lnTo>
                  <a:lnTo>
                    <a:pt x="837" y="370"/>
                  </a:lnTo>
                  <a:lnTo>
                    <a:pt x="811" y="340"/>
                  </a:lnTo>
                  <a:lnTo>
                    <a:pt x="870" y="282"/>
                  </a:lnTo>
                  <a:lnTo>
                    <a:pt x="861" y="267"/>
                  </a:lnTo>
                  <a:lnTo>
                    <a:pt x="796" y="265"/>
                  </a:lnTo>
                  <a:lnTo>
                    <a:pt x="755" y="265"/>
                  </a:lnTo>
                  <a:lnTo>
                    <a:pt x="771" y="261"/>
                  </a:lnTo>
                  <a:lnTo>
                    <a:pt x="792" y="227"/>
                  </a:lnTo>
                  <a:lnTo>
                    <a:pt x="809" y="214"/>
                  </a:lnTo>
                  <a:lnTo>
                    <a:pt x="769" y="176"/>
                  </a:lnTo>
                  <a:lnTo>
                    <a:pt x="746" y="179"/>
                  </a:lnTo>
                  <a:lnTo>
                    <a:pt x="721" y="165"/>
                  </a:lnTo>
                  <a:lnTo>
                    <a:pt x="723" y="18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4606920" y="2408400"/>
              <a:ext cx="32040" cy="61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" h="7">
                  <a:moveTo>
                    <a:pt x="31" y="7"/>
                  </a:moveTo>
                  <a:lnTo>
                    <a:pt x="0" y="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4"/>
            <p:cNvSpPr/>
            <p:nvPr/>
          </p:nvSpPr>
          <p:spPr>
            <a:xfrm>
              <a:off x="4621320" y="20178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" h="5">
                  <a:moveTo>
                    <a:pt x="9" y="1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4624560" y="202248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2">
                  <a:moveTo>
                    <a:pt x="4" y="1"/>
                  </a:move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0"/>
            <p:cNvSpPr/>
            <p:nvPr/>
          </p:nvSpPr>
          <p:spPr>
            <a:xfrm>
              <a:off x="4227840" y="1942920"/>
              <a:ext cx="196560" cy="1191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27" h="164">
                  <a:moveTo>
                    <a:pt x="19" y="11"/>
                  </a:moveTo>
                  <a:lnTo>
                    <a:pt x="8" y="63"/>
                  </a:lnTo>
                  <a:lnTo>
                    <a:pt x="0" y="89"/>
                  </a:lnTo>
                  <a:lnTo>
                    <a:pt x="4" y="132"/>
                  </a:lnTo>
                  <a:lnTo>
                    <a:pt x="25" y="164"/>
                  </a:lnTo>
                  <a:lnTo>
                    <a:pt x="52" y="125"/>
                  </a:lnTo>
                  <a:lnTo>
                    <a:pt x="84" y="108"/>
                  </a:lnTo>
                  <a:lnTo>
                    <a:pt x="116" y="110"/>
                  </a:lnTo>
                  <a:lnTo>
                    <a:pt x="198" y="115"/>
                  </a:lnTo>
                  <a:lnTo>
                    <a:pt x="227" y="88"/>
                  </a:lnTo>
                  <a:lnTo>
                    <a:pt x="155" y="55"/>
                  </a:lnTo>
                  <a:lnTo>
                    <a:pt x="169" y="40"/>
                  </a:lnTo>
                  <a:lnTo>
                    <a:pt x="137" y="24"/>
                  </a:lnTo>
                  <a:lnTo>
                    <a:pt x="48" y="0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1"/>
            <p:cNvSpPr/>
            <p:nvPr/>
          </p:nvSpPr>
          <p:spPr>
            <a:xfrm>
              <a:off x="4089600" y="1942920"/>
              <a:ext cx="158760" cy="93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83" h="131">
                  <a:moveTo>
                    <a:pt x="183" y="10"/>
                  </a:moveTo>
                  <a:lnTo>
                    <a:pt x="172" y="62"/>
                  </a:lnTo>
                  <a:lnTo>
                    <a:pt x="164" y="88"/>
                  </a:lnTo>
                  <a:lnTo>
                    <a:pt x="168" y="131"/>
                  </a:lnTo>
                  <a:lnTo>
                    <a:pt x="103" y="127"/>
                  </a:lnTo>
                  <a:lnTo>
                    <a:pt x="39" y="125"/>
                  </a:lnTo>
                  <a:lnTo>
                    <a:pt x="0" y="102"/>
                  </a:lnTo>
                  <a:lnTo>
                    <a:pt x="33" y="90"/>
                  </a:lnTo>
                  <a:lnTo>
                    <a:pt x="84" y="93"/>
                  </a:lnTo>
                  <a:lnTo>
                    <a:pt x="136" y="95"/>
                  </a:lnTo>
                  <a:lnTo>
                    <a:pt x="115" y="41"/>
                  </a:lnTo>
                  <a:lnTo>
                    <a:pt x="88" y="16"/>
                  </a:lnTo>
                  <a:lnTo>
                    <a:pt x="82" y="0"/>
                  </a:lnTo>
                  <a:lnTo>
                    <a:pt x="145" y="6"/>
                  </a:lnTo>
                  <a:lnTo>
                    <a:pt x="183" y="1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4"/>
            <p:cNvSpPr/>
            <p:nvPr/>
          </p:nvSpPr>
          <p:spPr>
            <a:xfrm>
              <a:off x="4800600" y="2247840"/>
              <a:ext cx="7920" cy="22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5">
                  <a:moveTo>
                    <a:pt x="8" y="25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5"/>
            <p:cNvSpPr/>
            <p:nvPr/>
          </p:nvSpPr>
          <p:spPr>
            <a:xfrm>
              <a:off x="3418200" y="2408400"/>
              <a:ext cx="182520" cy="15876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09" h="222">
                  <a:moveTo>
                    <a:pt x="45" y="110"/>
                  </a:moveTo>
                  <a:lnTo>
                    <a:pt x="0" y="52"/>
                  </a:lnTo>
                  <a:lnTo>
                    <a:pt x="10" y="19"/>
                  </a:lnTo>
                  <a:lnTo>
                    <a:pt x="8" y="9"/>
                  </a:lnTo>
                  <a:lnTo>
                    <a:pt x="17" y="0"/>
                  </a:lnTo>
                  <a:lnTo>
                    <a:pt x="108" y="18"/>
                  </a:lnTo>
                  <a:lnTo>
                    <a:pt x="146" y="11"/>
                  </a:lnTo>
                  <a:lnTo>
                    <a:pt x="177" y="60"/>
                  </a:lnTo>
                  <a:lnTo>
                    <a:pt x="209" y="109"/>
                  </a:lnTo>
                  <a:lnTo>
                    <a:pt x="185" y="116"/>
                  </a:lnTo>
                  <a:lnTo>
                    <a:pt x="188" y="165"/>
                  </a:lnTo>
                  <a:lnTo>
                    <a:pt x="183" y="222"/>
                  </a:lnTo>
                  <a:lnTo>
                    <a:pt x="151" y="173"/>
                  </a:lnTo>
                  <a:lnTo>
                    <a:pt x="151" y="193"/>
                  </a:lnTo>
                  <a:lnTo>
                    <a:pt x="138" y="171"/>
                  </a:lnTo>
                  <a:lnTo>
                    <a:pt x="120" y="129"/>
                  </a:lnTo>
                  <a:lnTo>
                    <a:pt x="76" y="95"/>
                  </a:lnTo>
                  <a:lnTo>
                    <a:pt x="39" y="60"/>
                  </a:lnTo>
                  <a:lnTo>
                    <a:pt x="54" y="97"/>
                  </a:lnTo>
                  <a:lnTo>
                    <a:pt x="45" y="11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6"/>
            <p:cNvSpPr/>
            <p:nvPr/>
          </p:nvSpPr>
          <p:spPr>
            <a:xfrm>
              <a:off x="4303800" y="2328840"/>
              <a:ext cx="9720" cy="7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14">
                  <a:moveTo>
                    <a:pt x="2" y="0"/>
                  </a:moveTo>
                  <a:lnTo>
                    <a:pt x="0" y="2"/>
                  </a:lnTo>
                  <a:lnTo>
                    <a:pt x="1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7"/>
            <p:cNvSpPr/>
            <p:nvPr/>
          </p:nvSpPr>
          <p:spPr>
            <a:xfrm>
              <a:off x="4867560" y="2292480"/>
              <a:ext cx="20520" cy="11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18">
                  <a:moveTo>
                    <a:pt x="13" y="14"/>
                  </a:moveTo>
                  <a:lnTo>
                    <a:pt x="3" y="18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8"/>
            <p:cNvSpPr/>
            <p:nvPr/>
          </p:nvSpPr>
          <p:spPr>
            <a:xfrm>
              <a:off x="4784760" y="217332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3" h="28">
                  <a:moveTo>
                    <a:pt x="13" y="19"/>
                  </a:moveTo>
                  <a:lnTo>
                    <a:pt x="5" y="28"/>
                  </a:lnTo>
                  <a:lnTo>
                    <a:pt x="0" y="1"/>
                  </a:lnTo>
                  <a:lnTo>
                    <a:pt x="10" y="0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9"/>
            <p:cNvSpPr/>
            <p:nvPr/>
          </p:nvSpPr>
          <p:spPr>
            <a:xfrm>
              <a:off x="3200400" y="2230560"/>
              <a:ext cx="128880" cy="619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4" h="93">
                  <a:moveTo>
                    <a:pt x="143" y="74"/>
                  </a:moveTo>
                  <a:lnTo>
                    <a:pt x="128" y="93"/>
                  </a:lnTo>
                  <a:lnTo>
                    <a:pt x="95" y="86"/>
                  </a:lnTo>
                  <a:lnTo>
                    <a:pt x="47" y="68"/>
                  </a:lnTo>
                  <a:lnTo>
                    <a:pt x="0" y="50"/>
                  </a:lnTo>
                  <a:lnTo>
                    <a:pt x="53" y="0"/>
                  </a:lnTo>
                  <a:lnTo>
                    <a:pt x="92" y="30"/>
                  </a:lnTo>
                  <a:lnTo>
                    <a:pt x="144" y="39"/>
                  </a:lnTo>
                  <a:lnTo>
                    <a:pt x="143" y="7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0"/>
            <p:cNvSpPr/>
            <p:nvPr/>
          </p:nvSpPr>
          <p:spPr>
            <a:xfrm>
              <a:off x="4756320" y="235116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3" h="18">
                  <a:moveTo>
                    <a:pt x="13" y="9"/>
                  </a:moveTo>
                  <a:lnTo>
                    <a:pt x="13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3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1"/>
            <p:cNvSpPr/>
            <p:nvPr/>
          </p:nvSpPr>
          <p:spPr>
            <a:xfrm>
              <a:off x="4764240" y="2341440"/>
              <a:ext cx="3240" cy="97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" h="3">
                  <a:moveTo>
                    <a:pt x="1" y="2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2"/>
            <p:cNvSpPr/>
            <p:nvPr/>
          </p:nvSpPr>
          <p:spPr>
            <a:xfrm>
              <a:off x="3245040" y="2154240"/>
              <a:ext cx="345960" cy="15228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01" h="213">
                  <a:moveTo>
                    <a:pt x="216" y="145"/>
                  </a:moveTo>
                  <a:lnTo>
                    <a:pt x="192" y="153"/>
                  </a:lnTo>
                  <a:lnTo>
                    <a:pt x="161" y="169"/>
                  </a:lnTo>
                  <a:lnTo>
                    <a:pt x="138" y="213"/>
                  </a:lnTo>
                  <a:lnTo>
                    <a:pt x="122" y="213"/>
                  </a:lnTo>
                  <a:lnTo>
                    <a:pt x="115" y="187"/>
                  </a:lnTo>
                  <a:lnTo>
                    <a:pt x="90" y="181"/>
                  </a:lnTo>
                  <a:lnTo>
                    <a:pt x="91" y="146"/>
                  </a:lnTo>
                  <a:lnTo>
                    <a:pt x="39" y="137"/>
                  </a:lnTo>
                  <a:lnTo>
                    <a:pt x="0" y="107"/>
                  </a:lnTo>
                  <a:lnTo>
                    <a:pt x="38" y="48"/>
                  </a:lnTo>
                  <a:lnTo>
                    <a:pt x="82" y="13"/>
                  </a:lnTo>
                  <a:lnTo>
                    <a:pt x="90" y="12"/>
                  </a:lnTo>
                  <a:lnTo>
                    <a:pt x="152" y="6"/>
                  </a:lnTo>
                  <a:lnTo>
                    <a:pt x="214" y="0"/>
                  </a:lnTo>
                  <a:lnTo>
                    <a:pt x="265" y="2"/>
                  </a:lnTo>
                  <a:lnTo>
                    <a:pt x="317" y="3"/>
                  </a:lnTo>
                  <a:lnTo>
                    <a:pt x="360" y="32"/>
                  </a:lnTo>
                  <a:lnTo>
                    <a:pt x="346" y="28"/>
                  </a:lnTo>
                  <a:lnTo>
                    <a:pt x="355" y="42"/>
                  </a:lnTo>
                  <a:lnTo>
                    <a:pt x="375" y="42"/>
                  </a:lnTo>
                  <a:lnTo>
                    <a:pt x="401" y="66"/>
                  </a:lnTo>
                  <a:lnTo>
                    <a:pt x="349" y="75"/>
                  </a:lnTo>
                  <a:lnTo>
                    <a:pt x="295" y="83"/>
                  </a:lnTo>
                  <a:lnTo>
                    <a:pt x="216" y="14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3"/>
            <p:cNvSpPr/>
            <p:nvPr/>
          </p:nvSpPr>
          <p:spPr>
            <a:xfrm>
              <a:off x="4797720" y="2208240"/>
              <a:ext cx="17280" cy="20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5" h="26">
                  <a:moveTo>
                    <a:pt x="25" y="22"/>
                  </a:moveTo>
                  <a:lnTo>
                    <a:pt x="0" y="0"/>
                  </a:lnTo>
                  <a:lnTo>
                    <a:pt x="25" y="26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4"/>
            <p:cNvSpPr/>
            <p:nvPr/>
          </p:nvSpPr>
          <p:spPr>
            <a:xfrm>
              <a:off x="3332160" y="2200320"/>
              <a:ext cx="258840" cy="2221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304" h="306">
                  <a:moveTo>
                    <a:pt x="119" y="79"/>
                  </a:moveTo>
                  <a:lnTo>
                    <a:pt x="95" y="87"/>
                  </a:lnTo>
                  <a:lnTo>
                    <a:pt x="64" y="103"/>
                  </a:lnTo>
                  <a:lnTo>
                    <a:pt x="41" y="147"/>
                  </a:lnTo>
                  <a:lnTo>
                    <a:pt x="25" y="147"/>
                  </a:lnTo>
                  <a:lnTo>
                    <a:pt x="0" y="153"/>
                  </a:lnTo>
                  <a:lnTo>
                    <a:pt x="58" y="220"/>
                  </a:lnTo>
                  <a:lnTo>
                    <a:pt x="118" y="288"/>
                  </a:lnTo>
                  <a:lnTo>
                    <a:pt x="209" y="306"/>
                  </a:lnTo>
                  <a:lnTo>
                    <a:pt x="247" y="299"/>
                  </a:lnTo>
                  <a:lnTo>
                    <a:pt x="247" y="251"/>
                  </a:lnTo>
                  <a:lnTo>
                    <a:pt x="249" y="214"/>
                  </a:lnTo>
                  <a:lnTo>
                    <a:pt x="263" y="170"/>
                  </a:lnTo>
                  <a:lnTo>
                    <a:pt x="267" y="185"/>
                  </a:lnTo>
                  <a:lnTo>
                    <a:pt x="277" y="127"/>
                  </a:lnTo>
                  <a:lnTo>
                    <a:pt x="286" y="70"/>
                  </a:lnTo>
                  <a:lnTo>
                    <a:pt x="287" y="14"/>
                  </a:lnTo>
                  <a:lnTo>
                    <a:pt x="304" y="0"/>
                  </a:lnTo>
                  <a:lnTo>
                    <a:pt x="252" y="9"/>
                  </a:lnTo>
                  <a:lnTo>
                    <a:pt x="198" y="17"/>
                  </a:lnTo>
                  <a:lnTo>
                    <a:pt x="119" y="7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5"/>
            <p:cNvSpPr/>
            <p:nvPr/>
          </p:nvSpPr>
          <p:spPr>
            <a:xfrm>
              <a:off x="4784760" y="2289240"/>
              <a:ext cx="12960" cy="3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" h="16">
                  <a:moveTo>
                    <a:pt x="5" y="16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6"/>
            <p:cNvSpPr/>
            <p:nvPr/>
          </p:nvSpPr>
          <p:spPr>
            <a:xfrm>
              <a:off x="4729320" y="2084400"/>
              <a:ext cx="3240" cy="3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7"/>
            <p:cNvSpPr/>
            <p:nvPr/>
          </p:nvSpPr>
          <p:spPr>
            <a:xfrm>
              <a:off x="4718160" y="207792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4" h="12">
                  <a:moveTo>
                    <a:pt x="14" y="12"/>
                  </a:moveTo>
                  <a:lnTo>
                    <a:pt x="0" y="0"/>
                  </a:lnTo>
                  <a:lnTo>
                    <a:pt x="12" y="10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8"/>
            <p:cNvSpPr/>
            <p:nvPr/>
          </p:nvSpPr>
          <p:spPr>
            <a:xfrm>
              <a:off x="4767480" y="21319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3" h="18">
                  <a:moveTo>
                    <a:pt x="12" y="0"/>
                  </a:moveTo>
                  <a:lnTo>
                    <a:pt x="13" y="5"/>
                  </a:lnTo>
                  <a:lnTo>
                    <a:pt x="0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9"/>
            <p:cNvSpPr/>
            <p:nvPr/>
          </p:nvSpPr>
          <p:spPr>
            <a:xfrm>
              <a:off x="4705560" y="20257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3" h="8">
                  <a:moveTo>
                    <a:pt x="13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0"/>
            <p:cNvSpPr/>
            <p:nvPr/>
          </p:nvSpPr>
          <p:spPr>
            <a:xfrm>
              <a:off x="4767480" y="2084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" h="11">
                  <a:moveTo>
                    <a:pt x="6" y="0"/>
                  </a:moveTo>
                  <a:lnTo>
                    <a:pt x="1" y="3"/>
                  </a:lnTo>
                  <a:lnTo>
                    <a:pt x="0" y="11"/>
                  </a:lnTo>
                  <a:lnTo>
                    <a:pt x="12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1"/>
            <p:cNvSpPr/>
            <p:nvPr/>
          </p:nvSpPr>
          <p:spPr>
            <a:xfrm>
              <a:off x="4780080" y="2055960"/>
              <a:ext cx="360" cy="93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8"/>
                  </a:moveTo>
                  <a:lnTo>
                    <a:pt x="5" y="10"/>
                  </a:lnTo>
                  <a:lnTo>
                    <a:pt x="0" y="2"/>
                  </a:lnTo>
                  <a:lnTo>
                    <a:pt x="1" y="3"/>
                  </a:lnTo>
                  <a:lnTo>
                    <a:pt x="0" y="0"/>
                  </a:lnTo>
                  <a:lnTo>
                    <a:pt x="9" y="7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2"/>
            <p:cNvSpPr/>
            <p:nvPr/>
          </p:nvSpPr>
          <p:spPr>
            <a:xfrm>
              <a:off x="3268800" y="2017800"/>
              <a:ext cx="66600" cy="13644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7" h="188">
                  <a:moveTo>
                    <a:pt x="52" y="154"/>
                  </a:moveTo>
                  <a:lnTo>
                    <a:pt x="19" y="188"/>
                  </a:lnTo>
                  <a:lnTo>
                    <a:pt x="0" y="188"/>
                  </a:lnTo>
                  <a:lnTo>
                    <a:pt x="11" y="118"/>
                  </a:lnTo>
                  <a:lnTo>
                    <a:pt x="22" y="48"/>
                  </a:lnTo>
                  <a:lnTo>
                    <a:pt x="81" y="0"/>
                  </a:lnTo>
                  <a:lnTo>
                    <a:pt x="87" y="10"/>
                  </a:lnTo>
                  <a:lnTo>
                    <a:pt x="70" y="81"/>
                  </a:lnTo>
                  <a:lnTo>
                    <a:pt x="52" y="15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3"/>
            <p:cNvSpPr/>
            <p:nvPr/>
          </p:nvSpPr>
          <p:spPr>
            <a:xfrm>
              <a:off x="3092760" y="2054160"/>
              <a:ext cx="222120" cy="2080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67" h="298">
                  <a:moveTo>
                    <a:pt x="25" y="264"/>
                  </a:moveTo>
                  <a:lnTo>
                    <a:pt x="0" y="240"/>
                  </a:lnTo>
                  <a:lnTo>
                    <a:pt x="7" y="187"/>
                  </a:lnTo>
                  <a:lnTo>
                    <a:pt x="45" y="128"/>
                  </a:lnTo>
                  <a:lnTo>
                    <a:pt x="131" y="117"/>
                  </a:lnTo>
                  <a:lnTo>
                    <a:pt x="84" y="47"/>
                  </a:lnTo>
                  <a:lnTo>
                    <a:pt x="104" y="42"/>
                  </a:lnTo>
                  <a:lnTo>
                    <a:pt x="109" y="0"/>
                  </a:lnTo>
                  <a:lnTo>
                    <a:pt x="169" y="0"/>
                  </a:lnTo>
                  <a:lnTo>
                    <a:pt x="227" y="0"/>
                  </a:lnTo>
                  <a:lnTo>
                    <a:pt x="216" y="70"/>
                  </a:lnTo>
                  <a:lnTo>
                    <a:pt x="205" y="140"/>
                  </a:lnTo>
                  <a:lnTo>
                    <a:pt x="224" y="140"/>
                  </a:lnTo>
                  <a:lnTo>
                    <a:pt x="247" y="144"/>
                  </a:lnTo>
                  <a:lnTo>
                    <a:pt x="267" y="154"/>
                  </a:lnTo>
                  <a:lnTo>
                    <a:pt x="223" y="189"/>
                  </a:lnTo>
                  <a:lnTo>
                    <a:pt x="185" y="248"/>
                  </a:lnTo>
                  <a:lnTo>
                    <a:pt x="132" y="298"/>
                  </a:lnTo>
                  <a:lnTo>
                    <a:pt x="78" y="281"/>
                  </a:lnTo>
                  <a:lnTo>
                    <a:pt x="25" y="26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4"/>
            <p:cNvSpPr/>
            <p:nvPr/>
          </p:nvSpPr>
          <p:spPr>
            <a:xfrm>
              <a:off x="3875400" y="2017800"/>
              <a:ext cx="114120" cy="36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36" h="49">
                  <a:moveTo>
                    <a:pt x="52" y="0"/>
                  </a:moveTo>
                  <a:lnTo>
                    <a:pt x="0" y="17"/>
                  </a:lnTo>
                  <a:lnTo>
                    <a:pt x="73" y="49"/>
                  </a:lnTo>
                  <a:lnTo>
                    <a:pt x="136" y="4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5"/>
            <p:cNvSpPr/>
            <p:nvPr/>
          </p:nvSpPr>
          <p:spPr>
            <a:xfrm>
              <a:off x="4483080" y="2017800"/>
              <a:ext cx="87480" cy="30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20"/>
                  </a:moveTo>
                  <a:lnTo>
                    <a:pt x="95" y="24"/>
                  </a:lnTo>
                  <a:lnTo>
                    <a:pt x="26" y="39"/>
                  </a:lnTo>
                  <a:lnTo>
                    <a:pt x="0" y="31"/>
                  </a:lnTo>
                  <a:lnTo>
                    <a:pt x="9" y="0"/>
                  </a:lnTo>
                  <a:lnTo>
                    <a:pt x="100" y="2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6"/>
            <p:cNvSpPr/>
            <p:nvPr/>
          </p:nvSpPr>
          <p:spPr>
            <a:xfrm>
              <a:off x="4606920" y="2054160"/>
              <a:ext cx="17640" cy="18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" h="6">
                  <a:moveTo>
                    <a:pt x="20" y="4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7"/>
            <p:cNvSpPr/>
            <p:nvPr/>
          </p:nvSpPr>
          <p:spPr>
            <a:xfrm>
              <a:off x="1979640" y="1268280"/>
              <a:ext cx="1462320" cy="957240"/>
            </a:xfrm>
            <a:custGeom>
              <a:avLst/>
              <a:gdLst>
                <a:gd name="textAreaLeft" fmla="*/ 0 w 1462320"/>
                <a:gd name="textAreaRight" fmla="*/ 1462320 w 146232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07" h="1325">
                  <a:moveTo>
                    <a:pt x="295" y="689"/>
                  </a:moveTo>
                  <a:lnTo>
                    <a:pt x="251" y="707"/>
                  </a:lnTo>
                  <a:lnTo>
                    <a:pt x="216" y="639"/>
                  </a:lnTo>
                  <a:lnTo>
                    <a:pt x="154" y="575"/>
                  </a:lnTo>
                  <a:lnTo>
                    <a:pt x="162" y="518"/>
                  </a:lnTo>
                  <a:lnTo>
                    <a:pt x="140" y="463"/>
                  </a:lnTo>
                  <a:lnTo>
                    <a:pt x="121" y="422"/>
                  </a:lnTo>
                  <a:lnTo>
                    <a:pt x="83" y="421"/>
                  </a:lnTo>
                  <a:lnTo>
                    <a:pt x="52" y="387"/>
                  </a:lnTo>
                  <a:lnTo>
                    <a:pt x="22" y="352"/>
                  </a:lnTo>
                  <a:lnTo>
                    <a:pt x="73" y="361"/>
                  </a:lnTo>
                  <a:lnTo>
                    <a:pt x="85" y="287"/>
                  </a:lnTo>
                  <a:lnTo>
                    <a:pt x="51" y="238"/>
                  </a:lnTo>
                  <a:lnTo>
                    <a:pt x="16" y="190"/>
                  </a:lnTo>
                  <a:lnTo>
                    <a:pt x="8" y="100"/>
                  </a:lnTo>
                  <a:lnTo>
                    <a:pt x="0" y="8"/>
                  </a:lnTo>
                  <a:lnTo>
                    <a:pt x="73" y="4"/>
                  </a:lnTo>
                  <a:lnTo>
                    <a:pt x="148" y="0"/>
                  </a:lnTo>
                  <a:lnTo>
                    <a:pt x="197" y="24"/>
                  </a:lnTo>
                  <a:lnTo>
                    <a:pt x="245" y="47"/>
                  </a:lnTo>
                  <a:lnTo>
                    <a:pt x="294" y="72"/>
                  </a:lnTo>
                  <a:lnTo>
                    <a:pt x="343" y="96"/>
                  </a:lnTo>
                  <a:lnTo>
                    <a:pt x="430" y="96"/>
                  </a:lnTo>
                  <a:lnTo>
                    <a:pt x="518" y="96"/>
                  </a:lnTo>
                  <a:lnTo>
                    <a:pt x="530" y="63"/>
                  </a:lnTo>
                  <a:lnTo>
                    <a:pt x="633" y="63"/>
                  </a:lnTo>
                  <a:lnTo>
                    <a:pt x="687" y="134"/>
                  </a:lnTo>
                  <a:lnTo>
                    <a:pt x="706" y="208"/>
                  </a:lnTo>
                  <a:lnTo>
                    <a:pt x="744" y="237"/>
                  </a:lnTo>
                  <a:lnTo>
                    <a:pt x="783" y="268"/>
                  </a:lnTo>
                  <a:lnTo>
                    <a:pt x="825" y="212"/>
                  </a:lnTo>
                  <a:lnTo>
                    <a:pt x="912" y="222"/>
                  </a:lnTo>
                  <a:lnTo>
                    <a:pt x="940" y="288"/>
                  </a:lnTo>
                  <a:lnTo>
                    <a:pt x="969" y="356"/>
                  </a:lnTo>
                  <a:lnTo>
                    <a:pt x="990" y="441"/>
                  </a:lnTo>
                  <a:lnTo>
                    <a:pt x="1032" y="476"/>
                  </a:lnTo>
                  <a:lnTo>
                    <a:pt x="1108" y="489"/>
                  </a:lnTo>
                  <a:lnTo>
                    <a:pt x="1067" y="586"/>
                  </a:lnTo>
                  <a:lnTo>
                    <a:pt x="1032" y="684"/>
                  </a:lnTo>
                  <a:lnTo>
                    <a:pt x="1021" y="782"/>
                  </a:lnTo>
                  <a:lnTo>
                    <a:pt x="1042" y="852"/>
                  </a:lnTo>
                  <a:lnTo>
                    <a:pt x="1065" y="919"/>
                  </a:lnTo>
                  <a:lnTo>
                    <a:pt x="1084" y="965"/>
                  </a:lnTo>
                  <a:lnTo>
                    <a:pt x="1102" y="1012"/>
                  </a:lnTo>
                  <a:lnTo>
                    <a:pt x="1111" y="1018"/>
                  </a:lnTo>
                  <a:lnTo>
                    <a:pt x="1178" y="1051"/>
                  </a:lnTo>
                  <a:lnTo>
                    <a:pt x="1236" y="1046"/>
                  </a:lnTo>
                  <a:lnTo>
                    <a:pt x="1305" y="1032"/>
                  </a:lnTo>
                  <a:lnTo>
                    <a:pt x="1347" y="1030"/>
                  </a:lnTo>
                  <a:lnTo>
                    <a:pt x="1376" y="1037"/>
                  </a:lnTo>
                  <a:lnTo>
                    <a:pt x="1395" y="1018"/>
                  </a:lnTo>
                  <a:lnTo>
                    <a:pt x="1390" y="1007"/>
                  </a:lnTo>
                  <a:lnTo>
                    <a:pt x="1439" y="952"/>
                  </a:lnTo>
                  <a:lnTo>
                    <a:pt x="1472" y="865"/>
                  </a:lnTo>
                  <a:lnTo>
                    <a:pt x="1538" y="828"/>
                  </a:lnTo>
                  <a:lnTo>
                    <a:pt x="1600" y="822"/>
                  </a:lnTo>
                  <a:lnTo>
                    <a:pt x="1662" y="816"/>
                  </a:lnTo>
                  <a:lnTo>
                    <a:pt x="1677" y="814"/>
                  </a:lnTo>
                  <a:lnTo>
                    <a:pt x="1702" y="830"/>
                  </a:lnTo>
                  <a:lnTo>
                    <a:pt x="1707" y="841"/>
                  </a:lnTo>
                  <a:lnTo>
                    <a:pt x="1647" y="930"/>
                  </a:lnTo>
                  <a:lnTo>
                    <a:pt x="1635" y="958"/>
                  </a:lnTo>
                  <a:lnTo>
                    <a:pt x="1638" y="967"/>
                  </a:lnTo>
                  <a:lnTo>
                    <a:pt x="1635" y="976"/>
                  </a:lnTo>
                  <a:lnTo>
                    <a:pt x="1606" y="1046"/>
                  </a:lnTo>
                  <a:lnTo>
                    <a:pt x="1593" y="1018"/>
                  </a:lnTo>
                  <a:lnTo>
                    <a:pt x="1581" y="1037"/>
                  </a:lnTo>
                  <a:lnTo>
                    <a:pt x="1522" y="1085"/>
                  </a:lnTo>
                  <a:lnTo>
                    <a:pt x="1464" y="1085"/>
                  </a:lnTo>
                  <a:lnTo>
                    <a:pt x="1404" y="1085"/>
                  </a:lnTo>
                  <a:lnTo>
                    <a:pt x="1399" y="1127"/>
                  </a:lnTo>
                  <a:lnTo>
                    <a:pt x="1379" y="1132"/>
                  </a:lnTo>
                  <a:lnTo>
                    <a:pt x="1426" y="1202"/>
                  </a:lnTo>
                  <a:lnTo>
                    <a:pt x="1340" y="1213"/>
                  </a:lnTo>
                  <a:lnTo>
                    <a:pt x="1302" y="1272"/>
                  </a:lnTo>
                  <a:lnTo>
                    <a:pt x="1295" y="1325"/>
                  </a:lnTo>
                  <a:lnTo>
                    <a:pt x="1232" y="1261"/>
                  </a:lnTo>
                  <a:lnTo>
                    <a:pt x="1171" y="1198"/>
                  </a:lnTo>
                  <a:lnTo>
                    <a:pt x="1197" y="1218"/>
                  </a:lnTo>
                  <a:lnTo>
                    <a:pt x="1160" y="1198"/>
                  </a:lnTo>
                  <a:lnTo>
                    <a:pt x="1129" y="1199"/>
                  </a:lnTo>
                  <a:lnTo>
                    <a:pt x="1143" y="1203"/>
                  </a:lnTo>
                  <a:lnTo>
                    <a:pt x="1080" y="1221"/>
                  </a:lnTo>
                  <a:lnTo>
                    <a:pt x="1018" y="1239"/>
                  </a:lnTo>
                  <a:lnTo>
                    <a:pt x="946" y="1206"/>
                  </a:lnTo>
                  <a:lnTo>
                    <a:pt x="876" y="1173"/>
                  </a:lnTo>
                  <a:lnTo>
                    <a:pt x="805" y="1140"/>
                  </a:lnTo>
                  <a:lnTo>
                    <a:pt x="734" y="1107"/>
                  </a:lnTo>
                  <a:lnTo>
                    <a:pt x="694" y="1078"/>
                  </a:lnTo>
                  <a:lnTo>
                    <a:pt x="647" y="1053"/>
                  </a:lnTo>
                  <a:lnTo>
                    <a:pt x="602" y="1030"/>
                  </a:lnTo>
                  <a:lnTo>
                    <a:pt x="556" y="986"/>
                  </a:lnTo>
                  <a:lnTo>
                    <a:pt x="511" y="942"/>
                  </a:lnTo>
                  <a:lnTo>
                    <a:pt x="503" y="891"/>
                  </a:lnTo>
                  <a:lnTo>
                    <a:pt x="528" y="878"/>
                  </a:lnTo>
                  <a:lnTo>
                    <a:pt x="519" y="860"/>
                  </a:lnTo>
                  <a:lnTo>
                    <a:pt x="535" y="815"/>
                  </a:lnTo>
                  <a:lnTo>
                    <a:pt x="513" y="757"/>
                  </a:lnTo>
                  <a:lnTo>
                    <a:pt x="492" y="700"/>
                  </a:lnTo>
                  <a:lnTo>
                    <a:pt x="454" y="649"/>
                  </a:lnTo>
                  <a:lnTo>
                    <a:pt x="416" y="598"/>
                  </a:lnTo>
                  <a:lnTo>
                    <a:pt x="433" y="605"/>
                  </a:lnTo>
                  <a:lnTo>
                    <a:pt x="407" y="567"/>
                  </a:lnTo>
                  <a:lnTo>
                    <a:pt x="395" y="556"/>
                  </a:lnTo>
                  <a:lnTo>
                    <a:pt x="402" y="553"/>
                  </a:lnTo>
                  <a:lnTo>
                    <a:pt x="353" y="525"/>
                  </a:lnTo>
                  <a:lnTo>
                    <a:pt x="364" y="509"/>
                  </a:lnTo>
                  <a:lnTo>
                    <a:pt x="340" y="506"/>
                  </a:lnTo>
                  <a:lnTo>
                    <a:pt x="359" y="464"/>
                  </a:lnTo>
                  <a:lnTo>
                    <a:pt x="334" y="438"/>
                  </a:lnTo>
                  <a:lnTo>
                    <a:pt x="294" y="365"/>
                  </a:lnTo>
                  <a:lnTo>
                    <a:pt x="293" y="348"/>
                  </a:lnTo>
                  <a:lnTo>
                    <a:pt x="252" y="316"/>
                  </a:lnTo>
                  <a:lnTo>
                    <a:pt x="229" y="253"/>
                  </a:lnTo>
                  <a:lnTo>
                    <a:pt x="205" y="190"/>
                  </a:lnTo>
                  <a:lnTo>
                    <a:pt x="205" y="103"/>
                  </a:lnTo>
                  <a:lnTo>
                    <a:pt x="164" y="84"/>
                  </a:lnTo>
                  <a:lnTo>
                    <a:pt x="116" y="55"/>
                  </a:lnTo>
                  <a:lnTo>
                    <a:pt x="108" y="132"/>
                  </a:lnTo>
                  <a:lnTo>
                    <a:pt x="99" y="209"/>
                  </a:lnTo>
                  <a:lnTo>
                    <a:pt x="133" y="269"/>
                  </a:lnTo>
                  <a:lnTo>
                    <a:pt x="166" y="330"/>
                  </a:lnTo>
                  <a:lnTo>
                    <a:pt x="184" y="383"/>
                  </a:lnTo>
                  <a:lnTo>
                    <a:pt x="201" y="435"/>
                  </a:lnTo>
                  <a:lnTo>
                    <a:pt x="209" y="427"/>
                  </a:lnTo>
                  <a:lnTo>
                    <a:pt x="218" y="512"/>
                  </a:lnTo>
                  <a:lnTo>
                    <a:pt x="231" y="599"/>
                  </a:lnTo>
                  <a:lnTo>
                    <a:pt x="255" y="614"/>
                  </a:lnTo>
                  <a:lnTo>
                    <a:pt x="284" y="652"/>
                  </a:lnTo>
                  <a:lnTo>
                    <a:pt x="295" y="689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5"/>
            <p:cNvSpPr/>
            <p:nvPr/>
          </p:nvSpPr>
          <p:spPr>
            <a:xfrm>
              <a:off x="5330880" y="5695920"/>
              <a:ext cx="79560" cy="47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5" h="71">
                  <a:moveTo>
                    <a:pt x="95" y="28"/>
                  </a:moveTo>
                  <a:lnTo>
                    <a:pt x="75" y="17"/>
                  </a:lnTo>
                  <a:lnTo>
                    <a:pt x="56" y="15"/>
                  </a:lnTo>
                  <a:lnTo>
                    <a:pt x="47" y="12"/>
                  </a:lnTo>
                  <a:lnTo>
                    <a:pt x="22" y="0"/>
                  </a:lnTo>
                  <a:lnTo>
                    <a:pt x="19" y="24"/>
                  </a:lnTo>
                  <a:lnTo>
                    <a:pt x="0" y="49"/>
                  </a:lnTo>
                  <a:lnTo>
                    <a:pt x="20" y="71"/>
                  </a:lnTo>
                  <a:lnTo>
                    <a:pt x="31" y="57"/>
                  </a:lnTo>
                  <a:lnTo>
                    <a:pt x="43" y="55"/>
                  </a:lnTo>
                  <a:lnTo>
                    <a:pt x="43" y="46"/>
                  </a:lnTo>
                  <a:lnTo>
                    <a:pt x="95" y="28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6"/>
            <p:cNvSpPr/>
            <p:nvPr/>
          </p:nvSpPr>
          <p:spPr>
            <a:xfrm>
              <a:off x="5275440" y="5699160"/>
              <a:ext cx="61920" cy="334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3" h="50">
                  <a:moveTo>
                    <a:pt x="21" y="19"/>
                  </a:moveTo>
                  <a:lnTo>
                    <a:pt x="6" y="4"/>
                  </a:lnTo>
                  <a:lnTo>
                    <a:pt x="73" y="0"/>
                  </a:lnTo>
                  <a:lnTo>
                    <a:pt x="39" y="38"/>
                  </a:lnTo>
                  <a:lnTo>
                    <a:pt x="0" y="50"/>
                  </a:lnTo>
                  <a:lnTo>
                    <a:pt x="22" y="30"/>
                  </a:lnTo>
                  <a:lnTo>
                    <a:pt x="12" y="24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7"/>
            <p:cNvSpPr/>
            <p:nvPr/>
          </p:nvSpPr>
          <p:spPr>
            <a:xfrm>
              <a:off x="4318200" y="3510000"/>
              <a:ext cx="693720" cy="69048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807" h="954">
                  <a:moveTo>
                    <a:pt x="541" y="755"/>
                  </a:moveTo>
                  <a:lnTo>
                    <a:pt x="526" y="833"/>
                  </a:lnTo>
                  <a:lnTo>
                    <a:pt x="512" y="911"/>
                  </a:lnTo>
                  <a:lnTo>
                    <a:pt x="498" y="895"/>
                  </a:lnTo>
                  <a:lnTo>
                    <a:pt x="424" y="906"/>
                  </a:lnTo>
                  <a:lnTo>
                    <a:pt x="404" y="947"/>
                  </a:lnTo>
                  <a:lnTo>
                    <a:pt x="372" y="904"/>
                  </a:lnTo>
                  <a:lnTo>
                    <a:pt x="294" y="889"/>
                  </a:lnTo>
                  <a:lnTo>
                    <a:pt x="280" y="879"/>
                  </a:lnTo>
                  <a:lnTo>
                    <a:pt x="228" y="954"/>
                  </a:lnTo>
                  <a:lnTo>
                    <a:pt x="183" y="947"/>
                  </a:lnTo>
                  <a:lnTo>
                    <a:pt x="157" y="881"/>
                  </a:lnTo>
                  <a:lnTo>
                    <a:pt x="130" y="816"/>
                  </a:lnTo>
                  <a:lnTo>
                    <a:pt x="112" y="753"/>
                  </a:lnTo>
                  <a:lnTo>
                    <a:pt x="114" y="699"/>
                  </a:lnTo>
                  <a:lnTo>
                    <a:pt x="79" y="649"/>
                  </a:lnTo>
                  <a:lnTo>
                    <a:pt x="60" y="599"/>
                  </a:lnTo>
                  <a:lnTo>
                    <a:pt x="41" y="565"/>
                  </a:lnTo>
                  <a:lnTo>
                    <a:pt x="42" y="536"/>
                  </a:lnTo>
                  <a:lnTo>
                    <a:pt x="71" y="475"/>
                  </a:lnTo>
                  <a:lnTo>
                    <a:pt x="50" y="468"/>
                  </a:lnTo>
                  <a:lnTo>
                    <a:pt x="41" y="407"/>
                  </a:lnTo>
                  <a:lnTo>
                    <a:pt x="44" y="345"/>
                  </a:lnTo>
                  <a:lnTo>
                    <a:pt x="54" y="307"/>
                  </a:lnTo>
                  <a:lnTo>
                    <a:pt x="55" y="216"/>
                  </a:lnTo>
                  <a:lnTo>
                    <a:pt x="66" y="199"/>
                  </a:lnTo>
                  <a:lnTo>
                    <a:pt x="32" y="143"/>
                  </a:lnTo>
                  <a:lnTo>
                    <a:pt x="0" y="86"/>
                  </a:lnTo>
                  <a:lnTo>
                    <a:pt x="82" y="88"/>
                  </a:lnTo>
                  <a:lnTo>
                    <a:pt x="112" y="67"/>
                  </a:lnTo>
                  <a:lnTo>
                    <a:pt x="165" y="33"/>
                  </a:lnTo>
                  <a:lnTo>
                    <a:pt x="219" y="0"/>
                  </a:lnTo>
                  <a:lnTo>
                    <a:pt x="270" y="5"/>
                  </a:lnTo>
                  <a:lnTo>
                    <a:pt x="275" y="67"/>
                  </a:lnTo>
                  <a:lnTo>
                    <a:pt x="281" y="127"/>
                  </a:lnTo>
                  <a:lnTo>
                    <a:pt x="330" y="181"/>
                  </a:lnTo>
                  <a:lnTo>
                    <a:pt x="377" y="197"/>
                  </a:lnTo>
                  <a:lnTo>
                    <a:pt x="434" y="224"/>
                  </a:lnTo>
                  <a:lnTo>
                    <a:pt x="507" y="274"/>
                  </a:lnTo>
                  <a:lnTo>
                    <a:pt x="579" y="286"/>
                  </a:lnTo>
                  <a:lnTo>
                    <a:pt x="598" y="317"/>
                  </a:lnTo>
                  <a:lnTo>
                    <a:pt x="608" y="389"/>
                  </a:lnTo>
                  <a:lnTo>
                    <a:pt x="596" y="389"/>
                  </a:lnTo>
                  <a:lnTo>
                    <a:pt x="619" y="418"/>
                  </a:lnTo>
                  <a:lnTo>
                    <a:pt x="629" y="475"/>
                  </a:lnTo>
                  <a:lnTo>
                    <a:pt x="687" y="481"/>
                  </a:lnTo>
                  <a:lnTo>
                    <a:pt x="746" y="488"/>
                  </a:lnTo>
                  <a:lnTo>
                    <a:pt x="755" y="551"/>
                  </a:lnTo>
                  <a:lnTo>
                    <a:pt x="795" y="591"/>
                  </a:lnTo>
                  <a:lnTo>
                    <a:pt x="807" y="619"/>
                  </a:lnTo>
                  <a:lnTo>
                    <a:pt x="794" y="674"/>
                  </a:lnTo>
                  <a:lnTo>
                    <a:pt x="780" y="728"/>
                  </a:lnTo>
                  <a:lnTo>
                    <a:pt x="790" y="752"/>
                  </a:lnTo>
                  <a:lnTo>
                    <a:pt x="780" y="761"/>
                  </a:lnTo>
                  <a:lnTo>
                    <a:pt x="781" y="749"/>
                  </a:lnTo>
                  <a:lnTo>
                    <a:pt x="716" y="701"/>
                  </a:lnTo>
                  <a:lnTo>
                    <a:pt x="632" y="712"/>
                  </a:lnTo>
                  <a:lnTo>
                    <a:pt x="548" y="723"/>
                  </a:lnTo>
                  <a:lnTo>
                    <a:pt x="541" y="75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8"/>
            <p:cNvSpPr/>
            <p:nvPr/>
          </p:nvSpPr>
          <p:spPr>
            <a:xfrm>
              <a:off x="4071960" y="2719440"/>
              <a:ext cx="2157480" cy="206208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2062080"/>
                <a:gd name="textAreaBottom" fmla="*/ 2062440 h 2062080"/>
              </a:gdLst>
              <a:ahLst/>
              <a:rect l="textAreaLeft" t="textAreaTop" r="textAreaRight" b="textAreaBottom"/>
              <a:pathLst>
                <a:path w="2522" h="2852">
                  <a:moveTo>
                    <a:pt x="1914" y="560"/>
                  </a:moveTo>
                  <a:lnTo>
                    <a:pt x="1901" y="568"/>
                  </a:lnTo>
                  <a:lnTo>
                    <a:pt x="1876" y="615"/>
                  </a:lnTo>
                  <a:lnTo>
                    <a:pt x="1894" y="560"/>
                  </a:lnTo>
                  <a:lnTo>
                    <a:pt x="1885" y="544"/>
                  </a:lnTo>
                  <a:lnTo>
                    <a:pt x="1876" y="550"/>
                  </a:lnTo>
                  <a:lnTo>
                    <a:pt x="1882" y="517"/>
                  </a:lnTo>
                  <a:lnTo>
                    <a:pt x="1859" y="496"/>
                  </a:lnTo>
                  <a:lnTo>
                    <a:pt x="1834" y="497"/>
                  </a:lnTo>
                  <a:lnTo>
                    <a:pt x="1828" y="487"/>
                  </a:lnTo>
                  <a:lnTo>
                    <a:pt x="1805" y="476"/>
                  </a:lnTo>
                  <a:lnTo>
                    <a:pt x="1777" y="460"/>
                  </a:lnTo>
                  <a:lnTo>
                    <a:pt x="1751" y="451"/>
                  </a:lnTo>
                  <a:lnTo>
                    <a:pt x="1730" y="446"/>
                  </a:lnTo>
                  <a:lnTo>
                    <a:pt x="1695" y="428"/>
                  </a:lnTo>
                  <a:lnTo>
                    <a:pt x="1694" y="436"/>
                  </a:lnTo>
                  <a:lnTo>
                    <a:pt x="1653" y="445"/>
                  </a:lnTo>
                  <a:lnTo>
                    <a:pt x="1630" y="490"/>
                  </a:lnTo>
                  <a:lnTo>
                    <a:pt x="1628" y="498"/>
                  </a:lnTo>
                  <a:lnTo>
                    <a:pt x="1603" y="511"/>
                  </a:lnTo>
                  <a:lnTo>
                    <a:pt x="1559" y="574"/>
                  </a:lnTo>
                  <a:lnTo>
                    <a:pt x="1564" y="519"/>
                  </a:lnTo>
                  <a:lnTo>
                    <a:pt x="1544" y="534"/>
                  </a:lnTo>
                  <a:lnTo>
                    <a:pt x="1522" y="523"/>
                  </a:lnTo>
                  <a:lnTo>
                    <a:pt x="1500" y="524"/>
                  </a:lnTo>
                  <a:lnTo>
                    <a:pt x="1478" y="453"/>
                  </a:lnTo>
                  <a:lnTo>
                    <a:pt x="1433" y="477"/>
                  </a:lnTo>
                  <a:lnTo>
                    <a:pt x="1388" y="500"/>
                  </a:lnTo>
                  <a:lnTo>
                    <a:pt x="1367" y="494"/>
                  </a:lnTo>
                  <a:lnTo>
                    <a:pt x="1414" y="465"/>
                  </a:lnTo>
                  <a:lnTo>
                    <a:pt x="1454" y="387"/>
                  </a:lnTo>
                  <a:lnTo>
                    <a:pt x="1496" y="338"/>
                  </a:lnTo>
                  <a:lnTo>
                    <a:pt x="1538" y="290"/>
                  </a:lnTo>
                  <a:lnTo>
                    <a:pt x="1521" y="253"/>
                  </a:lnTo>
                  <a:lnTo>
                    <a:pt x="1489" y="225"/>
                  </a:lnTo>
                  <a:lnTo>
                    <a:pt x="1476" y="162"/>
                  </a:lnTo>
                  <a:lnTo>
                    <a:pt x="1462" y="100"/>
                  </a:lnTo>
                  <a:lnTo>
                    <a:pt x="1459" y="105"/>
                  </a:lnTo>
                  <a:lnTo>
                    <a:pt x="1436" y="69"/>
                  </a:lnTo>
                  <a:lnTo>
                    <a:pt x="1438" y="85"/>
                  </a:lnTo>
                  <a:lnTo>
                    <a:pt x="1430" y="85"/>
                  </a:lnTo>
                  <a:lnTo>
                    <a:pt x="1426" y="88"/>
                  </a:lnTo>
                  <a:lnTo>
                    <a:pt x="1385" y="155"/>
                  </a:lnTo>
                  <a:lnTo>
                    <a:pt x="1342" y="224"/>
                  </a:lnTo>
                  <a:lnTo>
                    <a:pt x="1279" y="220"/>
                  </a:lnTo>
                  <a:lnTo>
                    <a:pt x="1236" y="212"/>
                  </a:lnTo>
                  <a:lnTo>
                    <a:pt x="1198" y="198"/>
                  </a:lnTo>
                  <a:lnTo>
                    <a:pt x="1140" y="211"/>
                  </a:lnTo>
                  <a:lnTo>
                    <a:pt x="1144" y="248"/>
                  </a:lnTo>
                  <a:lnTo>
                    <a:pt x="1115" y="239"/>
                  </a:lnTo>
                  <a:lnTo>
                    <a:pt x="1049" y="253"/>
                  </a:lnTo>
                  <a:lnTo>
                    <a:pt x="985" y="283"/>
                  </a:lnTo>
                  <a:lnTo>
                    <a:pt x="946" y="285"/>
                  </a:lnTo>
                  <a:lnTo>
                    <a:pt x="903" y="231"/>
                  </a:lnTo>
                  <a:lnTo>
                    <a:pt x="896" y="145"/>
                  </a:lnTo>
                  <a:lnTo>
                    <a:pt x="914" y="78"/>
                  </a:lnTo>
                  <a:lnTo>
                    <a:pt x="885" y="41"/>
                  </a:lnTo>
                  <a:lnTo>
                    <a:pt x="881" y="0"/>
                  </a:lnTo>
                  <a:lnTo>
                    <a:pt x="844" y="2"/>
                  </a:lnTo>
                  <a:lnTo>
                    <a:pt x="849" y="3"/>
                  </a:lnTo>
                  <a:lnTo>
                    <a:pt x="831" y="43"/>
                  </a:lnTo>
                  <a:lnTo>
                    <a:pt x="777" y="65"/>
                  </a:lnTo>
                  <a:lnTo>
                    <a:pt x="724" y="88"/>
                  </a:lnTo>
                  <a:lnTo>
                    <a:pt x="712" y="113"/>
                  </a:lnTo>
                  <a:lnTo>
                    <a:pt x="654" y="94"/>
                  </a:lnTo>
                  <a:lnTo>
                    <a:pt x="589" y="71"/>
                  </a:lnTo>
                  <a:lnTo>
                    <a:pt x="610" y="109"/>
                  </a:lnTo>
                  <a:lnTo>
                    <a:pt x="629" y="191"/>
                  </a:lnTo>
                  <a:lnTo>
                    <a:pt x="671" y="205"/>
                  </a:lnTo>
                  <a:lnTo>
                    <a:pt x="659" y="226"/>
                  </a:lnTo>
                  <a:lnTo>
                    <a:pt x="603" y="277"/>
                  </a:lnTo>
                  <a:lnTo>
                    <a:pt x="537" y="327"/>
                  </a:lnTo>
                  <a:lnTo>
                    <a:pt x="530" y="321"/>
                  </a:lnTo>
                  <a:lnTo>
                    <a:pt x="494" y="325"/>
                  </a:lnTo>
                  <a:lnTo>
                    <a:pt x="443" y="293"/>
                  </a:lnTo>
                  <a:lnTo>
                    <a:pt x="429" y="288"/>
                  </a:lnTo>
                  <a:lnTo>
                    <a:pt x="405" y="228"/>
                  </a:lnTo>
                  <a:lnTo>
                    <a:pt x="371" y="253"/>
                  </a:lnTo>
                  <a:lnTo>
                    <a:pt x="354" y="245"/>
                  </a:lnTo>
                  <a:lnTo>
                    <a:pt x="360" y="257"/>
                  </a:lnTo>
                  <a:lnTo>
                    <a:pt x="305" y="257"/>
                  </a:lnTo>
                  <a:lnTo>
                    <a:pt x="251" y="257"/>
                  </a:lnTo>
                  <a:lnTo>
                    <a:pt x="258" y="305"/>
                  </a:lnTo>
                  <a:lnTo>
                    <a:pt x="293" y="320"/>
                  </a:lnTo>
                  <a:lnTo>
                    <a:pt x="282" y="336"/>
                  </a:lnTo>
                  <a:lnTo>
                    <a:pt x="235" y="340"/>
                  </a:lnTo>
                  <a:lnTo>
                    <a:pt x="250" y="409"/>
                  </a:lnTo>
                  <a:lnTo>
                    <a:pt x="277" y="486"/>
                  </a:lnTo>
                  <a:lnTo>
                    <a:pt x="261" y="588"/>
                  </a:lnTo>
                  <a:lnTo>
                    <a:pt x="247" y="691"/>
                  </a:lnTo>
                  <a:lnTo>
                    <a:pt x="225" y="689"/>
                  </a:lnTo>
                  <a:lnTo>
                    <a:pt x="170" y="703"/>
                  </a:lnTo>
                  <a:lnTo>
                    <a:pt x="118" y="728"/>
                  </a:lnTo>
                  <a:lnTo>
                    <a:pt x="67" y="752"/>
                  </a:lnTo>
                  <a:lnTo>
                    <a:pt x="50" y="808"/>
                  </a:lnTo>
                  <a:lnTo>
                    <a:pt x="34" y="865"/>
                  </a:lnTo>
                  <a:lnTo>
                    <a:pt x="0" y="923"/>
                  </a:lnTo>
                  <a:lnTo>
                    <a:pt x="29" y="978"/>
                  </a:lnTo>
                  <a:lnTo>
                    <a:pt x="59" y="1034"/>
                  </a:lnTo>
                  <a:lnTo>
                    <a:pt x="55" y="1065"/>
                  </a:lnTo>
                  <a:lnTo>
                    <a:pt x="81" y="1072"/>
                  </a:lnTo>
                  <a:lnTo>
                    <a:pt x="119" y="1102"/>
                  </a:lnTo>
                  <a:lnTo>
                    <a:pt x="171" y="1115"/>
                  </a:lnTo>
                  <a:lnTo>
                    <a:pt x="215" y="1079"/>
                  </a:lnTo>
                  <a:lnTo>
                    <a:pt x="219" y="1134"/>
                  </a:lnTo>
                  <a:lnTo>
                    <a:pt x="223" y="1188"/>
                  </a:lnTo>
                  <a:lnTo>
                    <a:pt x="292" y="1184"/>
                  </a:lnTo>
                  <a:lnTo>
                    <a:pt x="374" y="1186"/>
                  </a:lnTo>
                  <a:lnTo>
                    <a:pt x="404" y="1165"/>
                  </a:lnTo>
                  <a:lnTo>
                    <a:pt x="457" y="1131"/>
                  </a:lnTo>
                  <a:lnTo>
                    <a:pt x="511" y="1098"/>
                  </a:lnTo>
                  <a:lnTo>
                    <a:pt x="562" y="1103"/>
                  </a:lnTo>
                  <a:lnTo>
                    <a:pt x="567" y="1165"/>
                  </a:lnTo>
                  <a:lnTo>
                    <a:pt x="573" y="1225"/>
                  </a:lnTo>
                  <a:lnTo>
                    <a:pt x="622" y="1279"/>
                  </a:lnTo>
                  <a:lnTo>
                    <a:pt x="669" y="1295"/>
                  </a:lnTo>
                  <a:lnTo>
                    <a:pt x="726" y="1322"/>
                  </a:lnTo>
                  <a:lnTo>
                    <a:pt x="799" y="1372"/>
                  </a:lnTo>
                  <a:lnTo>
                    <a:pt x="871" y="1384"/>
                  </a:lnTo>
                  <a:lnTo>
                    <a:pt x="890" y="1415"/>
                  </a:lnTo>
                  <a:lnTo>
                    <a:pt x="900" y="1487"/>
                  </a:lnTo>
                  <a:lnTo>
                    <a:pt x="888" y="1487"/>
                  </a:lnTo>
                  <a:lnTo>
                    <a:pt x="911" y="1516"/>
                  </a:lnTo>
                  <a:lnTo>
                    <a:pt x="921" y="1573"/>
                  </a:lnTo>
                  <a:lnTo>
                    <a:pt x="979" y="1579"/>
                  </a:lnTo>
                  <a:lnTo>
                    <a:pt x="1038" y="1586"/>
                  </a:lnTo>
                  <a:lnTo>
                    <a:pt x="1047" y="1649"/>
                  </a:lnTo>
                  <a:lnTo>
                    <a:pt x="1087" y="1689"/>
                  </a:lnTo>
                  <a:lnTo>
                    <a:pt x="1099" y="1717"/>
                  </a:lnTo>
                  <a:lnTo>
                    <a:pt x="1086" y="1772"/>
                  </a:lnTo>
                  <a:lnTo>
                    <a:pt x="1072" y="1826"/>
                  </a:lnTo>
                  <a:lnTo>
                    <a:pt x="1082" y="1850"/>
                  </a:lnTo>
                  <a:lnTo>
                    <a:pt x="1072" y="1859"/>
                  </a:lnTo>
                  <a:lnTo>
                    <a:pt x="1086" y="1892"/>
                  </a:lnTo>
                  <a:lnTo>
                    <a:pt x="1096" y="1994"/>
                  </a:lnTo>
                  <a:lnTo>
                    <a:pt x="1185" y="2007"/>
                  </a:lnTo>
                  <a:lnTo>
                    <a:pt x="1233" y="2014"/>
                  </a:lnTo>
                  <a:lnTo>
                    <a:pt x="1252" y="2074"/>
                  </a:lnTo>
                  <a:lnTo>
                    <a:pt x="1271" y="2134"/>
                  </a:lnTo>
                  <a:lnTo>
                    <a:pt x="1304" y="2132"/>
                  </a:lnTo>
                  <a:lnTo>
                    <a:pt x="1338" y="2137"/>
                  </a:lnTo>
                  <a:lnTo>
                    <a:pt x="1336" y="2195"/>
                  </a:lnTo>
                  <a:lnTo>
                    <a:pt x="1335" y="2253"/>
                  </a:lnTo>
                  <a:lnTo>
                    <a:pt x="1375" y="2256"/>
                  </a:lnTo>
                  <a:lnTo>
                    <a:pt x="1404" y="2350"/>
                  </a:lnTo>
                  <a:lnTo>
                    <a:pt x="1363" y="2385"/>
                  </a:lnTo>
                  <a:lnTo>
                    <a:pt x="1324" y="2421"/>
                  </a:lnTo>
                  <a:lnTo>
                    <a:pt x="1290" y="2463"/>
                  </a:lnTo>
                  <a:lnTo>
                    <a:pt x="1257" y="2506"/>
                  </a:lnTo>
                  <a:lnTo>
                    <a:pt x="1222" y="2549"/>
                  </a:lnTo>
                  <a:lnTo>
                    <a:pt x="1189" y="2592"/>
                  </a:lnTo>
                  <a:lnTo>
                    <a:pt x="1190" y="2595"/>
                  </a:lnTo>
                  <a:lnTo>
                    <a:pt x="1222" y="2587"/>
                  </a:lnTo>
                  <a:lnTo>
                    <a:pt x="1300" y="2646"/>
                  </a:lnTo>
                  <a:lnTo>
                    <a:pt x="1318" y="2647"/>
                  </a:lnTo>
                  <a:lnTo>
                    <a:pt x="1356" y="2671"/>
                  </a:lnTo>
                  <a:lnTo>
                    <a:pt x="1423" y="2720"/>
                  </a:lnTo>
                  <a:lnTo>
                    <a:pt x="1489" y="2768"/>
                  </a:lnTo>
                  <a:lnTo>
                    <a:pt x="1482" y="2803"/>
                  </a:lnTo>
                  <a:lnTo>
                    <a:pt x="1496" y="2852"/>
                  </a:lnTo>
                  <a:lnTo>
                    <a:pt x="1520" y="2807"/>
                  </a:lnTo>
                  <a:lnTo>
                    <a:pt x="1544" y="2761"/>
                  </a:lnTo>
                  <a:lnTo>
                    <a:pt x="1546" y="2716"/>
                  </a:lnTo>
                  <a:lnTo>
                    <a:pt x="1564" y="2671"/>
                  </a:lnTo>
                  <a:lnTo>
                    <a:pt x="1590" y="2637"/>
                  </a:lnTo>
                  <a:lnTo>
                    <a:pt x="1584" y="2595"/>
                  </a:lnTo>
                  <a:lnTo>
                    <a:pt x="1586" y="2592"/>
                  </a:lnTo>
                  <a:lnTo>
                    <a:pt x="1616" y="2601"/>
                  </a:lnTo>
                  <a:lnTo>
                    <a:pt x="1631" y="2605"/>
                  </a:lnTo>
                  <a:lnTo>
                    <a:pt x="1603" y="2658"/>
                  </a:lnTo>
                  <a:lnTo>
                    <a:pt x="1576" y="2710"/>
                  </a:lnTo>
                  <a:lnTo>
                    <a:pt x="1557" y="2723"/>
                  </a:lnTo>
                  <a:lnTo>
                    <a:pt x="1561" y="2730"/>
                  </a:lnTo>
                  <a:lnTo>
                    <a:pt x="1604" y="2671"/>
                  </a:lnTo>
                  <a:lnTo>
                    <a:pt x="1647" y="2613"/>
                  </a:lnTo>
                  <a:lnTo>
                    <a:pt x="1673" y="2552"/>
                  </a:lnTo>
                  <a:lnTo>
                    <a:pt x="1700" y="2493"/>
                  </a:lnTo>
                  <a:lnTo>
                    <a:pt x="1718" y="2461"/>
                  </a:lnTo>
                  <a:lnTo>
                    <a:pt x="1722" y="2460"/>
                  </a:lnTo>
                  <a:lnTo>
                    <a:pt x="1723" y="2401"/>
                  </a:lnTo>
                  <a:lnTo>
                    <a:pt x="1723" y="2341"/>
                  </a:lnTo>
                  <a:lnTo>
                    <a:pt x="1709" y="2301"/>
                  </a:lnTo>
                  <a:lnTo>
                    <a:pt x="1706" y="2276"/>
                  </a:lnTo>
                  <a:lnTo>
                    <a:pt x="1717" y="2250"/>
                  </a:lnTo>
                  <a:lnTo>
                    <a:pt x="1709" y="2245"/>
                  </a:lnTo>
                  <a:lnTo>
                    <a:pt x="1735" y="2239"/>
                  </a:lnTo>
                  <a:lnTo>
                    <a:pt x="1789" y="2186"/>
                  </a:lnTo>
                  <a:lnTo>
                    <a:pt x="1846" y="2132"/>
                  </a:lnTo>
                  <a:lnTo>
                    <a:pt x="1899" y="2117"/>
                  </a:lnTo>
                  <a:lnTo>
                    <a:pt x="1947" y="2083"/>
                  </a:lnTo>
                  <a:lnTo>
                    <a:pt x="1969" y="2066"/>
                  </a:lnTo>
                  <a:lnTo>
                    <a:pt x="2011" y="2067"/>
                  </a:lnTo>
                  <a:lnTo>
                    <a:pt x="1992" y="2071"/>
                  </a:lnTo>
                  <a:lnTo>
                    <a:pt x="2034" y="2055"/>
                  </a:lnTo>
                  <a:lnTo>
                    <a:pt x="2043" y="2052"/>
                  </a:lnTo>
                  <a:lnTo>
                    <a:pt x="2115" y="2052"/>
                  </a:lnTo>
                  <a:lnTo>
                    <a:pt x="2134" y="2012"/>
                  </a:lnTo>
                  <a:lnTo>
                    <a:pt x="2172" y="1989"/>
                  </a:lnTo>
                  <a:lnTo>
                    <a:pt x="2179" y="1908"/>
                  </a:lnTo>
                  <a:lnTo>
                    <a:pt x="2210" y="1851"/>
                  </a:lnTo>
                  <a:lnTo>
                    <a:pt x="2240" y="1794"/>
                  </a:lnTo>
                  <a:lnTo>
                    <a:pt x="2251" y="1696"/>
                  </a:lnTo>
                  <a:lnTo>
                    <a:pt x="2266" y="1659"/>
                  </a:lnTo>
                  <a:lnTo>
                    <a:pt x="2270" y="1589"/>
                  </a:lnTo>
                  <a:lnTo>
                    <a:pt x="2273" y="1518"/>
                  </a:lnTo>
                  <a:lnTo>
                    <a:pt x="2271" y="1465"/>
                  </a:lnTo>
                  <a:lnTo>
                    <a:pt x="2268" y="1411"/>
                  </a:lnTo>
                  <a:lnTo>
                    <a:pt x="2260" y="1389"/>
                  </a:lnTo>
                  <a:lnTo>
                    <a:pt x="2271" y="1319"/>
                  </a:lnTo>
                  <a:lnTo>
                    <a:pt x="2290" y="1313"/>
                  </a:lnTo>
                  <a:lnTo>
                    <a:pt x="2296" y="1335"/>
                  </a:lnTo>
                  <a:lnTo>
                    <a:pt x="2329" y="1277"/>
                  </a:lnTo>
                  <a:lnTo>
                    <a:pt x="2362" y="1220"/>
                  </a:lnTo>
                  <a:lnTo>
                    <a:pt x="2363" y="1213"/>
                  </a:lnTo>
                  <a:lnTo>
                    <a:pt x="2376" y="1195"/>
                  </a:lnTo>
                  <a:lnTo>
                    <a:pt x="2414" y="1143"/>
                  </a:lnTo>
                  <a:lnTo>
                    <a:pt x="2453" y="1090"/>
                  </a:lnTo>
                  <a:lnTo>
                    <a:pt x="2510" y="1008"/>
                  </a:lnTo>
                  <a:lnTo>
                    <a:pt x="2522" y="907"/>
                  </a:lnTo>
                  <a:lnTo>
                    <a:pt x="2494" y="833"/>
                  </a:lnTo>
                  <a:lnTo>
                    <a:pt x="2466" y="757"/>
                  </a:lnTo>
                  <a:lnTo>
                    <a:pt x="2414" y="748"/>
                  </a:lnTo>
                  <a:lnTo>
                    <a:pt x="2361" y="739"/>
                  </a:lnTo>
                  <a:lnTo>
                    <a:pt x="2292" y="677"/>
                  </a:lnTo>
                  <a:lnTo>
                    <a:pt x="2222" y="615"/>
                  </a:lnTo>
                  <a:lnTo>
                    <a:pt x="2133" y="589"/>
                  </a:lnTo>
                  <a:lnTo>
                    <a:pt x="2071" y="592"/>
                  </a:lnTo>
                  <a:lnTo>
                    <a:pt x="2015" y="579"/>
                  </a:lnTo>
                  <a:lnTo>
                    <a:pt x="1958" y="566"/>
                  </a:lnTo>
                  <a:lnTo>
                    <a:pt x="1908" y="581"/>
                  </a:lnTo>
                  <a:lnTo>
                    <a:pt x="1914" y="560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9"/>
            <p:cNvSpPr/>
            <p:nvPr/>
          </p:nvSpPr>
          <p:spPr>
            <a:xfrm>
              <a:off x="4759560" y="4017960"/>
              <a:ext cx="460440" cy="43020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534" h="593">
                  <a:moveTo>
                    <a:pt x="29" y="54"/>
                  </a:moveTo>
                  <a:lnTo>
                    <a:pt x="14" y="132"/>
                  </a:lnTo>
                  <a:lnTo>
                    <a:pt x="0" y="210"/>
                  </a:lnTo>
                  <a:lnTo>
                    <a:pt x="62" y="271"/>
                  </a:lnTo>
                  <a:lnTo>
                    <a:pt x="124" y="330"/>
                  </a:lnTo>
                  <a:lnTo>
                    <a:pt x="176" y="354"/>
                  </a:lnTo>
                  <a:lnTo>
                    <a:pt x="230" y="377"/>
                  </a:lnTo>
                  <a:lnTo>
                    <a:pt x="287" y="412"/>
                  </a:lnTo>
                  <a:lnTo>
                    <a:pt x="345" y="445"/>
                  </a:lnTo>
                  <a:lnTo>
                    <a:pt x="320" y="514"/>
                  </a:lnTo>
                  <a:lnTo>
                    <a:pt x="297" y="583"/>
                  </a:lnTo>
                  <a:lnTo>
                    <a:pt x="371" y="589"/>
                  </a:lnTo>
                  <a:lnTo>
                    <a:pt x="444" y="593"/>
                  </a:lnTo>
                  <a:lnTo>
                    <a:pt x="486" y="578"/>
                  </a:lnTo>
                  <a:lnTo>
                    <a:pt x="534" y="501"/>
                  </a:lnTo>
                  <a:lnTo>
                    <a:pt x="531" y="454"/>
                  </a:lnTo>
                  <a:lnTo>
                    <a:pt x="532" y="396"/>
                  </a:lnTo>
                  <a:lnTo>
                    <a:pt x="534" y="338"/>
                  </a:lnTo>
                  <a:lnTo>
                    <a:pt x="500" y="333"/>
                  </a:lnTo>
                  <a:lnTo>
                    <a:pt x="467" y="335"/>
                  </a:lnTo>
                  <a:lnTo>
                    <a:pt x="448" y="275"/>
                  </a:lnTo>
                  <a:lnTo>
                    <a:pt x="429" y="215"/>
                  </a:lnTo>
                  <a:lnTo>
                    <a:pt x="381" y="208"/>
                  </a:lnTo>
                  <a:lnTo>
                    <a:pt x="292" y="195"/>
                  </a:lnTo>
                  <a:lnTo>
                    <a:pt x="282" y="93"/>
                  </a:lnTo>
                  <a:lnTo>
                    <a:pt x="268" y="60"/>
                  </a:lnTo>
                  <a:lnTo>
                    <a:pt x="269" y="48"/>
                  </a:lnTo>
                  <a:lnTo>
                    <a:pt x="204" y="0"/>
                  </a:lnTo>
                  <a:lnTo>
                    <a:pt x="120" y="11"/>
                  </a:lnTo>
                  <a:lnTo>
                    <a:pt x="36" y="22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0"/>
            <p:cNvSpPr/>
            <p:nvPr/>
          </p:nvSpPr>
          <p:spPr>
            <a:xfrm>
              <a:off x="5081760" y="4586400"/>
              <a:ext cx="266760" cy="2523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313" h="350">
                  <a:moveTo>
                    <a:pt x="306" y="181"/>
                  </a:moveTo>
                  <a:lnTo>
                    <a:pt x="240" y="133"/>
                  </a:lnTo>
                  <a:lnTo>
                    <a:pt x="173" y="84"/>
                  </a:lnTo>
                  <a:lnTo>
                    <a:pt x="135" y="60"/>
                  </a:lnTo>
                  <a:lnTo>
                    <a:pt x="117" y="59"/>
                  </a:lnTo>
                  <a:lnTo>
                    <a:pt x="39" y="0"/>
                  </a:lnTo>
                  <a:lnTo>
                    <a:pt x="7" y="8"/>
                  </a:lnTo>
                  <a:lnTo>
                    <a:pt x="7" y="12"/>
                  </a:lnTo>
                  <a:lnTo>
                    <a:pt x="5" y="91"/>
                  </a:lnTo>
                  <a:lnTo>
                    <a:pt x="1" y="171"/>
                  </a:lnTo>
                  <a:lnTo>
                    <a:pt x="6" y="181"/>
                  </a:lnTo>
                  <a:lnTo>
                    <a:pt x="0" y="241"/>
                  </a:lnTo>
                  <a:lnTo>
                    <a:pt x="32" y="301"/>
                  </a:lnTo>
                  <a:lnTo>
                    <a:pt x="110" y="333"/>
                  </a:lnTo>
                  <a:lnTo>
                    <a:pt x="212" y="350"/>
                  </a:lnTo>
                  <a:lnTo>
                    <a:pt x="269" y="327"/>
                  </a:lnTo>
                  <a:lnTo>
                    <a:pt x="313" y="265"/>
                  </a:lnTo>
                  <a:lnTo>
                    <a:pt x="299" y="216"/>
                  </a:lnTo>
                  <a:lnTo>
                    <a:pt x="306" y="181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1"/>
            <p:cNvSpPr/>
            <p:nvPr/>
          </p:nvSpPr>
          <p:spPr>
            <a:xfrm>
              <a:off x="4424400" y="4145040"/>
              <a:ext cx="851040" cy="160164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601640"/>
                <a:gd name="textAreaBottom" fmla="*/ 1602000 h 1601640"/>
              </a:gdLst>
              <a:ahLst/>
              <a:rect l="textAreaLeft" t="textAreaTop" r="textAreaRight" b="textAreaBottom"/>
              <a:pathLst>
                <a:path w="991" h="2218">
                  <a:moveTo>
                    <a:pt x="636" y="1408"/>
                  </a:moveTo>
                  <a:lnTo>
                    <a:pt x="551" y="1406"/>
                  </a:lnTo>
                  <a:lnTo>
                    <a:pt x="489" y="1394"/>
                  </a:lnTo>
                  <a:lnTo>
                    <a:pt x="538" y="1491"/>
                  </a:lnTo>
                  <a:lnTo>
                    <a:pt x="555" y="1499"/>
                  </a:lnTo>
                  <a:lnTo>
                    <a:pt x="579" y="1496"/>
                  </a:lnTo>
                  <a:lnTo>
                    <a:pt x="597" y="1483"/>
                  </a:lnTo>
                  <a:lnTo>
                    <a:pt x="615" y="1536"/>
                  </a:lnTo>
                  <a:lnTo>
                    <a:pt x="581" y="1525"/>
                  </a:lnTo>
                  <a:lnTo>
                    <a:pt x="538" y="1525"/>
                  </a:lnTo>
                  <a:lnTo>
                    <a:pt x="584" y="1549"/>
                  </a:lnTo>
                  <a:lnTo>
                    <a:pt x="540" y="1605"/>
                  </a:lnTo>
                  <a:lnTo>
                    <a:pt x="546" y="1664"/>
                  </a:lnTo>
                  <a:lnTo>
                    <a:pt x="538" y="1695"/>
                  </a:lnTo>
                  <a:lnTo>
                    <a:pt x="471" y="1728"/>
                  </a:lnTo>
                  <a:lnTo>
                    <a:pt x="474" y="1796"/>
                  </a:lnTo>
                  <a:lnTo>
                    <a:pt x="565" y="1843"/>
                  </a:lnTo>
                  <a:lnTo>
                    <a:pt x="599" y="1863"/>
                  </a:lnTo>
                  <a:lnTo>
                    <a:pt x="580" y="1899"/>
                  </a:lnTo>
                  <a:lnTo>
                    <a:pt x="600" y="1906"/>
                  </a:lnTo>
                  <a:lnTo>
                    <a:pt x="568" y="1952"/>
                  </a:lnTo>
                  <a:lnTo>
                    <a:pt x="538" y="1999"/>
                  </a:lnTo>
                  <a:lnTo>
                    <a:pt x="534" y="2056"/>
                  </a:lnTo>
                  <a:lnTo>
                    <a:pt x="501" y="2044"/>
                  </a:lnTo>
                  <a:lnTo>
                    <a:pt x="488" y="2050"/>
                  </a:lnTo>
                  <a:lnTo>
                    <a:pt x="517" y="2065"/>
                  </a:lnTo>
                  <a:lnTo>
                    <a:pt x="493" y="2103"/>
                  </a:lnTo>
                  <a:lnTo>
                    <a:pt x="493" y="2121"/>
                  </a:lnTo>
                  <a:lnTo>
                    <a:pt x="520" y="2164"/>
                  </a:lnTo>
                  <a:lnTo>
                    <a:pt x="506" y="2162"/>
                  </a:lnTo>
                  <a:lnTo>
                    <a:pt x="546" y="2183"/>
                  </a:lnTo>
                  <a:lnTo>
                    <a:pt x="580" y="2218"/>
                  </a:lnTo>
                  <a:lnTo>
                    <a:pt x="483" y="2191"/>
                  </a:lnTo>
                  <a:lnTo>
                    <a:pt x="369" y="2180"/>
                  </a:lnTo>
                  <a:lnTo>
                    <a:pt x="336" y="2149"/>
                  </a:lnTo>
                  <a:lnTo>
                    <a:pt x="300" y="2094"/>
                  </a:lnTo>
                  <a:lnTo>
                    <a:pt x="266" y="2096"/>
                  </a:lnTo>
                  <a:lnTo>
                    <a:pt x="210" y="2002"/>
                  </a:lnTo>
                  <a:lnTo>
                    <a:pt x="246" y="1960"/>
                  </a:lnTo>
                  <a:lnTo>
                    <a:pt x="236" y="1861"/>
                  </a:lnTo>
                  <a:lnTo>
                    <a:pt x="224" y="1780"/>
                  </a:lnTo>
                  <a:lnTo>
                    <a:pt x="220" y="1724"/>
                  </a:lnTo>
                  <a:lnTo>
                    <a:pt x="204" y="1693"/>
                  </a:lnTo>
                  <a:lnTo>
                    <a:pt x="181" y="1678"/>
                  </a:lnTo>
                  <a:lnTo>
                    <a:pt x="220" y="1664"/>
                  </a:lnTo>
                  <a:lnTo>
                    <a:pt x="172" y="1636"/>
                  </a:lnTo>
                  <a:lnTo>
                    <a:pt x="145" y="1559"/>
                  </a:lnTo>
                  <a:lnTo>
                    <a:pt x="114" y="1518"/>
                  </a:lnTo>
                  <a:lnTo>
                    <a:pt x="112" y="1461"/>
                  </a:lnTo>
                  <a:lnTo>
                    <a:pt x="88" y="1363"/>
                  </a:lnTo>
                  <a:lnTo>
                    <a:pt x="81" y="1287"/>
                  </a:lnTo>
                  <a:lnTo>
                    <a:pt x="94" y="1241"/>
                  </a:lnTo>
                  <a:lnTo>
                    <a:pt x="86" y="1198"/>
                  </a:lnTo>
                  <a:lnTo>
                    <a:pt x="68" y="1136"/>
                  </a:lnTo>
                  <a:lnTo>
                    <a:pt x="50" y="1076"/>
                  </a:lnTo>
                  <a:lnTo>
                    <a:pt x="80" y="1027"/>
                  </a:lnTo>
                  <a:lnTo>
                    <a:pt x="66" y="979"/>
                  </a:lnTo>
                  <a:lnTo>
                    <a:pt x="75" y="885"/>
                  </a:lnTo>
                  <a:lnTo>
                    <a:pt x="60" y="842"/>
                  </a:lnTo>
                  <a:lnTo>
                    <a:pt x="30" y="783"/>
                  </a:lnTo>
                  <a:lnTo>
                    <a:pt x="0" y="724"/>
                  </a:lnTo>
                  <a:lnTo>
                    <a:pt x="1" y="677"/>
                  </a:lnTo>
                  <a:lnTo>
                    <a:pt x="12" y="630"/>
                  </a:lnTo>
                  <a:lnTo>
                    <a:pt x="9" y="578"/>
                  </a:lnTo>
                  <a:lnTo>
                    <a:pt x="6" y="524"/>
                  </a:lnTo>
                  <a:lnTo>
                    <a:pt x="32" y="458"/>
                  </a:lnTo>
                  <a:lnTo>
                    <a:pt x="58" y="393"/>
                  </a:lnTo>
                  <a:lnTo>
                    <a:pt x="76" y="373"/>
                  </a:lnTo>
                  <a:lnTo>
                    <a:pt x="52" y="330"/>
                  </a:lnTo>
                  <a:lnTo>
                    <a:pt x="42" y="228"/>
                  </a:lnTo>
                  <a:lnTo>
                    <a:pt x="52" y="191"/>
                  </a:lnTo>
                  <a:lnTo>
                    <a:pt x="107" y="164"/>
                  </a:lnTo>
                  <a:lnTo>
                    <a:pt x="120" y="89"/>
                  </a:lnTo>
                  <a:lnTo>
                    <a:pt x="107" y="75"/>
                  </a:lnTo>
                  <a:lnTo>
                    <a:pt x="159" y="0"/>
                  </a:lnTo>
                  <a:lnTo>
                    <a:pt x="173" y="10"/>
                  </a:lnTo>
                  <a:lnTo>
                    <a:pt x="251" y="25"/>
                  </a:lnTo>
                  <a:lnTo>
                    <a:pt x="283" y="68"/>
                  </a:lnTo>
                  <a:lnTo>
                    <a:pt x="303" y="27"/>
                  </a:lnTo>
                  <a:lnTo>
                    <a:pt x="377" y="16"/>
                  </a:lnTo>
                  <a:lnTo>
                    <a:pt x="391" y="32"/>
                  </a:lnTo>
                  <a:lnTo>
                    <a:pt x="453" y="93"/>
                  </a:lnTo>
                  <a:lnTo>
                    <a:pt x="515" y="152"/>
                  </a:lnTo>
                  <a:lnTo>
                    <a:pt x="567" y="176"/>
                  </a:lnTo>
                  <a:lnTo>
                    <a:pt x="621" y="199"/>
                  </a:lnTo>
                  <a:lnTo>
                    <a:pt x="678" y="234"/>
                  </a:lnTo>
                  <a:lnTo>
                    <a:pt x="736" y="267"/>
                  </a:lnTo>
                  <a:lnTo>
                    <a:pt x="711" y="336"/>
                  </a:lnTo>
                  <a:lnTo>
                    <a:pt x="688" y="405"/>
                  </a:lnTo>
                  <a:lnTo>
                    <a:pt x="762" y="411"/>
                  </a:lnTo>
                  <a:lnTo>
                    <a:pt x="835" y="415"/>
                  </a:lnTo>
                  <a:lnTo>
                    <a:pt x="877" y="400"/>
                  </a:lnTo>
                  <a:lnTo>
                    <a:pt x="925" y="323"/>
                  </a:lnTo>
                  <a:lnTo>
                    <a:pt x="922" y="276"/>
                  </a:lnTo>
                  <a:lnTo>
                    <a:pt x="962" y="279"/>
                  </a:lnTo>
                  <a:lnTo>
                    <a:pt x="991" y="373"/>
                  </a:lnTo>
                  <a:lnTo>
                    <a:pt x="950" y="408"/>
                  </a:lnTo>
                  <a:lnTo>
                    <a:pt x="911" y="444"/>
                  </a:lnTo>
                  <a:lnTo>
                    <a:pt x="877" y="486"/>
                  </a:lnTo>
                  <a:lnTo>
                    <a:pt x="844" y="529"/>
                  </a:lnTo>
                  <a:lnTo>
                    <a:pt x="809" y="572"/>
                  </a:lnTo>
                  <a:lnTo>
                    <a:pt x="776" y="615"/>
                  </a:lnTo>
                  <a:lnTo>
                    <a:pt x="777" y="622"/>
                  </a:lnTo>
                  <a:lnTo>
                    <a:pt x="775" y="701"/>
                  </a:lnTo>
                  <a:lnTo>
                    <a:pt x="771" y="781"/>
                  </a:lnTo>
                  <a:lnTo>
                    <a:pt x="780" y="828"/>
                  </a:lnTo>
                  <a:lnTo>
                    <a:pt x="764" y="859"/>
                  </a:lnTo>
                  <a:lnTo>
                    <a:pt x="793" y="943"/>
                  </a:lnTo>
                  <a:lnTo>
                    <a:pt x="877" y="1001"/>
                  </a:lnTo>
                  <a:lnTo>
                    <a:pt x="882" y="1053"/>
                  </a:lnTo>
                  <a:lnTo>
                    <a:pt x="922" y="1083"/>
                  </a:lnTo>
                  <a:lnTo>
                    <a:pt x="897" y="1146"/>
                  </a:lnTo>
                  <a:lnTo>
                    <a:pt x="872" y="1209"/>
                  </a:lnTo>
                  <a:lnTo>
                    <a:pt x="821" y="1222"/>
                  </a:lnTo>
                  <a:lnTo>
                    <a:pt x="770" y="1235"/>
                  </a:lnTo>
                  <a:lnTo>
                    <a:pt x="719" y="1248"/>
                  </a:lnTo>
                  <a:lnTo>
                    <a:pt x="667" y="1260"/>
                  </a:lnTo>
                  <a:lnTo>
                    <a:pt x="619" y="1255"/>
                  </a:lnTo>
                  <a:lnTo>
                    <a:pt x="635" y="1282"/>
                  </a:lnTo>
                  <a:lnTo>
                    <a:pt x="650" y="1371"/>
                  </a:lnTo>
                  <a:lnTo>
                    <a:pt x="636" y="1408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2"/>
            <p:cNvSpPr/>
            <p:nvPr/>
          </p:nvSpPr>
          <p:spPr>
            <a:xfrm>
              <a:off x="4923000" y="5757840"/>
              <a:ext cx="209520" cy="119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44" h="158">
                  <a:moveTo>
                    <a:pt x="21" y="31"/>
                  </a:moveTo>
                  <a:lnTo>
                    <a:pt x="0" y="0"/>
                  </a:lnTo>
                  <a:lnTo>
                    <a:pt x="32" y="78"/>
                  </a:lnTo>
                  <a:lnTo>
                    <a:pt x="65" y="156"/>
                  </a:lnTo>
                  <a:lnTo>
                    <a:pt x="154" y="158"/>
                  </a:lnTo>
                  <a:lnTo>
                    <a:pt x="244" y="158"/>
                  </a:lnTo>
                  <a:lnTo>
                    <a:pt x="237" y="139"/>
                  </a:lnTo>
                  <a:lnTo>
                    <a:pt x="109" y="97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>
              <a:off x="4313520" y="3917880"/>
              <a:ext cx="612720" cy="19065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1906560"/>
                <a:gd name="textAreaBottom" fmla="*/ 1906920 h 1906560"/>
              </a:gdLst>
              <a:ahLst/>
              <a:rect l="textAreaLeft" t="textAreaTop" r="textAreaRight" b="textAreaBottom"/>
              <a:pathLst>
                <a:path w="711" h="2636">
                  <a:moveTo>
                    <a:pt x="46" y="937"/>
                  </a:moveTo>
                  <a:lnTo>
                    <a:pt x="59" y="991"/>
                  </a:lnTo>
                  <a:lnTo>
                    <a:pt x="72" y="1046"/>
                  </a:lnTo>
                  <a:lnTo>
                    <a:pt x="79" y="1102"/>
                  </a:lnTo>
                  <a:lnTo>
                    <a:pt x="87" y="1156"/>
                  </a:lnTo>
                  <a:lnTo>
                    <a:pt x="79" y="1221"/>
                  </a:lnTo>
                  <a:lnTo>
                    <a:pt x="71" y="1287"/>
                  </a:lnTo>
                  <a:lnTo>
                    <a:pt x="66" y="1352"/>
                  </a:lnTo>
                  <a:lnTo>
                    <a:pt x="61" y="1417"/>
                  </a:lnTo>
                  <a:lnTo>
                    <a:pt x="45" y="1442"/>
                  </a:lnTo>
                  <a:lnTo>
                    <a:pt x="67" y="1504"/>
                  </a:lnTo>
                  <a:lnTo>
                    <a:pt x="89" y="1565"/>
                  </a:lnTo>
                  <a:lnTo>
                    <a:pt x="104" y="1634"/>
                  </a:lnTo>
                  <a:lnTo>
                    <a:pt x="97" y="1701"/>
                  </a:lnTo>
                  <a:lnTo>
                    <a:pt x="136" y="1761"/>
                  </a:lnTo>
                  <a:lnTo>
                    <a:pt x="141" y="1774"/>
                  </a:lnTo>
                  <a:lnTo>
                    <a:pt x="164" y="1760"/>
                  </a:lnTo>
                  <a:lnTo>
                    <a:pt x="187" y="1761"/>
                  </a:lnTo>
                  <a:lnTo>
                    <a:pt x="206" y="1750"/>
                  </a:lnTo>
                  <a:lnTo>
                    <a:pt x="199" y="1791"/>
                  </a:lnTo>
                  <a:lnTo>
                    <a:pt x="218" y="1812"/>
                  </a:lnTo>
                  <a:lnTo>
                    <a:pt x="208" y="1804"/>
                  </a:lnTo>
                  <a:lnTo>
                    <a:pt x="211" y="1826"/>
                  </a:lnTo>
                  <a:lnTo>
                    <a:pt x="219" y="1868"/>
                  </a:lnTo>
                  <a:lnTo>
                    <a:pt x="223" y="1917"/>
                  </a:lnTo>
                  <a:lnTo>
                    <a:pt x="224" y="1943"/>
                  </a:lnTo>
                  <a:lnTo>
                    <a:pt x="258" y="1971"/>
                  </a:lnTo>
                  <a:lnTo>
                    <a:pt x="239" y="2019"/>
                  </a:lnTo>
                  <a:lnTo>
                    <a:pt x="259" y="2035"/>
                  </a:lnTo>
                  <a:lnTo>
                    <a:pt x="245" y="2036"/>
                  </a:lnTo>
                  <a:lnTo>
                    <a:pt x="245" y="2055"/>
                  </a:lnTo>
                  <a:lnTo>
                    <a:pt x="248" y="2058"/>
                  </a:lnTo>
                  <a:lnTo>
                    <a:pt x="250" y="2094"/>
                  </a:lnTo>
                  <a:lnTo>
                    <a:pt x="256" y="2090"/>
                  </a:lnTo>
                  <a:lnTo>
                    <a:pt x="237" y="2118"/>
                  </a:lnTo>
                  <a:lnTo>
                    <a:pt x="232" y="2098"/>
                  </a:lnTo>
                  <a:lnTo>
                    <a:pt x="210" y="2097"/>
                  </a:lnTo>
                  <a:lnTo>
                    <a:pt x="212" y="2072"/>
                  </a:lnTo>
                  <a:lnTo>
                    <a:pt x="197" y="2074"/>
                  </a:lnTo>
                  <a:lnTo>
                    <a:pt x="180" y="2079"/>
                  </a:lnTo>
                  <a:lnTo>
                    <a:pt x="148" y="2137"/>
                  </a:lnTo>
                  <a:lnTo>
                    <a:pt x="159" y="2132"/>
                  </a:lnTo>
                  <a:lnTo>
                    <a:pt x="179" y="2121"/>
                  </a:lnTo>
                  <a:lnTo>
                    <a:pt x="215" y="2135"/>
                  </a:lnTo>
                  <a:lnTo>
                    <a:pt x="257" y="2168"/>
                  </a:lnTo>
                  <a:lnTo>
                    <a:pt x="239" y="2182"/>
                  </a:lnTo>
                  <a:lnTo>
                    <a:pt x="256" y="2194"/>
                  </a:lnTo>
                  <a:lnTo>
                    <a:pt x="229" y="2205"/>
                  </a:lnTo>
                  <a:lnTo>
                    <a:pt x="281" y="2202"/>
                  </a:lnTo>
                  <a:lnTo>
                    <a:pt x="285" y="2195"/>
                  </a:lnTo>
                  <a:lnTo>
                    <a:pt x="308" y="2223"/>
                  </a:lnTo>
                  <a:lnTo>
                    <a:pt x="308" y="2240"/>
                  </a:lnTo>
                  <a:lnTo>
                    <a:pt x="265" y="2231"/>
                  </a:lnTo>
                  <a:lnTo>
                    <a:pt x="249" y="2228"/>
                  </a:lnTo>
                  <a:lnTo>
                    <a:pt x="276" y="2272"/>
                  </a:lnTo>
                  <a:lnTo>
                    <a:pt x="303" y="2321"/>
                  </a:lnTo>
                  <a:lnTo>
                    <a:pt x="307" y="2347"/>
                  </a:lnTo>
                  <a:lnTo>
                    <a:pt x="319" y="2371"/>
                  </a:lnTo>
                  <a:lnTo>
                    <a:pt x="308" y="2380"/>
                  </a:lnTo>
                  <a:lnTo>
                    <a:pt x="338" y="2399"/>
                  </a:lnTo>
                  <a:lnTo>
                    <a:pt x="361" y="2428"/>
                  </a:lnTo>
                  <a:lnTo>
                    <a:pt x="358" y="2442"/>
                  </a:lnTo>
                  <a:lnTo>
                    <a:pt x="386" y="2459"/>
                  </a:lnTo>
                  <a:lnTo>
                    <a:pt x="401" y="2478"/>
                  </a:lnTo>
                  <a:lnTo>
                    <a:pt x="385" y="2472"/>
                  </a:lnTo>
                  <a:lnTo>
                    <a:pt x="416" y="2498"/>
                  </a:lnTo>
                  <a:lnTo>
                    <a:pt x="418" y="2517"/>
                  </a:lnTo>
                  <a:lnTo>
                    <a:pt x="443" y="2549"/>
                  </a:lnTo>
                  <a:lnTo>
                    <a:pt x="453" y="2562"/>
                  </a:lnTo>
                  <a:lnTo>
                    <a:pt x="482" y="2580"/>
                  </a:lnTo>
                  <a:lnTo>
                    <a:pt x="489" y="2589"/>
                  </a:lnTo>
                  <a:lnTo>
                    <a:pt x="480" y="2594"/>
                  </a:lnTo>
                  <a:lnTo>
                    <a:pt x="517" y="2604"/>
                  </a:lnTo>
                  <a:lnTo>
                    <a:pt x="600" y="2636"/>
                  </a:lnTo>
                  <a:lnTo>
                    <a:pt x="605" y="2550"/>
                  </a:lnTo>
                  <a:lnTo>
                    <a:pt x="651" y="2525"/>
                  </a:lnTo>
                  <a:lnTo>
                    <a:pt x="711" y="2532"/>
                  </a:lnTo>
                  <a:lnTo>
                    <a:pt x="614" y="2505"/>
                  </a:lnTo>
                  <a:lnTo>
                    <a:pt x="500" y="2494"/>
                  </a:lnTo>
                  <a:lnTo>
                    <a:pt x="467" y="2463"/>
                  </a:lnTo>
                  <a:lnTo>
                    <a:pt x="431" y="2408"/>
                  </a:lnTo>
                  <a:lnTo>
                    <a:pt x="397" y="2410"/>
                  </a:lnTo>
                  <a:lnTo>
                    <a:pt x="341" y="2316"/>
                  </a:lnTo>
                  <a:lnTo>
                    <a:pt x="377" y="2274"/>
                  </a:lnTo>
                  <a:lnTo>
                    <a:pt x="367" y="2175"/>
                  </a:lnTo>
                  <a:lnTo>
                    <a:pt x="355" y="2094"/>
                  </a:lnTo>
                  <a:lnTo>
                    <a:pt x="351" y="2038"/>
                  </a:lnTo>
                  <a:lnTo>
                    <a:pt x="335" y="2007"/>
                  </a:lnTo>
                  <a:lnTo>
                    <a:pt x="312" y="1992"/>
                  </a:lnTo>
                  <a:lnTo>
                    <a:pt x="351" y="1978"/>
                  </a:lnTo>
                  <a:lnTo>
                    <a:pt x="303" y="1950"/>
                  </a:lnTo>
                  <a:lnTo>
                    <a:pt x="276" y="1873"/>
                  </a:lnTo>
                  <a:lnTo>
                    <a:pt x="245" y="1832"/>
                  </a:lnTo>
                  <a:lnTo>
                    <a:pt x="243" y="1775"/>
                  </a:lnTo>
                  <a:lnTo>
                    <a:pt x="219" y="1677"/>
                  </a:lnTo>
                  <a:lnTo>
                    <a:pt x="212" y="1601"/>
                  </a:lnTo>
                  <a:lnTo>
                    <a:pt x="225" y="1555"/>
                  </a:lnTo>
                  <a:lnTo>
                    <a:pt x="217" y="1512"/>
                  </a:lnTo>
                  <a:lnTo>
                    <a:pt x="199" y="1450"/>
                  </a:lnTo>
                  <a:lnTo>
                    <a:pt x="181" y="1390"/>
                  </a:lnTo>
                  <a:lnTo>
                    <a:pt x="211" y="1341"/>
                  </a:lnTo>
                  <a:lnTo>
                    <a:pt x="197" y="1293"/>
                  </a:lnTo>
                  <a:lnTo>
                    <a:pt x="206" y="1199"/>
                  </a:lnTo>
                  <a:lnTo>
                    <a:pt x="191" y="1156"/>
                  </a:lnTo>
                  <a:lnTo>
                    <a:pt x="161" y="1097"/>
                  </a:lnTo>
                  <a:lnTo>
                    <a:pt x="131" y="1038"/>
                  </a:lnTo>
                  <a:lnTo>
                    <a:pt x="132" y="991"/>
                  </a:lnTo>
                  <a:lnTo>
                    <a:pt x="143" y="944"/>
                  </a:lnTo>
                  <a:lnTo>
                    <a:pt x="140" y="892"/>
                  </a:lnTo>
                  <a:lnTo>
                    <a:pt x="137" y="838"/>
                  </a:lnTo>
                  <a:lnTo>
                    <a:pt x="163" y="772"/>
                  </a:lnTo>
                  <a:lnTo>
                    <a:pt x="189" y="707"/>
                  </a:lnTo>
                  <a:lnTo>
                    <a:pt x="207" y="687"/>
                  </a:lnTo>
                  <a:lnTo>
                    <a:pt x="183" y="644"/>
                  </a:lnTo>
                  <a:lnTo>
                    <a:pt x="173" y="542"/>
                  </a:lnTo>
                  <a:lnTo>
                    <a:pt x="183" y="505"/>
                  </a:lnTo>
                  <a:lnTo>
                    <a:pt x="238" y="478"/>
                  </a:lnTo>
                  <a:lnTo>
                    <a:pt x="251" y="403"/>
                  </a:lnTo>
                  <a:lnTo>
                    <a:pt x="238" y="389"/>
                  </a:lnTo>
                  <a:lnTo>
                    <a:pt x="193" y="382"/>
                  </a:lnTo>
                  <a:lnTo>
                    <a:pt x="167" y="316"/>
                  </a:lnTo>
                  <a:lnTo>
                    <a:pt x="140" y="251"/>
                  </a:lnTo>
                  <a:lnTo>
                    <a:pt x="122" y="188"/>
                  </a:lnTo>
                  <a:lnTo>
                    <a:pt x="124" y="134"/>
                  </a:lnTo>
                  <a:lnTo>
                    <a:pt x="89" y="84"/>
                  </a:lnTo>
                  <a:lnTo>
                    <a:pt x="70" y="34"/>
                  </a:lnTo>
                  <a:lnTo>
                    <a:pt x="51" y="0"/>
                  </a:lnTo>
                  <a:lnTo>
                    <a:pt x="35" y="29"/>
                  </a:lnTo>
                  <a:lnTo>
                    <a:pt x="13" y="61"/>
                  </a:lnTo>
                  <a:lnTo>
                    <a:pt x="0" y="63"/>
                  </a:lnTo>
                  <a:lnTo>
                    <a:pt x="17" y="155"/>
                  </a:lnTo>
                  <a:lnTo>
                    <a:pt x="36" y="248"/>
                  </a:lnTo>
                  <a:lnTo>
                    <a:pt x="34" y="328"/>
                  </a:lnTo>
                  <a:lnTo>
                    <a:pt x="33" y="409"/>
                  </a:lnTo>
                  <a:lnTo>
                    <a:pt x="32" y="441"/>
                  </a:lnTo>
                  <a:lnTo>
                    <a:pt x="42" y="532"/>
                  </a:lnTo>
                  <a:lnTo>
                    <a:pt x="45" y="612"/>
                  </a:lnTo>
                  <a:lnTo>
                    <a:pt x="42" y="715"/>
                  </a:lnTo>
                  <a:lnTo>
                    <a:pt x="41" y="819"/>
                  </a:lnTo>
                  <a:lnTo>
                    <a:pt x="45" y="864"/>
                  </a:lnTo>
                  <a:lnTo>
                    <a:pt x="46" y="937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4"/>
            <p:cNvSpPr/>
            <p:nvPr/>
          </p:nvSpPr>
          <p:spPr>
            <a:xfrm>
              <a:off x="4815000" y="5754600"/>
              <a:ext cx="162000" cy="117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88" h="163">
                  <a:moveTo>
                    <a:pt x="123" y="7"/>
                  </a:moveTo>
                  <a:lnTo>
                    <a:pt x="155" y="85"/>
                  </a:lnTo>
                  <a:lnTo>
                    <a:pt x="188" y="163"/>
                  </a:lnTo>
                  <a:lnTo>
                    <a:pt x="167" y="158"/>
                  </a:lnTo>
                  <a:lnTo>
                    <a:pt x="141" y="162"/>
                  </a:lnTo>
                  <a:lnTo>
                    <a:pt x="74" y="154"/>
                  </a:lnTo>
                  <a:lnTo>
                    <a:pt x="54" y="150"/>
                  </a:lnTo>
                  <a:lnTo>
                    <a:pt x="0" y="145"/>
                  </a:lnTo>
                  <a:lnTo>
                    <a:pt x="14" y="139"/>
                  </a:lnTo>
                  <a:lnTo>
                    <a:pt x="46" y="127"/>
                  </a:lnTo>
                  <a:lnTo>
                    <a:pt x="65" y="139"/>
                  </a:lnTo>
                  <a:lnTo>
                    <a:pt x="84" y="139"/>
                  </a:lnTo>
                  <a:lnTo>
                    <a:pt x="51" y="121"/>
                  </a:lnTo>
                  <a:lnTo>
                    <a:pt x="91" y="129"/>
                  </a:lnTo>
                  <a:lnTo>
                    <a:pt x="110" y="131"/>
                  </a:lnTo>
                  <a:lnTo>
                    <a:pt x="142" y="140"/>
                  </a:lnTo>
                  <a:lnTo>
                    <a:pt x="150" y="141"/>
                  </a:lnTo>
                  <a:lnTo>
                    <a:pt x="78" y="97"/>
                  </a:lnTo>
                  <a:lnTo>
                    <a:pt x="107" y="65"/>
                  </a:lnTo>
                  <a:lnTo>
                    <a:pt x="60" y="65"/>
                  </a:lnTo>
                  <a:lnTo>
                    <a:pt x="40" y="12"/>
                  </a:lnTo>
                  <a:lnTo>
                    <a:pt x="65" y="0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bbe0e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5"/>
            <p:cNvSpPr/>
            <p:nvPr/>
          </p:nvSpPr>
          <p:spPr>
            <a:xfrm>
              <a:off x="4415040" y="5205240"/>
              <a:ext cx="39600" cy="7488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51" h="108">
                  <a:moveTo>
                    <a:pt x="19" y="0"/>
                  </a:moveTo>
                  <a:lnTo>
                    <a:pt x="0" y="10"/>
                  </a:lnTo>
                  <a:lnTo>
                    <a:pt x="24" y="108"/>
                  </a:lnTo>
                  <a:lnTo>
                    <a:pt x="47" y="99"/>
                  </a:lnTo>
                  <a:lnTo>
                    <a:pt x="51" y="83"/>
                  </a:lnTo>
                  <a:lnTo>
                    <a:pt x="38" y="35"/>
                  </a:lnTo>
                  <a:lnTo>
                    <a:pt x="47" y="3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6"/>
            <p:cNvSpPr/>
            <p:nvPr/>
          </p:nvSpPr>
          <p:spPr>
            <a:xfrm>
              <a:off x="4515120" y="5564160"/>
              <a:ext cx="41040" cy="63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7" h="90">
                  <a:moveTo>
                    <a:pt x="30" y="0"/>
                  </a:moveTo>
                  <a:lnTo>
                    <a:pt x="0" y="36"/>
                  </a:lnTo>
                  <a:lnTo>
                    <a:pt x="32" y="77"/>
                  </a:lnTo>
                  <a:lnTo>
                    <a:pt x="56" y="90"/>
                  </a:lnTo>
                  <a:lnTo>
                    <a:pt x="57" y="6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7"/>
            <p:cNvSpPr/>
            <p:nvPr/>
          </p:nvSpPr>
          <p:spPr>
            <a:xfrm>
              <a:off x="3673800" y="2916360"/>
              <a:ext cx="314280" cy="3380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66" h="471">
                  <a:moveTo>
                    <a:pt x="1" y="188"/>
                  </a:moveTo>
                  <a:lnTo>
                    <a:pt x="8" y="261"/>
                  </a:lnTo>
                  <a:lnTo>
                    <a:pt x="0" y="276"/>
                  </a:lnTo>
                  <a:lnTo>
                    <a:pt x="47" y="296"/>
                  </a:lnTo>
                  <a:lnTo>
                    <a:pt x="59" y="279"/>
                  </a:lnTo>
                  <a:lnTo>
                    <a:pt x="66" y="293"/>
                  </a:lnTo>
                  <a:lnTo>
                    <a:pt x="64" y="340"/>
                  </a:lnTo>
                  <a:lnTo>
                    <a:pt x="39" y="352"/>
                  </a:lnTo>
                  <a:lnTo>
                    <a:pt x="45" y="394"/>
                  </a:lnTo>
                  <a:lnTo>
                    <a:pt x="32" y="426"/>
                  </a:lnTo>
                  <a:lnTo>
                    <a:pt x="54" y="419"/>
                  </a:lnTo>
                  <a:lnTo>
                    <a:pt x="123" y="471"/>
                  </a:lnTo>
                  <a:lnTo>
                    <a:pt x="143" y="444"/>
                  </a:lnTo>
                  <a:lnTo>
                    <a:pt x="150" y="412"/>
                  </a:lnTo>
                  <a:lnTo>
                    <a:pt x="166" y="387"/>
                  </a:lnTo>
                  <a:lnTo>
                    <a:pt x="175" y="343"/>
                  </a:lnTo>
                  <a:lnTo>
                    <a:pt x="183" y="343"/>
                  </a:lnTo>
                  <a:lnTo>
                    <a:pt x="183" y="356"/>
                  </a:lnTo>
                  <a:lnTo>
                    <a:pt x="195" y="354"/>
                  </a:lnTo>
                  <a:lnTo>
                    <a:pt x="189" y="341"/>
                  </a:lnTo>
                  <a:lnTo>
                    <a:pt x="204" y="324"/>
                  </a:lnTo>
                  <a:lnTo>
                    <a:pt x="245" y="308"/>
                  </a:lnTo>
                  <a:lnTo>
                    <a:pt x="313" y="261"/>
                  </a:lnTo>
                  <a:lnTo>
                    <a:pt x="353" y="176"/>
                  </a:lnTo>
                  <a:lnTo>
                    <a:pt x="366" y="177"/>
                  </a:lnTo>
                  <a:lnTo>
                    <a:pt x="342" y="119"/>
                  </a:lnTo>
                  <a:lnTo>
                    <a:pt x="361" y="113"/>
                  </a:lnTo>
                  <a:lnTo>
                    <a:pt x="289" y="76"/>
                  </a:lnTo>
                  <a:lnTo>
                    <a:pt x="226" y="78"/>
                  </a:lnTo>
                  <a:lnTo>
                    <a:pt x="187" y="40"/>
                  </a:lnTo>
                  <a:lnTo>
                    <a:pt x="135" y="0"/>
                  </a:lnTo>
                  <a:lnTo>
                    <a:pt x="110" y="27"/>
                  </a:lnTo>
                  <a:lnTo>
                    <a:pt x="52" y="57"/>
                  </a:lnTo>
                  <a:lnTo>
                    <a:pt x="36" y="118"/>
                  </a:lnTo>
                  <a:lnTo>
                    <a:pt x="32" y="151"/>
                  </a:lnTo>
                  <a:lnTo>
                    <a:pt x="1" y="188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8"/>
            <p:cNvSpPr/>
            <p:nvPr/>
          </p:nvSpPr>
          <p:spPr>
            <a:xfrm>
              <a:off x="3079800" y="29973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65">
                  <a:moveTo>
                    <a:pt x="0" y="0"/>
                  </a:moveTo>
                  <a:lnTo>
                    <a:pt x="21" y="39"/>
                  </a:lnTo>
                  <a:lnTo>
                    <a:pt x="0" y="62"/>
                  </a:lnTo>
                  <a:lnTo>
                    <a:pt x="40" y="6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9"/>
            <p:cNvSpPr/>
            <p:nvPr/>
          </p:nvSpPr>
          <p:spPr>
            <a:xfrm>
              <a:off x="3716640" y="3132000"/>
              <a:ext cx="6120" cy="17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" h="14">
                  <a:moveTo>
                    <a:pt x="17" y="2"/>
                  </a:moveTo>
                  <a:lnTo>
                    <a:pt x="5" y="14"/>
                  </a:lnTo>
                  <a:lnTo>
                    <a:pt x="0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0"/>
            <p:cNvSpPr/>
            <p:nvPr/>
          </p:nvSpPr>
          <p:spPr>
            <a:xfrm>
              <a:off x="3135600" y="302436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2" h="6">
                  <a:moveTo>
                    <a:pt x="22" y="5"/>
                  </a:moveTo>
                  <a:lnTo>
                    <a:pt x="20" y="6"/>
                  </a:lnTo>
                  <a:lnTo>
                    <a:pt x="0" y="0"/>
                  </a:lnTo>
                  <a:lnTo>
                    <a:pt x="22" y="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1"/>
            <p:cNvSpPr/>
            <p:nvPr/>
          </p:nvSpPr>
          <p:spPr>
            <a:xfrm>
              <a:off x="3652920" y="2997360"/>
              <a:ext cx="733680" cy="96804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968040"/>
                <a:gd name="textAreaBottom" fmla="*/ 968040 h 968040"/>
              </a:gdLst>
              <a:ahLst/>
              <a:rect l="textAreaLeft" t="textAreaTop" r="textAreaRight" b="textAreaBottom"/>
              <a:pathLst>
                <a:path w="849" h="1341">
                  <a:moveTo>
                    <a:pt x="832" y="1020"/>
                  </a:moveTo>
                  <a:lnTo>
                    <a:pt x="822" y="1058"/>
                  </a:lnTo>
                  <a:lnTo>
                    <a:pt x="819" y="1120"/>
                  </a:lnTo>
                  <a:lnTo>
                    <a:pt x="828" y="1181"/>
                  </a:lnTo>
                  <a:lnTo>
                    <a:pt x="849" y="1188"/>
                  </a:lnTo>
                  <a:lnTo>
                    <a:pt x="820" y="1249"/>
                  </a:lnTo>
                  <a:lnTo>
                    <a:pt x="819" y="1278"/>
                  </a:lnTo>
                  <a:lnTo>
                    <a:pt x="803" y="1307"/>
                  </a:lnTo>
                  <a:lnTo>
                    <a:pt x="781" y="1339"/>
                  </a:lnTo>
                  <a:lnTo>
                    <a:pt x="768" y="1341"/>
                  </a:lnTo>
                  <a:lnTo>
                    <a:pt x="725" y="1306"/>
                  </a:lnTo>
                  <a:lnTo>
                    <a:pt x="698" y="1271"/>
                  </a:lnTo>
                  <a:lnTo>
                    <a:pt x="642" y="1239"/>
                  </a:lnTo>
                  <a:lnTo>
                    <a:pt x="587" y="1207"/>
                  </a:lnTo>
                  <a:lnTo>
                    <a:pt x="532" y="1175"/>
                  </a:lnTo>
                  <a:lnTo>
                    <a:pt x="476" y="1143"/>
                  </a:lnTo>
                  <a:lnTo>
                    <a:pt x="419" y="1088"/>
                  </a:lnTo>
                  <a:lnTo>
                    <a:pt x="364" y="1033"/>
                  </a:lnTo>
                  <a:lnTo>
                    <a:pt x="366" y="996"/>
                  </a:lnTo>
                  <a:lnTo>
                    <a:pt x="323" y="915"/>
                  </a:lnTo>
                  <a:lnTo>
                    <a:pt x="279" y="835"/>
                  </a:lnTo>
                  <a:lnTo>
                    <a:pt x="249" y="784"/>
                  </a:lnTo>
                  <a:lnTo>
                    <a:pt x="218" y="735"/>
                  </a:lnTo>
                  <a:lnTo>
                    <a:pt x="191" y="680"/>
                  </a:lnTo>
                  <a:lnTo>
                    <a:pt x="165" y="627"/>
                  </a:lnTo>
                  <a:lnTo>
                    <a:pt x="138" y="572"/>
                  </a:lnTo>
                  <a:lnTo>
                    <a:pt x="110" y="519"/>
                  </a:lnTo>
                  <a:lnTo>
                    <a:pt x="64" y="482"/>
                  </a:lnTo>
                  <a:lnTo>
                    <a:pt x="18" y="445"/>
                  </a:lnTo>
                  <a:lnTo>
                    <a:pt x="25" y="427"/>
                  </a:lnTo>
                  <a:lnTo>
                    <a:pt x="0" y="330"/>
                  </a:lnTo>
                  <a:lnTo>
                    <a:pt x="31" y="287"/>
                  </a:lnTo>
                  <a:lnTo>
                    <a:pt x="61" y="244"/>
                  </a:lnTo>
                  <a:lnTo>
                    <a:pt x="67" y="286"/>
                  </a:lnTo>
                  <a:lnTo>
                    <a:pt x="54" y="318"/>
                  </a:lnTo>
                  <a:lnTo>
                    <a:pt x="76" y="311"/>
                  </a:lnTo>
                  <a:lnTo>
                    <a:pt x="145" y="363"/>
                  </a:lnTo>
                  <a:lnTo>
                    <a:pt x="165" y="336"/>
                  </a:lnTo>
                  <a:lnTo>
                    <a:pt x="172" y="304"/>
                  </a:lnTo>
                  <a:lnTo>
                    <a:pt x="188" y="279"/>
                  </a:lnTo>
                  <a:lnTo>
                    <a:pt x="197" y="235"/>
                  </a:lnTo>
                  <a:lnTo>
                    <a:pt x="205" y="235"/>
                  </a:lnTo>
                  <a:lnTo>
                    <a:pt x="205" y="248"/>
                  </a:lnTo>
                  <a:lnTo>
                    <a:pt x="217" y="246"/>
                  </a:lnTo>
                  <a:lnTo>
                    <a:pt x="211" y="233"/>
                  </a:lnTo>
                  <a:lnTo>
                    <a:pt x="226" y="216"/>
                  </a:lnTo>
                  <a:lnTo>
                    <a:pt x="267" y="200"/>
                  </a:lnTo>
                  <a:lnTo>
                    <a:pt x="335" y="153"/>
                  </a:lnTo>
                  <a:lnTo>
                    <a:pt x="375" y="68"/>
                  </a:lnTo>
                  <a:lnTo>
                    <a:pt x="388" y="69"/>
                  </a:lnTo>
                  <a:lnTo>
                    <a:pt x="364" y="11"/>
                  </a:lnTo>
                  <a:lnTo>
                    <a:pt x="383" y="5"/>
                  </a:lnTo>
                  <a:lnTo>
                    <a:pt x="387" y="0"/>
                  </a:lnTo>
                  <a:lnTo>
                    <a:pt x="424" y="36"/>
                  </a:lnTo>
                  <a:lnTo>
                    <a:pt x="460" y="73"/>
                  </a:lnTo>
                  <a:lnTo>
                    <a:pt x="510" y="130"/>
                  </a:lnTo>
                  <a:lnTo>
                    <a:pt x="522" y="163"/>
                  </a:lnTo>
                  <a:lnTo>
                    <a:pt x="603" y="164"/>
                  </a:lnTo>
                  <a:lnTo>
                    <a:pt x="651" y="168"/>
                  </a:lnTo>
                  <a:lnTo>
                    <a:pt x="717" y="189"/>
                  </a:lnTo>
                  <a:lnTo>
                    <a:pt x="692" y="278"/>
                  </a:lnTo>
                  <a:lnTo>
                    <a:pt x="733" y="306"/>
                  </a:lnTo>
                  <a:lnTo>
                    <a:pt x="711" y="304"/>
                  </a:lnTo>
                  <a:lnTo>
                    <a:pt x="656" y="318"/>
                  </a:lnTo>
                  <a:lnTo>
                    <a:pt x="604" y="343"/>
                  </a:lnTo>
                  <a:lnTo>
                    <a:pt x="553" y="367"/>
                  </a:lnTo>
                  <a:lnTo>
                    <a:pt x="536" y="423"/>
                  </a:lnTo>
                  <a:lnTo>
                    <a:pt x="520" y="480"/>
                  </a:lnTo>
                  <a:lnTo>
                    <a:pt x="486" y="538"/>
                  </a:lnTo>
                  <a:lnTo>
                    <a:pt x="515" y="593"/>
                  </a:lnTo>
                  <a:lnTo>
                    <a:pt x="545" y="649"/>
                  </a:lnTo>
                  <a:lnTo>
                    <a:pt x="541" y="680"/>
                  </a:lnTo>
                  <a:lnTo>
                    <a:pt x="567" y="687"/>
                  </a:lnTo>
                  <a:lnTo>
                    <a:pt x="605" y="717"/>
                  </a:lnTo>
                  <a:lnTo>
                    <a:pt x="657" y="730"/>
                  </a:lnTo>
                  <a:lnTo>
                    <a:pt x="701" y="694"/>
                  </a:lnTo>
                  <a:lnTo>
                    <a:pt x="705" y="749"/>
                  </a:lnTo>
                  <a:lnTo>
                    <a:pt x="709" y="803"/>
                  </a:lnTo>
                  <a:lnTo>
                    <a:pt x="778" y="799"/>
                  </a:lnTo>
                  <a:lnTo>
                    <a:pt x="810" y="856"/>
                  </a:lnTo>
                  <a:lnTo>
                    <a:pt x="844" y="912"/>
                  </a:lnTo>
                  <a:lnTo>
                    <a:pt x="833" y="929"/>
                  </a:lnTo>
                  <a:lnTo>
                    <a:pt x="832" y="102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22"/>
            <p:cNvSpPr/>
            <p:nvPr/>
          </p:nvSpPr>
          <p:spPr>
            <a:xfrm>
              <a:off x="5340600" y="3000240"/>
              <a:ext cx="135000" cy="889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4" h="127">
                  <a:moveTo>
                    <a:pt x="80" y="115"/>
                  </a:moveTo>
                  <a:lnTo>
                    <a:pt x="68" y="122"/>
                  </a:lnTo>
                  <a:lnTo>
                    <a:pt x="33" y="107"/>
                  </a:lnTo>
                  <a:lnTo>
                    <a:pt x="22" y="127"/>
                  </a:lnTo>
                  <a:lnTo>
                    <a:pt x="0" y="72"/>
                  </a:lnTo>
                  <a:lnTo>
                    <a:pt x="10" y="70"/>
                  </a:lnTo>
                  <a:lnTo>
                    <a:pt x="5" y="40"/>
                  </a:lnTo>
                  <a:lnTo>
                    <a:pt x="25" y="0"/>
                  </a:lnTo>
                  <a:lnTo>
                    <a:pt x="90" y="10"/>
                  </a:lnTo>
                  <a:lnTo>
                    <a:pt x="154" y="19"/>
                  </a:lnTo>
                  <a:lnTo>
                    <a:pt x="124" y="81"/>
                  </a:lnTo>
                  <a:lnTo>
                    <a:pt x="119" y="88"/>
                  </a:lnTo>
                  <a:lnTo>
                    <a:pt x="112" y="104"/>
                  </a:lnTo>
                  <a:lnTo>
                    <a:pt x="101" y="104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Freeform 59"/>
          <p:cNvSpPr/>
          <p:nvPr/>
        </p:nvSpPr>
        <p:spPr>
          <a:xfrm rot="21279600">
            <a:off x="5608440" y="3427200"/>
            <a:ext cx="618840" cy="210960"/>
          </a:xfrm>
          <a:custGeom>
            <a:avLst/>
            <a:gdLst/>
            <a:ahLst/>
            <a:rect l="l" t="t" r="r" b="b"/>
            <a:pathLst>
              <a:path w="392" h="116">
                <a:moveTo>
                  <a:pt x="392" y="28"/>
                </a:moveTo>
                <a:cubicBezTo>
                  <a:pt x="326" y="6"/>
                  <a:pt x="288" y="21"/>
                  <a:pt x="216" y="28"/>
                </a:cubicBezTo>
                <a:cubicBezTo>
                  <a:pt x="167" y="22"/>
                  <a:pt x="121" y="12"/>
                  <a:pt x="72" y="4"/>
                </a:cubicBezTo>
                <a:cubicBezTo>
                  <a:pt x="53" y="7"/>
                  <a:pt x="31" y="0"/>
                  <a:pt x="16" y="12"/>
                </a:cubicBezTo>
                <a:cubicBezTo>
                  <a:pt x="3" y="22"/>
                  <a:pt x="0" y="60"/>
                  <a:pt x="0" y="60"/>
                </a:cubicBezTo>
                <a:cubicBezTo>
                  <a:pt x="9" y="86"/>
                  <a:pt x="63" y="58"/>
                  <a:pt x="72" y="84"/>
                </a:cubicBezTo>
                <a:cubicBezTo>
                  <a:pt x="141" y="74"/>
                  <a:pt x="117" y="108"/>
                  <a:pt x="192" y="100"/>
                </a:cubicBezTo>
                <a:cubicBezTo>
                  <a:pt x="225" y="92"/>
                  <a:pt x="254" y="90"/>
                  <a:pt x="280" y="116"/>
                </a:cubicBez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0"/>
          <p:cNvSpPr/>
          <p:nvPr/>
        </p:nvSpPr>
        <p:spPr>
          <a:xfrm>
            <a:off x="6300720" y="3187800"/>
            <a:ext cx="1511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4c99"/>
                </a:solidFill>
                <a:latin typeface="Humanst521 BT"/>
              </a:rPr>
              <a:t>Recife. Bras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61"/>
          <p:cNvSpPr/>
          <p:nvPr/>
        </p:nvSpPr>
        <p:spPr>
          <a:xfrm flipV="1">
            <a:off x="6156360" y="3427200"/>
            <a:ext cx="504720" cy="10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62"/>
          <p:cNvSpPr/>
          <p:nvPr/>
        </p:nvSpPr>
        <p:spPr>
          <a:xfrm>
            <a:off x="3924360" y="2708280"/>
            <a:ext cx="146160" cy="138240"/>
          </a:xfrm>
          <a:custGeom>
            <a:avLst/>
            <a:gdLst/>
            <a:ahLst/>
            <a:rect l="l" t="t" r="r" b="b"/>
            <a:pathLst>
              <a:path w="83" h="79">
                <a:moveTo>
                  <a:pt x="4" y="1"/>
                </a:moveTo>
                <a:cubicBezTo>
                  <a:pt x="12" y="31"/>
                  <a:pt x="0" y="0"/>
                  <a:pt x="16" y="16"/>
                </a:cubicBezTo>
                <a:cubicBezTo>
                  <a:pt x="18" y="18"/>
                  <a:pt x="17" y="23"/>
                  <a:pt x="19" y="25"/>
                </a:cubicBezTo>
                <a:cubicBezTo>
                  <a:pt x="25" y="30"/>
                  <a:pt x="33" y="29"/>
                  <a:pt x="40" y="31"/>
                </a:cubicBezTo>
                <a:cubicBezTo>
                  <a:pt x="47" y="30"/>
                  <a:pt x="54" y="30"/>
                  <a:pt x="61" y="28"/>
                </a:cubicBezTo>
                <a:cubicBezTo>
                  <a:pt x="67" y="27"/>
                  <a:pt x="79" y="22"/>
                  <a:pt x="79" y="22"/>
                </a:cubicBezTo>
                <a:cubicBezTo>
                  <a:pt x="83" y="48"/>
                  <a:pt x="76" y="53"/>
                  <a:pt x="52" y="61"/>
                </a:cubicBezTo>
                <a:cubicBezTo>
                  <a:pt x="40" y="79"/>
                  <a:pt x="31" y="72"/>
                  <a:pt x="7" y="70"/>
                </a:cubicBezTo>
                <a:cubicBezTo>
                  <a:pt x="2" y="54"/>
                  <a:pt x="7" y="39"/>
                  <a:pt x="7" y="22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3"/>
          <p:cNvSpPr/>
          <p:nvPr/>
        </p:nvSpPr>
        <p:spPr>
          <a:xfrm>
            <a:off x="1835280" y="2708280"/>
            <a:ext cx="180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4c99"/>
                </a:solidFill>
                <a:latin typeface="Humanst521 BT"/>
              </a:rPr>
              <a:t>Bogotá DC. Colomb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64"/>
          <p:cNvSpPr/>
          <p:nvPr/>
        </p:nvSpPr>
        <p:spPr>
          <a:xfrm flipV="1">
            <a:off x="3564000" y="277920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26280" bIns="2628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5"/>
          <p:cNvSpPr/>
          <p:nvPr/>
        </p:nvSpPr>
        <p:spPr>
          <a:xfrm>
            <a:off x="6299280" y="3585960"/>
            <a:ext cx="1728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4c99"/>
                </a:solidFill>
                <a:latin typeface="Humanst521 BT"/>
              </a:rPr>
              <a:t>Caruarú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6"/>
          <p:cNvSpPr/>
          <p:nvPr/>
        </p:nvSpPr>
        <p:spPr>
          <a:xfrm flipH="1" flipV="1">
            <a:off x="5940000" y="357156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7"/>
          <p:cNvSpPr/>
          <p:nvPr/>
        </p:nvSpPr>
        <p:spPr>
          <a:xfrm>
            <a:off x="2987640" y="1626840"/>
            <a:ext cx="180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4c99"/>
                </a:solidFill>
                <a:latin typeface="Humanst521 BT"/>
              </a:rPr>
              <a:t>Veracru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8"/>
          <p:cNvSpPr/>
          <p:nvPr/>
        </p:nvSpPr>
        <p:spPr>
          <a:xfrm>
            <a:off x="2987640" y="1411200"/>
            <a:ext cx="180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4c99"/>
                </a:solidFill>
                <a:latin typeface="Humanst521 BT"/>
              </a:rPr>
              <a:t>Xalapa. Méx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9"/>
          <p:cNvSpPr/>
          <p:nvPr/>
        </p:nvSpPr>
        <p:spPr>
          <a:xfrm flipH="1">
            <a:off x="2843280" y="1771560"/>
            <a:ext cx="217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26280" bIns="2628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70"/>
          <p:cNvSpPr/>
          <p:nvPr/>
        </p:nvSpPr>
        <p:spPr>
          <a:xfrm flipH="1">
            <a:off x="2771280" y="155592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71"/>
          <p:cNvSpPr/>
          <p:nvPr/>
        </p:nvSpPr>
        <p:spPr>
          <a:xfrm flipH="1">
            <a:off x="392436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2"/>
          <p:cNvSpPr/>
          <p:nvPr/>
        </p:nvSpPr>
        <p:spPr>
          <a:xfrm>
            <a:off x="2554200" y="4594320"/>
            <a:ext cx="129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4c99"/>
                </a:solidFill>
                <a:latin typeface="Humanst521 BT"/>
              </a:rPr>
              <a:t>Santiago. Ch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73"/>
          <p:cNvSpPr/>
          <p:nvPr/>
        </p:nvSpPr>
        <p:spPr>
          <a:xfrm>
            <a:off x="4932360" y="4724280"/>
            <a:ext cx="792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4"/>
          <p:cNvSpPr/>
          <p:nvPr/>
        </p:nvSpPr>
        <p:spPr>
          <a:xfrm>
            <a:off x="5724360" y="4529880"/>
            <a:ext cx="1584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4c99"/>
                </a:solidFill>
                <a:latin typeface="Humanst521 BT"/>
              </a:rPr>
              <a:t>Rosario, Santa Fe. Argent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5"/>
          <p:cNvSpPr/>
          <p:nvPr/>
        </p:nvSpPr>
        <p:spPr>
          <a:xfrm>
            <a:off x="5219640" y="479592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6"/>
          <p:cNvSpPr/>
          <p:nvPr/>
        </p:nvSpPr>
        <p:spPr>
          <a:xfrm>
            <a:off x="5796000" y="5365800"/>
            <a:ext cx="129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4c99"/>
                </a:solidFill>
                <a:latin typeface="Humanst521 BT"/>
              </a:rPr>
              <a:t>Región Oe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4c99"/>
                </a:solidFill>
                <a:latin typeface="Humanst521 BT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77"/>
          <p:cNvSpPr/>
          <p:nvPr/>
        </p:nvSpPr>
        <p:spPr>
          <a:xfrm>
            <a:off x="2700360" y="1771560"/>
            <a:ext cx="73080" cy="7308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8"/>
          <p:cNvSpPr/>
          <p:nvPr/>
        </p:nvSpPr>
        <p:spPr>
          <a:xfrm>
            <a:off x="2843280" y="1771560"/>
            <a:ext cx="73080" cy="7308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79"/>
          <p:cNvSpPr/>
          <p:nvPr/>
        </p:nvSpPr>
        <p:spPr>
          <a:xfrm>
            <a:off x="4400640" y="4675320"/>
            <a:ext cx="73080" cy="727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80"/>
          <p:cNvSpPr/>
          <p:nvPr/>
        </p:nvSpPr>
        <p:spPr>
          <a:xfrm>
            <a:off x="4892760" y="4673520"/>
            <a:ext cx="73080" cy="7308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81"/>
          <p:cNvSpPr/>
          <p:nvPr/>
        </p:nvSpPr>
        <p:spPr>
          <a:xfrm>
            <a:off x="5218200" y="4751280"/>
            <a:ext cx="73080" cy="7308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SS de intervención y control (por paí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iterios de selección gener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es públicas que proporcionan continuo asistencial (mínimo: primer nivel de atención y atención especial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visión de servicios a una población defin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tación de servicios principalmente a población de renta baja o mediaba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oluntad de participar e implementar las intervenciones diseñ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derazgo con competencia para implementar las estrategias diseñ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étodos: Selección de RSS por paí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ca-ES" sz="3100" spc="-1" strike="noStrike">
                <a:solidFill>
                  <a:srgbClr val="ffffff"/>
                </a:solidFill>
                <a:latin typeface="Arial"/>
              </a:rPr>
              <a:t>. Retos para los sistemas públicos de salu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rantizar el acceso universal y equitativo a la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rantizar la financiación equitativa y 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r el modelo de atención a implementar (basado en AP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lejidad creciente de la atención en la que normalmente intervienen diversos niveles y servicios asist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lar por la equidad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484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terios de selec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-26856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tologías crónicas con prevalencia elevada en la reg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-26856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querir la intervención de diferentes niveles asistenciales (primer nivel y atención especializa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-26856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ortancia de la integración de la atención para mejorar los resultados en salu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tologías seleccionad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-26856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abetes mellitus tipo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-268560">
              <a:spcBef>
                <a:spcPts val="499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P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4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323640" y="43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étodos. Selección patología trazador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4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étodos. Diseño del estudio nacional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70044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udio cuasi-experimental: estudio de intervención con un diseño antes –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un enfoque de investigación-acción participativa (IAP) y multidiscipl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70044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858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binación de métodos de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228600">
              <a:spcBef>
                <a:spcPts val="499"/>
              </a:spcBef>
              <a:buClr>
                <a:srgbClr val="c7004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litativo: entrevistas, grupos f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-228600">
              <a:spcBef>
                <a:spcPts val="499"/>
              </a:spcBef>
              <a:buClr>
                <a:srgbClr val="c7004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titativos: enc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3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étodos: Proceso de la investig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916360" y="1655280"/>
            <a:ext cx="295092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arco teórico  e instru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3363840" y="205884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arco de análisis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lan de investig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4"/>
          <p:cNvSpPr/>
          <p:nvPr/>
        </p:nvSpPr>
        <p:spPr>
          <a:xfrm>
            <a:off x="3059280" y="6096960"/>
            <a:ext cx="287316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nálisis comparativo trasnac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5"/>
          <p:cNvSpPr/>
          <p:nvPr/>
        </p:nvSpPr>
        <p:spPr>
          <a:xfrm>
            <a:off x="2554200" y="5846760"/>
            <a:ext cx="19447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6075360" y="16286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6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9"/>
          <p:cNvSpPr/>
          <p:nvPr/>
        </p:nvSpPr>
        <p:spPr>
          <a:xfrm>
            <a:off x="6025680" y="29242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24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0"/>
          <p:cNvSpPr/>
          <p:nvPr/>
        </p:nvSpPr>
        <p:spPr>
          <a:xfrm>
            <a:off x="6012000" y="60040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12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3098880" y="4111920"/>
            <a:ext cx="1295280" cy="59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iseño e implementación interv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5114880" y="112860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arco de análisis e instrumentos Equity-L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9"/>
          <p:cNvSpPr/>
          <p:nvPr/>
        </p:nvSpPr>
        <p:spPr>
          <a:xfrm>
            <a:off x="6025680" y="42210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21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9"/>
          <p:cNvSpPr/>
          <p:nvPr/>
        </p:nvSpPr>
        <p:spPr>
          <a:xfrm>
            <a:off x="6015960" y="49402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15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AutoShape 14"/>
          <p:cNvCxnSpPr>
            <a:stCxn id="479" idx="1"/>
            <a:endCxn id="471" idx="0"/>
          </p:cNvCxnSpPr>
          <p:nvPr/>
        </p:nvCxnSpPr>
        <p:spPr>
          <a:xfrm flipV="1" rot="10800000">
            <a:off x="4392720" y="1342080"/>
            <a:ext cx="722520" cy="30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Rectangle 3"/>
          <p:cNvSpPr/>
          <p:nvPr/>
        </p:nvSpPr>
        <p:spPr>
          <a:xfrm>
            <a:off x="8034840" y="1844640"/>
            <a:ext cx="34776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apacity building y diseminación de result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16"/>
          <p:cNvGrpSpPr/>
          <p:nvPr/>
        </p:nvGrpSpPr>
        <p:grpSpPr>
          <a:xfrm>
            <a:off x="2987640" y="2702520"/>
            <a:ext cx="2879640" cy="3245760"/>
            <a:chOff x="2987640" y="2702520"/>
            <a:chExt cx="2879640" cy="3245760"/>
          </a:xfrm>
        </p:grpSpPr>
        <p:sp>
          <p:nvSpPr>
            <p:cNvPr id="485" name="Rectangle 17"/>
            <p:cNvSpPr/>
            <p:nvPr/>
          </p:nvSpPr>
          <p:spPr>
            <a:xfrm>
              <a:off x="2987640" y="2714400"/>
              <a:ext cx="1440000" cy="3233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8"/>
            <p:cNvSpPr/>
            <p:nvPr/>
          </p:nvSpPr>
          <p:spPr>
            <a:xfrm>
              <a:off x="3276720" y="2702520"/>
              <a:ext cx="934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b">
              <a:spAutoFit/>
            </a:bodyPr>
            <a:p>
              <a:pPr marL="450720" indent="-450720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Interven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9"/>
            <p:cNvSpPr/>
            <p:nvPr/>
          </p:nvSpPr>
          <p:spPr>
            <a:xfrm>
              <a:off x="4427640" y="2716200"/>
              <a:ext cx="1439640" cy="3232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0"/>
            <p:cNvSpPr/>
            <p:nvPr/>
          </p:nvSpPr>
          <p:spPr>
            <a:xfrm>
              <a:off x="4716360" y="2702520"/>
              <a:ext cx="93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b">
              <a:spAutoFit/>
            </a:bodyPr>
            <a:p>
              <a:pPr marL="450720" indent="-450720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Rectangle 5"/>
          <p:cNvSpPr/>
          <p:nvPr/>
        </p:nvSpPr>
        <p:spPr>
          <a:xfrm>
            <a:off x="3416400" y="3301560"/>
            <a:ext cx="18000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cualita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3416400" y="3648960"/>
            <a:ext cx="18000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cuantita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3130560" y="2941200"/>
            <a:ext cx="25210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de línea de 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3419640" y="5263560"/>
            <a:ext cx="18000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cualita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419640" y="5611320"/>
            <a:ext cx="18000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cuantita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3130560" y="4944600"/>
            <a:ext cx="25210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valuación de las interv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7"/>
          <p:cNvSpPr/>
          <p:nvPr/>
        </p:nvSpPr>
        <p:spPr>
          <a:xfrm>
            <a:off x="442764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8"/>
          <p:cNvSpPr/>
          <p:nvPr/>
        </p:nvSpPr>
        <p:spPr>
          <a:xfrm>
            <a:off x="4427640" y="19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29"/>
          <p:cNvGrpSpPr/>
          <p:nvPr/>
        </p:nvGrpSpPr>
        <p:grpSpPr>
          <a:xfrm>
            <a:off x="6227640" y="3211560"/>
            <a:ext cx="1439640" cy="1081080"/>
            <a:chOff x="6227640" y="3211560"/>
            <a:chExt cx="1439640" cy="1081080"/>
          </a:xfrm>
        </p:grpSpPr>
        <p:sp>
          <p:nvSpPr>
            <p:cNvPr id="498" name="Oval 30"/>
            <p:cNvSpPr/>
            <p:nvPr/>
          </p:nvSpPr>
          <p:spPr>
            <a:xfrm>
              <a:off x="6298920" y="3211560"/>
              <a:ext cx="1368360" cy="10810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"/>
            <p:cNvSpPr/>
            <p:nvPr/>
          </p:nvSpPr>
          <p:spPr>
            <a:xfrm>
              <a:off x="6227640" y="351540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mité conductor lo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28280" y="6178320"/>
            <a:ext cx="564372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vención-control: antes-despu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233000"/>
            <a:ext cx="3959280" cy="8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studio cuali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trevistas individuales;  grupos fo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577440" y="2708280"/>
            <a:ext cx="38689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ordin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onal sanitario de diferentes niveles de aten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r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tin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700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uario/as y cuidadores con enfermedades trazadoras y/o cró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6520" y="1236600"/>
            <a:ext cx="4014720" cy="479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Estudio cuanti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c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ordin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édico/as de diferentes niveles de atención trabajando en las redes de estudio en los últimos 3 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tin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uario/as con enfermedades crónicas, que hubieran utilizado más de un nivel (6 me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6713640" y="4041720"/>
            <a:ext cx="1728720" cy="42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348 médicos por paí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(174 por 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2"/>
          <p:cNvSpPr/>
          <p:nvPr/>
        </p:nvSpPr>
        <p:spPr>
          <a:xfrm>
            <a:off x="6654960" y="5848920"/>
            <a:ext cx="1873080" cy="42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784 usuario/as por paí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(392 por 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50920" y="115920"/>
            <a:ext cx="88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Métodos. Línea de base/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Trabajo de campo: encuest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Imagen 5" descr=""/>
          <p:cNvPicPr/>
          <p:nvPr/>
        </p:nvPicPr>
        <p:blipFill>
          <a:blip r:embed="rId1"/>
          <a:stretch/>
        </p:blipFill>
        <p:spPr>
          <a:xfrm>
            <a:off x="1262160" y="958680"/>
            <a:ext cx="2979720" cy="1800360"/>
          </a:xfrm>
          <a:prstGeom prst="rect">
            <a:avLst/>
          </a:prstGeom>
          <a:ln w="0">
            <a:noFill/>
          </a:ln>
        </p:spPr>
      </p:pic>
      <p:pic>
        <p:nvPicPr>
          <p:cNvPr id="509" name="Imagen 6" descr=""/>
          <p:cNvPicPr/>
          <p:nvPr/>
        </p:nvPicPr>
        <p:blipFill>
          <a:blip r:embed="rId2"/>
          <a:stretch/>
        </p:blipFill>
        <p:spPr>
          <a:xfrm>
            <a:off x="1262160" y="2884320"/>
            <a:ext cx="2979720" cy="2094120"/>
          </a:xfrm>
          <a:prstGeom prst="rect">
            <a:avLst/>
          </a:prstGeom>
          <a:ln w="0">
            <a:noFill/>
          </a:ln>
        </p:spPr>
      </p:pic>
      <p:pic>
        <p:nvPicPr>
          <p:cNvPr id="510" name="Imagen 7" descr=""/>
          <p:cNvPicPr/>
          <p:nvPr/>
        </p:nvPicPr>
        <p:blipFill>
          <a:blip r:embed="rId3"/>
          <a:stretch/>
        </p:blipFill>
        <p:spPr>
          <a:xfrm>
            <a:off x="4643280" y="2981160"/>
            <a:ext cx="3168720" cy="2032200"/>
          </a:xfrm>
          <a:prstGeom prst="rect">
            <a:avLst/>
          </a:prstGeom>
          <a:ln w="0">
            <a:noFill/>
          </a:ln>
        </p:spPr>
      </p:pic>
      <p:pic>
        <p:nvPicPr>
          <p:cNvPr id="511" name="Imagen 8" descr=""/>
          <p:cNvPicPr/>
          <p:nvPr/>
        </p:nvPicPr>
        <p:blipFill>
          <a:blip r:embed="rId4"/>
          <a:stretch/>
        </p:blipFill>
        <p:spPr>
          <a:xfrm>
            <a:off x="4643280" y="963720"/>
            <a:ext cx="2998800" cy="1900080"/>
          </a:xfrm>
          <a:prstGeom prst="rect">
            <a:avLst/>
          </a:prstGeom>
          <a:ln w="0">
            <a:noFill/>
          </a:ln>
        </p:spPr>
      </p:pic>
      <p:pic>
        <p:nvPicPr>
          <p:cNvPr id="512" name="Imagen 9" descr=""/>
          <p:cNvPicPr/>
          <p:nvPr/>
        </p:nvPicPr>
        <p:blipFill>
          <a:blip r:embed="rId5"/>
          <a:stretch/>
        </p:blipFill>
        <p:spPr>
          <a:xfrm>
            <a:off x="1219320" y="5103720"/>
            <a:ext cx="3065400" cy="1714680"/>
          </a:xfrm>
          <a:prstGeom prst="rect">
            <a:avLst/>
          </a:prstGeom>
          <a:ln w="0">
            <a:noFill/>
          </a:ln>
        </p:spPr>
      </p:pic>
      <p:pic>
        <p:nvPicPr>
          <p:cNvPr id="513" name="Imagen 10" descr=""/>
          <p:cNvPicPr/>
          <p:nvPr/>
        </p:nvPicPr>
        <p:blipFill>
          <a:blip r:embed="rId6"/>
          <a:stretch/>
        </p:blipFill>
        <p:spPr>
          <a:xfrm>
            <a:off x="4643280" y="5095800"/>
            <a:ext cx="22323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-9360" y="2060640"/>
            <a:ext cx="9153360" cy="2089080"/>
            <a:chOff x="-9360" y="2060640"/>
            <a:chExt cx="9153360" cy="2089080"/>
          </a:xfrm>
        </p:grpSpPr>
        <p:sp>
          <p:nvSpPr>
            <p:cNvPr id="515" name="Rectangle 5"/>
            <p:cNvSpPr/>
            <p:nvPr/>
          </p:nvSpPr>
          <p:spPr>
            <a:xfrm>
              <a:off x="0" y="2060640"/>
              <a:ext cx="914400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-9360" y="2060640"/>
              <a:ext cx="9144000" cy="2089080"/>
            </a:xfrm>
            <a:prstGeom prst="rect">
              <a:avLst/>
            </a:prstGeom>
            <a:solidFill>
              <a:srgbClr val="c7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 marL="450720" indent="-4507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Arial"/>
                </a:rPr>
                <a:t>Diseño e implementación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0720" indent="-4507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Arial"/>
                </a:rPr>
                <a:t>de las intervencion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Rectangle 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250920" y="189000"/>
            <a:ext cx="864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0" y="189000"/>
            <a:ext cx="100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0"/>
          <p:cNvGrpSpPr/>
          <p:nvPr/>
        </p:nvGrpSpPr>
        <p:grpSpPr>
          <a:xfrm>
            <a:off x="14400" y="0"/>
            <a:ext cx="9144000" cy="1297080"/>
            <a:chOff x="14400" y="0"/>
            <a:chExt cx="9144000" cy="1297080"/>
          </a:xfrm>
        </p:grpSpPr>
        <p:sp>
          <p:nvSpPr>
            <p:cNvPr id="521" name="Rectangle 11"/>
            <p:cNvSpPr/>
            <p:nvPr/>
          </p:nvSpPr>
          <p:spPr>
            <a:xfrm>
              <a:off x="14400" y="0"/>
              <a:ext cx="91440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14400" y="0"/>
              <a:ext cx="914400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Oval 2"/>
          <p:cNvSpPr/>
          <p:nvPr/>
        </p:nvSpPr>
        <p:spPr>
          <a:xfrm>
            <a:off x="5219640" y="4249800"/>
            <a:ext cx="1368360" cy="10810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3"/>
          <p:cNvSpPr/>
          <p:nvPr/>
        </p:nvSpPr>
        <p:spPr>
          <a:xfrm>
            <a:off x="3564000" y="4249800"/>
            <a:ext cx="1368360" cy="10810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marL="450720" indent="-450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21840" y="189000"/>
            <a:ext cx="8821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proceso de diseño e implement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1405080" y="1174680"/>
            <a:ext cx="17269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vulgación resultados línea de bas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3851280" y="998640"/>
            <a:ext cx="2376360" cy="112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lección y diseño de la/s intervencion/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seño de indicadores de monitor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5508720" y="3817080"/>
            <a:ext cx="11523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oy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3419640" y="4464720"/>
            <a:ext cx="15840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ité conductor/técnico loca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5003640" y="4106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211640" y="3618720"/>
            <a:ext cx="13683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vestigadores junior y senio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2266920" y="5882040"/>
            <a:ext cx="20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aptación de la inter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6084720" y="5723280"/>
            <a:ext cx="2590920" cy="55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valuación oper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(proce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3"/>
          <p:cNvSpPr/>
          <p:nvPr/>
        </p:nvSpPr>
        <p:spPr>
          <a:xfrm rot="1978800">
            <a:off x="6649920" y="1757520"/>
            <a:ext cx="1008360" cy="576000"/>
          </a:xfrm>
          <a:custGeom>
            <a:avLst/>
            <a:gdLst>
              <a:gd name="textAreaLeft" fmla="*/ 147600 w 1008360"/>
              <a:gd name="textAreaRight" fmla="*/ 860760 w 1008360"/>
              <a:gd name="textAreaTop" fmla="*/ 84240 h 576000"/>
              <a:gd name="textAreaBottom" fmla="*/ 49176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4"/>
          <p:cNvSpPr/>
          <p:nvPr/>
        </p:nvSpPr>
        <p:spPr>
          <a:xfrm rot="5400000">
            <a:off x="6757560" y="4513320"/>
            <a:ext cx="792360" cy="554040"/>
          </a:xfrm>
          <a:custGeom>
            <a:avLst/>
            <a:gdLst>
              <a:gd name="textAreaLeft" fmla="*/ 115920 w 792360"/>
              <a:gd name="textAreaRight" fmla="*/ 676440 w 792360"/>
              <a:gd name="textAreaTop" fmla="*/ 81000 h 554040"/>
              <a:gd name="textAreaBottom" fmla="*/ 473040 h 554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5"/>
          <p:cNvSpPr/>
          <p:nvPr/>
        </p:nvSpPr>
        <p:spPr>
          <a:xfrm rot="10800000">
            <a:off x="4716360" y="6000480"/>
            <a:ext cx="1008000" cy="625320"/>
          </a:xfrm>
          <a:custGeom>
            <a:avLst/>
            <a:gdLst>
              <a:gd name="textAreaLeft" fmla="*/ 147600 w 1008000"/>
              <a:gd name="textAreaRight" fmla="*/ 860400 w 1008000"/>
              <a:gd name="textAreaTop" fmla="*/ 91440 h 625320"/>
              <a:gd name="textAreaBottom" fmla="*/ 533880 h 625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6"/>
          <p:cNvSpPr/>
          <p:nvPr/>
        </p:nvSpPr>
        <p:spPr>
          <a:xfrm rot="15907200">
            <a:off x="2416680" y="4637880"/>
            <a:ext cx="852480" cy="647640"/>
          </a:xfrm>
          <a:custGeom>
            <a:avLst/>
            <a:gdLst>
              <a:gd name="textAreaLeft" fmla="*/ 124560 w 852480"/>
              <a:gd name="textAreaRight" fmla="*/ 727920 w 85248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7"/>
          <p:cNvSpPr/>
          <p:nvPr/>
        </p:nvSpPr>
        <p:spPr>
          <a:xfrm>
            <a:off x="3205080" y="1341360"/>
            <a:ext cx="503280" cy="486000"/>
          </a:xfrm>
          <a:prstGeom prst="rightArrow">
            <a:avLst>
              <a:gd name="adj1" fmla="val 50000"/>
              <a:gd name="adj2" fmla="val 25889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9"/>
          <p:cNvSpPr/>
          <p:nvPr/>
        </p:nvSpPr>
        <p:spPr>
          <a:xfrm>
            <a:off x="5435640" y="5114880"/>
            <a:ext cx="720720" cy="35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0"/>
          <p:cNvSpPr/>
          <p:nvPr/>
        </p:nvSpPr>
        <p:spPr>
          <a:xfrm>
            <a:off x="5003640" y="5257800"/>
            <a:ext cx="72072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5148360" y="451764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lata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édicos AP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2"/>
          <p:cNvSpPr/>
          <p:nvPr/>
        </p:nvSpPr>
        <p:spPr>
          <a:xfrm>
            <a:off x="4932360" y="4610160"/>
            <a:ext cx="287280" cy="2872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6172200" y="2615760"/>
            <a:ext cx="2519280" cy="79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pervis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900000" y="3406680"/>
            <a:ext cx="25196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valuación operativa y micro analít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(proceso y result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7"/>
          <p:cNvSpPr/>
          <p:nvPr/>
        </p:nvSpPr>
        <p:spPr>
          <a:xfrm rot="16200000">
            <a:off x="1865880" y="3038760"/>
            <a:ext cx="235080" cy="280800"/>
          </a:xfrm>
          <a:prstGeom prst="rightArrow">
            <a:avLst>
              <a:gd name="adj1" fmla="val 50000"/>
              <a:gd name="adj2" fmla="val 2589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971640" y="2418840"/>
            <a:ext cx="2082600" cy="55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cro evaluació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(impac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Imagen 8" descr="C:\Users\Usuario\Pictures\05 INTERVENCIÓN\La Pincoya - Huechuraba\140416 08.JPG"/>
          <p:cNvPicPr/>
          <p:nvPr/>
        </p:nvPicPr>
        <p:blipFill>
          <a:blip r:embed="rId1"/>
          <a:stretch/>
        </p:blipFill>
        <p:spPr>
          <a:xfrm>
            <a:off x="-30240" y="1111320"/>
            <a:ext cx="3598920" cy="270504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126"/>
          <p:cNvSpPr/>
          <p:nvPr/>
        </p:nvSpPr>
        <p:spPr>
          <a:xfrm>
            <a:off x="179280" y="239760"/>
            <a:ext cx="92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Arial"/>
              </a:rPr>
              <a:t>Devolución resultados/selección intervenció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F:\DCIM\100OLYMP\P1010260.JPG"/>
          <p:cNvPicPr/>
          <p:nvPr/>
        </p:nvPicPr>
        <p:blipFill>
          <a:blip r:embed="rId2"/>
          <a:stretch/>
        </p:blipFill>
        <p:spPr>
          <a:xfrm>
            <a:off x="4211640" y="4405320"/>
            <a:ext cx="3892680" cy="23652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C:\Users\Marina\Desktop\Reunião CCL 03.05.16\Fotos\20160503_143518.jpg"/>
          <p:cNvPicPr/>
          <p:nvPr/>
        </p:nvPicPr>
        <p:blipFill>
          <a:blip r:embed="rId3"/>
          <a:stretch/>
        </p:blipFill>
        <p:spPr>
          <a:xfrm>
            <a:off x="179280" y="4183200"/>
            <a:ext cx="3765600" cy="2587320"/>
          </a:xfrm>
          <a:prstGeom prst="rect">
            <a:avLst/>
          </a:prstGeom>
          <a:ln w="0">
            <a:noFill/>
          </a:ln>
        </p:spPr>
      </p:pic>
      <p:pic>
        <p:nvPicPr>
          <p:cNvPr id="551" name="Imagen 3" descr=""/>
          <p:cNvPicPr/>
          <p:nvPr/>
        </p:nvPicPr>
        <p:blipFill>
          <a:blip r:embed="rId4"/>
          <a:stretch/>
        </p:blipFill>
        <p:spPr>
          <a:xfrm>
            <a:off x="5510160" y="2924280"/>
            <a:ext cx="3660840" cy="2093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"/>
          <p:cNvPicPr/>
          <p:nvPr/>
        </p:nvPicPr>
        <p:blipFill>
          <a:blip r:embed="rId5"/>
          <a:stretch/>
        </p:blipFill>
        <p:spPr>
          <a:xfrm>
            <a:off x="3643200" y="907920"/>
            <a:ext cx="37324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5480"/>
            <a:ext cx="8291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ntervenciones seleccionad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611280" y="1341360"/>
            <a:ext cx="2306520" cy="33948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Osaka"/>
              </a:rPr>
              <a:t>Argentin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611280" y="1773360"/>
            <a:ext cx="2306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marL="95400" indent="-95400"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cusión de ca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cuerdos de gestión clínica algunas patolog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3346560" y="1341360"/>
            <a:ext cx="2305080" cy="33948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Osaka"/>
              </a:rPr>
              <a:t>Brasi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6012000" y="1341360"/>
            <a:ext cx="2306520" cy="33948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Osaka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6012000" y="1773360"/>
            <a:ext cx="230652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marL="95400" indent="-95400">
              <a:buClr>
                <a:srgbClr val="000000"/>
              </a:buClr>
              <a:buFont typeface="Arial"/>
              <a:buChar char="-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o de comunicación entre nive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-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a inducción al trabajo en la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buClr>
                <a:srgbClr val="000000"/>
              </a:buClr>
              <a:buFont typeface="Arial"/>
              <a:buChar char="-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11280" y="3933720"/>
            <a:ext cx="2306520" cy="339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  <a:ea typeface="Osaka"/>
              </a:rPr>
              <a:t>Colombi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"/>
          <p:cNvSpPr/>
          <p:nvPr/>
        </p:nvSpPr>
        <p:spPr>
          <a:xfrm>
            <a:off x="611280" y="4365720"/>
            <a:ext cx="230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marL="95400" indent="-95400">
              <a:buClr>
                <a:srgbClr val="000000"/>
              </a:buClr>
              <a:buFont typeface="Arial"/>
              <a:buChar char="-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ión casos clí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-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uniones de educación médica contin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492360" y="3933720"/>
            <a:ext cx="2305080" cy="339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  <a:ea typeface="Osaka"/>
              </a:rPr>
              <a:t>Méxi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3492360" y="4365720"/>
            <a:ext cx="2305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istema de comunicación vir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strategia informativa a usuarios sobre uso adecuado de la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6084720" y="3933720"/>
            <a:ext cx="2305080" cy="339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  <a:ea typeface="Osaka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6084720" y="4365720"/>
            <a:ext cx="230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marL="95400" indent="-95400">
              <a:buClr>
                <a:srgbClr val="000000"/>
              </a:buClr>
              <a:buFont typeface="Arial"/>
              <a:buChar char="-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ategia para mejorar/formalizar la referencia y contrarrefe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3346560" y="1773360"/>
            <a:ext cx="245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400" bIns="32400" anchor="t">
            <a:spAutoFit/>
          </a:bodyPr>
          <a:p>
            <a:pPr marL="95400" indent="-95400"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sulta virtual  (e-mail, endocrinopati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-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ínea de cuidado D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buClr>
                <a:srgbClr val="000000"/>
              </a:buClr>
              <a:buFont typeface="Arial"/>
              <a:buChar char="-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ión casos y educación méd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ctr">
              <a:buClr>
                <a:srgbClr val="000000"/>
              </a:buClr>
              <a:buFont typeface="Arial"/>
              <a:buChar char="-"/>
              <a:tabLst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ergamino horizontal 19"/>
          <p:cNvSpPr/>
          <p:nvPr/>
        </p:nvSpPr>
        <p:spPr>
          <a:xfrm>
            <a:off x="4788000" y="5437080"/>
            <a:ext cx="3240000" cy="8715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ángulo 21"/>
          <p:cNvSpPr/>
          <p:nvPr/>
        </p:nvSpPr>
        <p:spPr>
          <a:xfrm>
            <a:off x="2286000" y="2090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lamada de nube 20"/>
          <p:cNvSpPr/>
          <p:nvPr/>
        </p:nvSpPr>
        <p:spPr>
          <a:xfrm>
            <a:off x="2627280" y="2846160"/>
            <a:ext cx="4754520" cy="2395800"/>
          </a:xfrm>
          <a:prstGeom prst="cloudCallout">
            <a:avLst>
              <a:gd name="adj1" fmla="val -53638"/>
              <a:gd name="adj2" fmla="val -7562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rategias micro, bottom-up, basadas en la retroalimentación (conocimiento mutuo y confianza), comunicación y acuerdo de gestión clí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ituación actu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2916360" y="1368000"/>
            <a:ext cx="295092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arco teórico  e instru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3363840" y="17715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arco de análisis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lan de investig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2994120" y="5900040"/>
            <a:ext cx="287316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nálisis comparativa transnac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554200" y="5559480"/>
            <a:ext cx="19447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8"/>
          <p:cNvSpPr/>
          <p:nvPr/>
        </p:nvSpPr>
        <p:spPr>
          <a:xfrm>
            <a:off x="6075360" y="134136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9"/>
          <p:cNvSpPr/>
          <p:nvPr/>
        </p:nvSpPr>
        <p:spPr>
          <a:xfrm>
            <a:off x="6025680" y="26370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4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0"/>
          <p:cNvSpPr/>
          <p:nvPr/>
        </p:nvSpPr>
        <p:spPr>
          <a:xfrm>
            <a:off x="6012000" y="571644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2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3098880" y="3824640"/>
            <a:ext cx="1295280" cy="596160"/>
          </a:xfrm>
          <a:prstGeom prst="rect">
            <a:avLst/>
          </a:prstGeom>
          <a:solidFill>
            <a:srgbClr val="cde9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Diseño e implementación interv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5114880" y="84132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Marco de análisis e instrumentos Equity-L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9"/>
          <p:cNvSpPr/>
          <p:nvPr/>
        </p:nvSpPr>
        <p:spPr>
          <a:xfrm>
            <a:off x="6025680" y="393372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1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9"/>
          <p:cNvSpPr/>
          <p:nvPr/>
        </p:nvSpPr>
        <p:spPr>
          <a:xfrm>
            <a:off x="6015960" y="465300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5 me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AutoShape 14"/>
          <p:cNvCxnSpPr>
            <a:stCxn id="578" idx="1"/>
            <a:endCxn id="570" idx="0"/>
          </p:cNvCxnSpPr>
          <p:nvPr/>
        </p:nvCxnSpPr>
        <p:spPr>
          <a:xfrm flipV="1" rot="10800000">
            <a:off x="4392720" y="1055160"/>
            <a:ext cx="722520" cy="30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Rectangle 17"/>
          <p:cNvSpPr/>
          <p:nvPr/>
        </p:nvSpPr>
        <p:spPr>
          <a:xfrm>
            <a:off x="2987640" y="2427120"/>
            <a:ext cx="1440000" cy="3233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276720" y="2415240"/>
            <a:ext cx="93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terven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9"/>
          <p:cNvSpPr/>
          <p:nvPr/>
        </p:nvSpPr>
        <p:spPr>
          <a:xfrm>
            <a:off x="4427640" y="2428920"/>
            <a:ext cx="1439640" cy="3232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716360" y="2415240"/>
            <a:ext cx="9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416400" y="3013920"/>
            <a:ext cx="18000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cualita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416400" y="3361680"/>
            <a:ext cx="18000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cuantita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3130560" y="2653560"/>
            <a:ext cx="2521080" cy="26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de línea de 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419640" y="4976280"/>
            <a:ext cx="18000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cualita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3419640" y="5324040"/>
            <a:ext cx="18000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udio cuantita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2"/>
          <p:cNvSpPr/>
          <p:nvPr/>
        </p:nvSpPr>
        <p:spPr>
          <a:xfrm>
            <a:off x="3130560" y="4657320"/>
            <a:ext cx="2521080" cy="261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valuación de las intervencio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7"/>
          <p:cNvSpPr/>
          <p:nvPr/>
        </p:nvSpPr>
        <p:spPr>
          <a:xfrm>
            <a:off x="442764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8"/>
          <p:cNvSpPr/>
          <p:nvPr/>
        </p:nvSpPr>
        <p:spPr>
          <a:xfrm>
            <a:off x="4427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30"/>
          <p:cNvSpPr/>
          <p:nvPr/>
        </p:nvSpPr>
        <p:spPr>
          <a:xfrm>
            <a:off x="7380360" y="3355920"/>
            <a:ext cx="1368360" cy="10810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7308720" y="3643920"/>
            <a:ext cx="1440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it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ductor loca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9"/>
          <p:cNvSpPr/>
          <p:nvPr/>
        </p:nvSpPr>
        <p:spPr>
          <a:xfrm>
            <a:off x="900000" y="4594320"/>
            <a:ext cx="1871640" cy="431640"/>
          </a:xfrm>
          <a:prstGeom prst="rightArrow">
            <a:avLst>
              <a:gd name="adj1" fmla="val 50000"/>
              <a:gd name="adj2" fmla="val 108403"/>
            </a:avLst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35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1. Antecedentes: ¿por qué red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bio en el discurso hacia la colab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periencias de integración de servicios sanitarios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ganizaciones Sanitarias Integradas, R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EUU, Canada, Reino Unido, Catalu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romueven en Latinoamérica debido a fragmentación (causa de baja efectividad, eficiencia y equ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340000" y="4724280"/>
            <a:ext cx="5832360" cy="18543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b1455"/>
                </a:solidFill>
                <a:latin typeface="Arial"/>
              </a:rPr>
              <a:t>Redes integradas de servicios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b1455"/>
                </a:solidFill>
                <a:latin typeface="Arial"/>
              </a:rPr>
              <a:t>Conjunto de organizaciones que provee directamente, o mediante contratación, una  atención coordinada de un continuo de servicios de salud a una población determinada y es responsable de costos y resultados de salud de esa pob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Imagen 1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"/>
          <p:cNvSpPr/>
          <p:nvPr/>
        </p:nvSpPr>
        <p:spPr>
          <a:xfrm>
            <a:off x="2556000" y="14889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¡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UCHAS GRACI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8226360" y="336600"/>
            <a:ext cx="490680" cy="444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flag20"/>
          <p:cNvPicPr/>
          <p:nvPr/>
        </p:nvPicPr>
        <p:blipFill>
          <a:blip r:embed="rId3"/>
          <a:stretch/>
        </p:blipFill>
        <p:spPr>
          <a:xfrm>
            <a:off x="7456320" y="339840"/>
            <a:ext cx="644760" cy="44136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5"/>
          <p:cNvGrpSpPr/>
          <p:nvPr/>
        </p:nvGrpSpPr>
        <p:grpSpPr>
          <a:xfrm>
            <a:off x="179280" y="189000"/>
            <a:ext cx="916200" cy="792000"/>
            <a:chOff x="179280" y="189000"/>
            <a:chExt cx="916200" cy="792000"/>
          </a:xfrm>
        </p:grpSpPr>
        <p:sp>
          <p:nvSpPr>
            <p:cNvPr id="602" name="Rectangle 6"/>
            <p:cNvSpPr/>
            <p:nvPr/>
          </p:nvSpPr>
          <p:spPr>
            <a:xfrm>
              <a:off x="179280" y="189000"/>
              <a:ext cx="9162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3" name="Picture 7" descr=""/>
            <p:cNvPicPr/>
            <p:nvPr/>
          </p:nvPicPr>
          <p:blipFill>
            <a:blip r:embed="rId4"/>
            <a:stretch/>
          </p:blipFill>
          <p:spPr>
            <a:xfrm>
              <a:off x="240480" y="198000"/>
              <a:ext cx="774720" cy="77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Rectángulo 1"/>
          <p:cNvSpPr/>
          <p:nvPr/>
        </p:nvSpPr>
        <p:spPr>
          <a:xfrm>
            <a:off x="44280" y="5776920"/>
            <a:ext cx="8848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Vázquez ML, Vargas I, Unger JP, De Paepe P, Mogollón-Pérez AS, Albuquerque P, Eguiguren P, et al Evaluating the effectiveness of care integration strategies in different health care systems in Latin America: the EQUITY-LA II quasi-experimental study protocol. BMJ Open. 2015;5:e007037. doi:  10.1136/bmjopen-2014-007037</a:t>
            </a:r>
            <a:r>
              <a:rPr b="0" lang="ca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785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ffffff"/>
                </a:solidFill>
                <a:latin typeface="Arial"/>
              </a:rPr>
              <a:t>1. Antecedentes: Tipos de RISS, pobl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70044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sadas en adscripción geográ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190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volución de la gestión a niveles inferiores de gobierno (autoridad sanitaria, municipio,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190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blación definida geográf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190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nacional de sal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sadas en afili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190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rcado en la gestión del asegur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190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blación se afilia a aseguradoras (adm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19040">
              <a:spcBef>
                <a:spcPts val="601"/>
              </a:spcBef>
              <a:buClr>
                <a:srgbClr val="c7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Las aseguradoras organizan la red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11280" y="62258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Hutchinson,1999</a:t>
            </a:r>
            <a:r>
              <a:rPr b="0" lang="ca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2176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. Antecedentes: Tipos de RISS, característica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90720" y="2400480"/>
            <a:ext cx="1752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Amplitud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integ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3200400"/>
            <a:ext cx="17524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Nivel de producción int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4437000"/>
            <a:ext cx="17524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Formas de relación inter-organiz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9480" y="1447920"/>
            <a:ext cx="360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c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952880" y="1523880"/>
            <a:ext cx="297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pos de R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149800" y="2421000"/>
            <a:ext cx="237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- Integración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- Integración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5178600" y="3390840"/>
            <a:ext cx="3714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- Integración con producció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- Integración con producción pa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990720" y="571500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5165640" y="4610160"/>
            <a:ext cx="2286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- Integración </a:t>
            </a:r>
            <a:r>
              <a:rPr b="0" lang="ca-ES" sz="1600" spc="-1" strike="noStrike">
                <a:solidFill>
                  <a:srgbClr val="333399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- Integración vir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5157720" y="5562720"/>
            <a:ext cx="3446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Lideradas por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Lideradas por atención prim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Arial"/>
              </a:rPr>
              <a:t>-Lideradas por asegurad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13"/>
          <p:cNvCxnSpPr>
            <a:stCxn id="115" idx="3"/>
            <a:endCxn id="120" idx="1"/>
          </p:cNvCxnSpPr>
          <p:nvPr/>
        </p:nvCxnSpPr>
        <p:spPr>
          <a:xfrm>
            <a:off x="2742840" y="2704680"/>
            <a:ext cx="2407320" cy="2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14"/>
          <p:cNvCxnSpPr>
            <a:stCxn id="116" idx="3"/>
            <a:endCxn id="121" idx="1"/>
          </p:cNvCxnSpPr>
          <p:nvPr/>
        </p:nvCxnSpPr>
        <p:spPr>
          <a:xfrm>
            <a:off x="2742840" y="3695400"/>
            <a:ext cx="2436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15"/>
          <p:cNvCxnSpPr>
            <a:stCxn id="117" idx="3"/>
            <a:endCxn id="123" idx="1"/>
          </p:cNvCxnSpPr>
          <p:nvPr/>
        </p:nvCxnSpPr>
        <p:spPr>
          <a:xfrm flipV="1">
            <a:off x="2724120" y="4914720"/>
            <a:ext cx="24422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Line 16"/>
          <p:cNvSpPr/>
          <p:nvPr/>
        </p:nvSpPr>
        <p:spPr>
          <a:xfrm>
            <a:off x="2743200" y="6019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. Antecedentes:  Criterios de calidad de RI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700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b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ber brechas fun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 Capaz de solucionar la mayoría de los problemas de salud. (No un único nivel asistencia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700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debe haber superposición funcio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niveles (principio de especificid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700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pacientes atendidos e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nivel más adecua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su problema. No deben existir barreras al flujo de pacientes en el sistema (estructurales u organizati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c700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ención primar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be actuar como puerta de entrada y filtro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70044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ben existir incentivos a qu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proveedo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conforman la re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qu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labor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70044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ormación debe acompañar al paci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su paso por los distintos niveles asistencial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70044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cnología debe estar descentralizad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el nivel más adecuado (eficiencia y efectiv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70044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cia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canismos de coordin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niveles asistenciales (p.e. GPC, sistema experto, comunicación informal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1. Antecedentes:  Criterios de calidad de RI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Arial"/>
              </a:rPr>
              <a:t>1. Rol RISS en sistemas públicos de salu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1720" y="1125000"/>
            <a:ext cx="84135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RISS son una manera de organizar los servicios, entre otras posibles, pero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un fin en sí misma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sistemas de salud segmentados podrían contribuir a corregir la fragmentación en la provisión entre los subsistemas existentes, pero sería necesario integrar la financiación y el asegur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redes de afiliación geográfica son las que parecen presentar mayor potencial, por mantener la visión poblacional, accesibilidad geográfica, menos costes de transacción y regulación y una mayor facilidad de coordin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7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contribución de las RISS dependerá del grado en que se garantice la financiación pública del sistema de salud y el acceso a la atención en salud de toda la población, en igualdad de condiciones</a:t>
            </a:r>
            <a:r>
              <a:rPr b="0" lang="ca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15:41:50Z</dcterms:created>
  <dc:creator>nmartinez</dc:creator>
  <dc:description/>
  <dc:language>en-US</dc:language>
  <cp:lastModifiedBy>María Luisa Vázquez</cp:lastModifiedBy>
  <dcterms:modified xsi:type="dcterms:W3CDTF">2017-11-02T03:04:21Z</dcterms:modified>
  <cp:revision>132</cp:revision>
  <dc:subject/>
  <dc:title>Diapositiva 1</dc:title>
</cp:coreProperties>
</file>