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0920" y="4055400"/>
            <a:ext cx="8642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920" y="40554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9280" y="40554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3040" y="11970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0" y="11970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0920" y="40554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3040" y="40554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4800" y="40554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68360" y="22176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0554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9280" y="40554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50920" y="4055400"/>
            <a:ext cx="8642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50920" y="4055400"/>
            <a:ext cx="8642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50920" y="40554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9280" y="40554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73040" y="11970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0" y="11970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50920" y="40554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73040" y="40554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4800" y="4055400"/>
            <a:ext cx="27824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22176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0920" y="40554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9280" y="40554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197000"/>
            <a:ext cx="4217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920" y="4055400"/>
            <a:ext cx="8642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9"/>
          <p:cNvSpPr/>
          <p:nvPr/>
        </p:nvSpPr>
        <p:spPr>
          <a:xfrm>
            <a:off x="250920" y="260280"/>
            <a:ext cx="8642160" cy="549360"/>
          </a:xfrm>
          <a:prstGeom prst="roundRect">
            <a:avLst>
              <a:gd name="adj" fmla="val 16667"/>
            </a:avLst>
          </a:prstGeom>
          <a:solidFill>
            <a:srgbClr val="c7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00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2217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6" descr=""/>
          <p:cNvPicPr/>
          <p:nvPr/>
        </p:nvPicPr>
        <p:blipFill>
          <a:blip r:embed="rId2"/>
          <a:stretch/>
        </p:blipFill>
        <p:spPr>
          <a:xfrm>
            <a:off x="8366040" y="157320"/>
            <a:ext cx="588960" cy="533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0" descr="flag20"/>
          <p:cNvPicPr/>
          <p:nvPr/>
        </p:nvPicPr>
        <p:blipFill>
          <a:blip r:embed="rId3"/>
          <a:stretch/>
        </p:blipFill>
        <p:spPr>
          <a:xfrm>
            <a:off x="7466040" y="157320"/>
            <a:ext cx="770040" cy="5270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42"/>
          <p:cNvSpPr/>
          <p:nvPr/>
        </p:nvSpPr>
        <p:spPr>
          <a:xfrm>
            <a:off x="1781280" y="290052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1781280" y="290052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64"/>
          <p:cNvSpPr/>
          <p:nvPr/>
        </p:nvSpPr>
        <p:spPr>
          <a:xfrm>
            <a:off x="534960" y="5324040"/>
            <a:ext cx="24624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www.equity-la.e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Imagen 2" descr=""/>
          <p:cNvPicPr/>
          <p:nvPr/>
        </p:nvPicPr>
        <p:blipFill>
          <a:blip r:embed="rId4"/>
          <a:stretch/>
        </p:blipFill>
        <p:spPr>
          <a:xfrm>
            <a:off x="7867800" y="5937120"/>
            <a:ext cx="579240" cy="72396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" descr="Descripción: http://www.fenf.edu.uy/images/logotipo_institucional/rgb/logotipo_fdee_4cm_72ppp_rgb.png"/>
          <p:cNvPicPr/>
          <p:nvPr/>
        </p:nvPicPr>
        <p:blipFill>
          <a:blip r:embed="rId5"/>
          <a:stretch/>
        </p:blipFill>
        <p:spPr>
          <a:xfrm>
            <a:off x="8475840" y="5937120"/>
            <a:ext cx="655560" cy="72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0" descr=""/>
          <p:cNvPicPr/>
          <p:nvPr/>
        </p:nvPicPr>
        <p:blipFill>
          <a:blip r:embed="rId6"/>
          <a:stretch/>
        </p:blipFill>
        <p:spPr>
          <a:xfrm>
            <a:off x="1330200" y="5938920"/>
            <a:ext cx="532080" cy="72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1" descr=""/>
          <p:cNvPicPr/>
          <p:nvPr/>
        </p:nvPicPr>
        <p:blipFill>
          <a:blip r:embed="rId7"/>
          <a:stretch/>
        </p:blipFill>
        <p:spPr>
          <a:xfrm>
            <a:off x="6335640" y="5937120"/>
            <a:ext cx="663480" cy="57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2" descr=""/>
          <p:cNvPicPr/>
          <p:nvPr/>
        </p:nvPicPr>
        <p:blipFill>
          <a:blip r:embed="rId8"/>
          <a:stretch/>
        </p:blipFill>
        <p:spPr>
          <a:xfrm>
            <a:off x="6330960" y="6566040"/>
            <a:ext cx="668160" cy="13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6" descr=""/>
          <p:cNvPicPr/>
          <p:nvPr/>
        </p:nvPicPr>
        <p:blipFill>
          <a:blip r:embed="rId9"/>
          <a:stretch/>
        </p:blipFill>
        <p:spPr>
          <a:xfrm>
            <a:off x="2825640" y="5937120"/>
            <a:ext cx="1478160" cy="44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8" descr=""/>
          <p:cNvPicPr/>
          <p:nvPr/>
        </p:nvPicPr>
        <p:blipFill>
          <a:blip r:embed="rId10"/>
          <a:stretch/>
        </p:blipFill>
        <p:spPr>
          <a:xfrm>
            <a:off x="2827440" y="6421320"/>
            <a:ext cx="1479600" cy="24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"/>
          <p:cNvPicPr/>
          <p:nvPr/>
        </p:nvPicPr>
        <p:blipFill>
          <a:blip r:embed="rId11"/>
          <a:stretch/>
        </p:blipFill>
        <p:spPr>
          <a:xfrm>
            <a:off x="28440" y="5937120"/>
            <a:ext cx="1249560" cy="72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9" descr=""/>
          <p:cNvPicPr/>
          <p:nvPr/>
        </p:nvPicPr>
        <p:blipFill>
          <a:blip r:embed="rId12"/>
          <a:stretch/>
        </p:blipFill>
        <p:spPr>
          <a:xfrm>
            <a:off x="1928880" y="5937120"/>
            <a:ext cx="834840" cy="72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0" descr=""/>
          <p:cNvPicPr/>
          <p:nvPr/>
        </p:nvPicPr>
        <p:blipFill>
          <a:blip r:embed="rId13"/>
          <a:stretch/>
        </p:blipFill>
        <p:spPr>
          <a:xfrm>
            <a:off x="7093080" y="5937120"/>
            <a:ext cx="690480" cy="7239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18"/>
          <p:cNvGrpSpPr/>
          <p:nvPr/>
        </p:nvGrpSpPr>
        <p:grpSpPr>
          <a:xfrm>
            <a:off x="250920" y="260280"/>
            <a:ext cx="1079280" cy="1079640"/>
            <a:chOff x="250920" y="260280"/>
            <a:chExt cx="1079280" cy="1079640"/>
          </a:xfrm>
        </p:grpSpPr>
        <p:sp>
          <p:nvSpPr>
            <p:cNvPr id="55" name="Rectangle 119"/>
            <p:cNvSpPr/>
            <p:nvPr/>
          </p:nvSpPr>
          <p:spPr>
            <a:xfrm>
              <a:off x="250920" y="260280"/>
              <a:ext cx="107928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" name="Picture 120" descr=""/>
            <p:cNvPicPr/>
            <p:nvPr/>
          </p:nvPicPr>
          <p:blipFill>
            <a:blip r:embed="rId14"/>
            <a:stretch/>
          </p:blipFill>
          <p:spPr>
            <a:xfrm>
              <a:off x="282960" y="285840"/>
              <a:ext cx="994680" cy="10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121" descr=""/>
          <p:cNvPicPr/>
          <p:nvPr/>
        </p:nvPicPr>
        <p:blipFill>
          <a:blip r:embed="rId15"/>
          <a:stretch/>
        </p:blipFill>
        <p:spPr>
          <a:xfrm>
            <a:off x="4691160" y="5937120"/>
            <a:ext cx="549000" cy="76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2" descr=""/>
          <p:cNvPicPr/>
          <p:nvPr/>
        </p:nvPicPr>
        <p:blipFill>
          <a:blip r:embed="rId16"/>
          <a:stretch/>
        </p:blipFill>
        <p:spPr>
          <a:xfrm>
            <a:off x="5318280" y="5937120"/>
            <a:ext cx="723600" cy="768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00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68360" y="2217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5364000" y="5412960"/>
            <a:ext cx="32752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ogotá, 2 de noviembre de 20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-147600" y="2934000"/>
            <a:ext cx="932508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rcicio sobre continuidad asisten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olomb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" name="Conector recto de flecha 4"/>
          <p:cNvCxnSpPr/>
          <p:nvPr/>
        </p:nvCxnSpPr>
        <p:spPr>
          <a:xfrm flipV="1">
            <a:off x="4457520" y="5459040"/>
            <a:ext cx="46440" cy="131832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0" name="Conector recto de flecha 5"/>
          <p:cNvCxnSpPr/>
          <p:nvPr/>
        </p:nvCxnSpPr>
        <p:spPr>
          <a:xfrm flipV="1">
            <a:off x="5682960" y="3539880"/>
            <a:ext cx="45000" cy="32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1" name="Conector recto de flecha 6"/>
          <p:cNvCxnSpPr/>
          <p:nvPr/>
        </p:nvCxnSpPr>
        <p:spPr>
          <a:xfrm flipV="1">
            <a:off x="8556480" y="4530240"/>
            <a:ext cx="46800" cy="215352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2" name="Conector recto de flecha 7"/>
          <p:cNvCxnSpPr/>
          <p:nvPr/>
        </p:nvCxnSpPr>
        <p:spPr>
          <a:xfrm flipV="1">
            <a:off x="11490120" y="5017680"/>
            <a:ext cx="46440" cy="1664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n 19" descr=""/>
          <p:cNvPicPr/>
          <p:nvPr/>
        </p:nvPicPr>
        <p:blipFill>
          <a:blip r:embed="rId1"/>
          <a:stretch/>
        </p:blipFill>
        <p:spPr>
          <a:xfrm>
            <a:off x="108000" y="905040"/>
            <a:ext cx="8931240" cy="5692680"/>
          </a:xfrm>
          <a:prstGeom prst="rect">
            <a:avLst/>
          </a:prstGeom>
          <a:ln w="0">
            <a:noFill/>
          </a:ln>
        </p:spPr>
      </p:pic>
      <p:sp>
        <p:nvSpPr>
          <p:cNvPr id="104" name="CuadroTexto 20"/>
          <p:cNvSpPr/>
          <p:nvPr/>
        </p:nvSpPr>
        <p:spPr>
          <a:xfrm>
            <a:off x="32400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"/>
              </a:rPr>
              <a:t>Análisis de trayectoria asistencial mujer DM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marL="45072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bri"/>
              </a:rPr>
              <a:t>Continuidad de información clínica entre nive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395280" y="907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Transferencia de informa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Resultado de imagen para uso información"/>
          <p:cNvPicPr/>
          <p:nvPr/>
        </p:nvPicPr>
        <p:blipFill>
          <a:blip r:embed="rId1"/>
          <a:stretch/>
        </p:blipFill>
        <p:spPr>
          <a:xfrm>
            <a:off x="684360" y="2544840"/>
            <a:ext cx="1942920" cy="2179440"/>
          </a:xfrm>
          <a:prstGeom prst="rect">
            <a:avLst/>
          </a:prstGeom>
          <a:ln w="0">
            <a:noFill/>
          </a:ln>
        </p:spPr>
      </p:pic>
      <p:sp>
        <p:nvSpPr>
          <p:cNvPr id="108" name="Rectángulo redondeado 5"/>
          <p:cNvSpPr/>
          <p:nvPr/>
        </p:nvSpPr>
        <p:spPr>
          <a:xfrm>
            <a:off x="503280" y="5661000"/>
            <a:ext cx="8245440" cy="743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internista se basa solo en lo que uno le dice, pero es totalmente insuficiente”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3 mujer, EPO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ángulo redondeado 10"/>
          <p:cNvSpPr/>
          <p:nvPr/>
        </p:nvSpPr>
        <p:spPr>
          <a:xfrm>
            <a:off x="3059280" y="1514520"/>
            <a:ext cx="5689440" cy="3573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or ejemplo en primer nivel sí están manejando computador, en el hospital de III nivel manejan solo historia guardada ahí, o sea que si ellos quieren mirar una historia de otra institución, no pueden y de todas maneras cuando llego al centro de salud, me preguntan ¿Qué le dijo el internista?, le cuento lo que me dijo: tengo esto y esto, me mandaron estos exámenes, si ya me los entregaron se los muestro y me dice “ah…bueno lléveselos al internista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6 mujer, EPO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2400" y="189000"/>
            <a:ext cx="8135640" cy="576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ntinuidad de gestión clínica entre nive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uadroTexto 3"/>
          <p:cNvSpPr/>
          <p:nvPr/>
        </p:nvSpPr>
        <p:spPr>
          <a:xfrm>
            <a:off x="468360" y="981000"/>
            <a:ext cx="640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Consistencia de la aten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municación/colaboración entre profesiona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Resultado de imagen para comunicación"/>
          <p:cNvPicPr/>
          <p:nvPr/>
        </p:nvPicPr>
        <p:blipFill>
          <a:blip r:embed="rId1"/>
          <a:stretch/>
        </p:blipFill>
        <p:spPr>
          <a:xfrm>
            <a:off x="1258920" y="5084640"/>
            <a:ext cx="6913440" cy="1368720"/>
          </a:xfrm>
          <a:prstGeom prst="rect">
            <a:avLst/>
          </a:prstGeom>
          <a:ln w="0">
            <a:noFill/>
          </a:ln>
        </p:spPr>
      </p:pic>
      <p:sp>
        <p:nvSpPr>
          <p:cNvPr id="113" name="Rectángulo redondeado 7"/>
          <p:cNvSpPr/>
          <p:nvPr/>
        </p:nvSpPr>
        <p:spPr>
          <a:xfrm>
            <a:off x="482760" y="2062080"/>
            <a:ext cx="8319960" cy="194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 el internista esté hablando con el médico general, no, eso nunca, yo creo que eso no pasa”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7 hombre, D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tre ellos cada uno formula lo que sea y atiende a su cliente como sea”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9 hombre, D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2400" y="189000"/>
            <a:ext cx="8135640" cy="576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ntinuidad de gestión clínica entre nive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uadroTexto 3"/>
          <p:cNvSpPr/>
          <p:nvPr/>
        </p:nvSpPr>
        <p:spPr>
          <a:xfrm>
            <a:off x="468360" y="1147680"/>
            <a:ext cx="640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Consistencia de la aten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nsistencia en el tratamien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ángulo redondeado 8"/>
          <p:cNvSpPr/>
          <p:nvPr/>
        </p:nvSpPr>
        <p:spPr>
          <a:xfrm>
            <a:off x="620640" y="1989000"/>
            <a:ext cx="503100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7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O" sz="1800" spc="-1" strike="noStrike">
                <a:solidFill>
                  <a:srgbClr val="000000"/>
                </a:solidFill>
                <a:latin typeface="Arial"/>
              </a:rPr>
              <a:t>hay veces que el médico general le formula a uno una cosa y el internista le formula otra, o sea que hay veces que se contradicen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U1, mujer DM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Imagen 9" descr=""/>
          <p:cNvPicPr/>
          <p:nvPr/>
        </p:nvPicPr>
        <p:blipFill>
          <a:blip r:embed="rId1"/>
          <a:stretch/>
        </p:blipFill>
        <p:spPr>
          <a:xfrm>
            <a:off x="6729480" y="1773360"/>
            <a:ext cx="1914480" cy="1942920"/>
          </a:xfrm>
          <a:prstGeom prst="rect">
            <a:avLst/>
          </a:prstGeom>
          <a:ln w="0">
            <a:noFill/>
          </a:ln>
        </p:spPr>
      </p:pic>
      <p:sp>
        <p:nvSpPr>
          <p:cNvPr id="118" name="Rectángulo redondeado 11"/>
          <p:cNvSpPr/>
          <p:nvPr/>
        </p:nvSpPr>
        <p:spPr>
          <a:xfrm>
            <a:off x="620640" y="4941720"/>
            <a:ext cx="8199360" cy="158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7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se interesa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or seguir acciones realizadas en medicina especializada)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, solo formulan la droga y con la droga que me dan allá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 nivel)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no es suficiente, es que es solamente el inhalador, las pastillas para el colesterol y para la tensión, no más”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1 hombre, EPOC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CuadroTexto 13"/>
          <p:cNvSpPr/>
          <p:nvPr/>
        </p:nvSpPr>
        <p:spPr>
          <a:xfrm>
            <a:off x="620640" y="4076640"/>
            <a:ext cx="640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Consistencia de la atenció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eguimiento del paciente entre niveles asistencia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uadroTexto 3"/>
          <p:cNvSpPr/>
          <p:nvPr/>
        </p:nvSpPr>
        <p:spPr>
          <a:xfrm>
            <a:off x="468360" y="981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cesibilid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2400" y="189000"/>
            <a:ext cx="8135640" cy="576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Continuidad de gestión clínica entre nive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Resultado de imagen para accesibilidad"/>
          <p:cNvPicPr/>
          <p:nvPr/>
        </p:nvPicPr>
        <p:blipFill>
          <a:blip r:embed="rId1"/>
          <a:stretch/>
        </p:blipFill>
        <p:spPr>
          <a:xfrm>
            <a:off x="250920" y="5229360"/>
            <a:ext cx="8713800" cy="1655640"/>
          </a:xfrm>
          <a:prstGeom prst="rect">
            <a:avLst/>
          </a:prstGeom>
          <a:ln w="0">
            <a:noFill/>
          </a:ln>
        </p:spPr>
      </p:pic>
      <p:sp>
        <p:nvSpPr>
          <p:cNvPr id="123" name="Rectángulo redondeado 5"/>
          <p:cNvSpPr/>
          <p:nvPr/>
        </p:nvSpPr>
        <p:spPr>
          <a:xfrm>
            <a:off x="324000" y="1484280"/>
            <a:ext cx="8496000" cy="3960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7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llá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Hospital de III nivel)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ay gente que se queda desde la una de la mañana haciendo fila, yo madrugué y perdí el viaje porque ya no había agenda, estaban en noviembre y no había para el resto del año, me dijeron que volviera a finales de enero, yo fui y que no había cita para internista y que además tenía la orden vencida, entonces ahí fue cuando me mandaron para el hospital de II nivel, allá dijeron que no, porque tenía que ir a pedir una remisión y yo les dije: “mire acá está la remisión, me dijeron “no, eso no es una remisión”, entonces vine a buscar a la docto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édica general para pedir remisión)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 como la doctora estaba en vacaciones, pues ahí se quedó todo ese enredo, que hasta que ella volviera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4 mujer, D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217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Impacto sobre la calidad de la atenció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ángulo redondeado 3"/>
          <p:cNvSpPr/>
          <p:nvPr/>
        </p:nvSpPr>
        <p:spPr>
          <a:xfrm>
            <a:off x="684360" y="1484280"/>
            <a:ext cx="7775280" cy="360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sos son cambios así radicales, cuando uno va, ya ellos no tienen convenio por x motivo, Dios quiera que ahorita ya pueda allá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ospital de III nivel fuera de la red)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, he estado en esas y me ha tocado irme a urgencias, porque a veces me he sentido mal ….  si hubiera podido asistir cuando tenía que pedir cita para el internista, pues no había tenido que ir por urgencias y cuando fui por urgencias, me dijeron “es que está alta el azúcar y eso es lo que la está molestan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4 mujer,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2400" y="189000"/>
            <a:ext cx="8135640" cy="576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"/>
              </a:rPr>
              <a:t>Análisis trayectoria continuidad asistencia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CuadroTexto 1"/>
          <p:cNvSpPr/>
          <p:nvPr/>
        </p:nvSpPr>
        <p:spPr>
          <a:xfrm>
            <a:off x="235080" y="1197000"/>
            <a:ext cx="84088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Analizar la trayectoria  de continuidad entregada y reflexionar en torno a las siguientes pregunta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¿Qué problemas de coordinación explican las situaciones identificadas?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¿Cuáles de estos problemas o dificultades podrían resolverse desde un solo nivel y cuáles requieren del diálogo entre niveles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¿Qué consecuencias podrían tener estos problemas en la calidad de la atención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7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12720" y="3125880"/>
            <a:ext cx="820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372360" y="6165360"/>
            <a:ext cx="2462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www.equity-la.e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372360" y="6165360"/>
            <a:ext cx="24620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www.equity-la.e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662200" y="26348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700360" y="35683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brigado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2:06:36Z</dcterms:created>
  <dc:creator>Rebeca Terraza</dc:creator>
  <dc:description/>
  <dc:language>en-US</dc:language>
  <cp:lastModifiedBy>Valentina Lesmes</cp:lastModifiedBy>
  <dcterms:modified xsi:type="dcterms:W3CDTF">2017-11-03T12:12:17Z</dcterms:modified>
  <cp:revision>423</cp:revision>
  <dc:subject/>
  <dc:title>Diapositiva 1</dc:title>
</cp:coreProperties>
</file>